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3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753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2F42-15EB-4A98-B630-D38416AFEA9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4 in the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735-F96C-4F9E-AE28-F938E042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E69-5821-4370-962E-CA11A643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E66F-3908-4837-BB27-667044CA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292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9128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3456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292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9128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881-4BFB-4118-BCA9-183EE1C7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2BC0-DCAE-48CB-9633-17F87F65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2614-E663-47B8-A7D4-52262495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46B3-D227-4C8D-AFC0-EE8EC28B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2188-A1A5-4198-A77E-692F0D77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004A-0EBD-4A13-A2FD-17B4BD89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32040" y="2666520"/>
            <a:ext cx="752616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DBC7-7574-4BED-9501-2EADC119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084C-999A-4D78-A75C-46DDA9A9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1F8-F61E-411E-93FC-63060906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1939-3511-4F93-BB1D-FCAB7626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EA4A-B8DB-48F4-A129-7260FFB5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7E54-65D2-4B94-BFE0-6541DE4B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5C9E-964C-4601-83F4-5DEDBE83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292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9128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3456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292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9128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8F3C-39D1-4068-AAE3-64D3A422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32FD-162B-4E8E-A494-7338AC19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B6B-E437-4D6B-8FD2-0284CC5A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D91-01B8-4451-9F53-CBE75463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2040" y="2666520"/>
            <a:ext cx="752616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B3C-2123-4B16-ADC5-DFE488AE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3F1-7A68-49B5-AD09-AB96D6F3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85E-F29A-4198-B2D6-7B555342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749-2508-4D93-B48C-24D8A512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14"/>
              </a:spcAft>
              <a:buClr>
                <a:srgbClr val="a50021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81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814"/>
              </a:spcAft>
              <a:buClr>
                <a:srgbClr val="800080"/>
              </a:buClr>
              <a:buSzPct val="50000"/>
              <a:buFont typeface="Arial"/>
              <a:buChar char="s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814"/>
              </a:spcAft>
              <a:buClr>
                <a:srgbClr val="003366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814"/>
              </a:spcAft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814"/>
              </a:spcAft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0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0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0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BC0D-F5C5-4C1B-B2C7-E5882C931A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0CC2-A3C3-4647-A4E7-0E89E37FA7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cc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  <a:p>
            <a:pPr lvl="1" marL="457200" indent="0"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Aft>
                <a:spcPts val="561"/>
              </a:spcAft>
              <a:buClr>
                <a:srgbClr val="800080"/>
              </a:buClr>
              <a:buSzPct val="50000"/>
              <a:buFont typeface="Arial"/>
              <a:buChar char="s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Aft>
                <a:spcPts val="561"/>
              </a:spcAft>
              <a:buClr>
                <a:srgbClr val="003366"/>
              </a:buClr>
              <a:buSzPct val="50000"/>
              <a:buFont typeface="Arial"/>
              <a:buChar char="n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WebAuthorize 101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cc"/>
                </a:solidFill>
                <a:latin typeface="Arial"/>
              </a:rPr>
              <a:t>WebAuthorize training for the end-user.</a:t>
            </a: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UTHORIZ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6520" y="1980720"/>
            <a:ext cx="6172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quest from a merchant to place a hold on a cardholder’s “Open to Buy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not processed within a variable time period, the held funds will be releas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ime period is determined by the card issuing ban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TTLE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cess by which TRANSACTIONS with AUTHORIZATION CODES are PROCESSED for payment to the MERCHA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known as “Close Batch” or “End of Day” proced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Histor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per from 1960-198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inted Receip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Impri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oor Limit (e.g. $50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ow-warning bullet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-voice author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posit at Acquiring Ban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ransaction Processing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00" y="928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4" name=""/>
          <p:cNvSpPr/>
          <p:nvPr/>
        </p:nvSpPr>
        <p:spPr>
          <a:xfrm>
            <a:off x="4273560" y="2521080"/>
            <a:ext cx="1968480" cy="10540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5" name=""/>
          <p:cNvSpPr/>
          <p:nvPr/>
        </p:nvSpPr>
        <p:spPr>
          <a:xfrm>
            <a:off x="4462560" y="2643120"/>
            <a:ext cx="16282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CARD 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PROCESSING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NETWORK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2521080" y="4883040"/>
            <a:ext cx="1587240" cy="90180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VISA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MasterCard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2521080"/>
            <a:ext cx="1359000" cy="10540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ISSUING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BANK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8" name=""/>
          <p:cNvSpPr/>
          <p:nvPr/>
        </p:nvSpPr>
        <p:spPr>
          <a:xfrm>
            <a:off x="6711840" y="2521080"/>
            <a:ext cx="1663920" cy="10540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ACQUIRING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BANK / ISO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9" name=""/>
          <p:cNvSpPr/>
          <p:nvPr/>
        </p:nvSpPr>
        <p:spPr>
          <a:xfrm>
            <a:off x="596880" y="12654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217440" y="14176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1" name=""/>
          <p:cNvSpPr/>
          <p:nvPr/>
        </p:nvSpPr>
        <p:spPr>
          <a:xfrm>
            <a:off x="442800" y="4465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2" name=""/>
          <p:cNvSpPr/>
          <p:nvPr/>
        </p:nvSpPr>
        <p:spPr>
          <a:xfrm>
            <a:off x="2211840" y="922320"/>
            <a:ext cx="31996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1" y="0"/>
                </a:moveTo>
                <a:arcTo wR="10800" hR="10800" stAng="-5396590" swAng="5396590"/>
                <a:lnTo>
                  <a:pt x="10800" y="10800"/>
                </a:lnTo>
                <a:close/>
              </a:path>
              <a:path fill="none" w="21600" h="21600">
                <a:moveTo>
                  <a:pt x="10811" y="0"/>
                </a:moveTo>
                <a:arcTo wR="10800" hR="10800" stAng="-5396590" swAng="539659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3" name=""/>
          <p:cNvSpPr/>
          <p:nvPr/>
        </p:nvSpPr>
        <p:spPr>
          <a:xfrm>
            <a:off x="2522520" y="1227240"/>
            <a:ext cx="259056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7" y="0"/>
                </a:moveTo>
                <a:arcTo wR="10800" hR="10800" stAng="-5404213" swAng="5404213"/>
                <a:lnTo>
                  <a:pt x="10800" y="10800"/>
                </a:lnTo>
                <a:close/>
              </a:path>
              <a:path fill="none" w="21600" h="21600">
                <a:moveTo>
                  <a:pt x="10787" y="0"/>
                </a:moveTo>
                <a:arcTo wR="10800" hR="10800" stAng="-5404213" swAng="5404213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4" name=""/>
          <p:cNvSpPr/>
          <p:nvPr/>
        </p:nvSpPr>
        <p:spPr>
          <a:xfrm rot="10860000">
            <a:off x="3494880" y="2280240"/>
            <a:ext cx="1711080" cy="275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0"/>
                </a:moveTo>
                <a:arcTo wR="10800" hR="10800" stAng="-10784176" swAng="5626696"/>
                <a:lnTo>
                  <a:pt x="10800" y="10800"/>
                </a:lnTo>
                <a:close/>
              </a:path>
              <a:path fill="none" w="21600" h="21600">
                <a:moveTo>
                  <a:pt x="0" y="10750"/>
                </a:moveTo>
                <a:arcTo wR="10800" hR="10800" stAng="-10784176" swAng="5626696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5" name=""/>
          <p:cNvSpPr/>
          <p:nvPr/>
        </p:nvSpPr>
        <p:spPr>
          <a:xfrm>
            <a:off x="1227240" y="2057400"/>
            <a:ext cx="243756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6" name=""/>
          <p:cNvSpPr/>
          <p:nvPr/>
        </p:nvSpPr>
        <p:spPr>
          <a:xfrm>
            <a:off x="363600" y="6141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7" name=""/>
          <p:cNvSpPr/>
          <p:nvPr/>
        </p:nvSpPr>
        <p:spPr>
          <a:xfrm>
            <a:off x="5492880" y="183528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2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8" name=""/>
          <p:cNvSpPr/>
          <p:nvPr/>
        </p:nvSpPr>
        <p:spPr>
          <a:xfrm>
            <a:off x="5264280" y="4732200"/>
            <a:ext cx="291960" cy="290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1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9" name=""/>
          <p:cNvSpPr/>
          <p:nvPr/>
        </p:nvSpPr>
        <p:spPr>
          <a:xfrm>
            <a:off x="4578480" y="183528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A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0" name=""/>
          <p:cNvSpPr/>
          <p:nvPr/>
        </p:nvSpPr>
        <p:spPr>
          <a:xfrm>
            <a:off x="4502160" y="427356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B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1" name=""/>
          <p:cNvSpPr/>
          <p:nvPr/>
        </p:nvSpPr>
        <p:spPr>
          <a:xfrm>
            <a:off x="1530360" y="427356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C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2" name=""/>
          <p:cNvSpPr/>
          <p:nvPr/>
        </p:nvSpPr>
        <p:spPr>
          <a:xfrm>
            <a:off x="439560" y="5608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3" name=""/>
          <p:cNvSpPr/>
          <p:nvPr/>
        </p:nvSpPr>
        <p:spPr>
          <a:xfrm>
            <a:off x="2895840" y="1752480"/>
            <a:ext cx="259020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0" y="11729"/>
                </a:moveTo>
                <a:arcTo wR="10800" hR="10800" stAng="296152" swAng="5103848"/>
                <a:lnTo>
                  <a:pt x="10800" y="10800"/>
                </a:lnTo>
                <a:close/>
              </a:path>
              <a:path fill="none" w="21600" h="21600">
                <a:moveTo>
                  <a:pt x="21560" y="11729"/>
                </a:moveTo>
                <a:arcTo wR="10800" hR="10800" stAng="296152" swAng="510384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70160" y="693720"/>
          <a:ext cx="1976400" cy="194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70160" y="693720"/>
                    <a:ext cx="197640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ANK CARD AUTHORIZATION FLOW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ttlemen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187880" y="3490920"/>
            <a:ext cx="1981080" cy="182880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0" name=""/>
          <p:cNvSpPr/>
          <p:nvPr/>
        </p:nvSpPr>
        <p:spPr>
          <a:xfrm>
            <a:off x="4312080" y="3429000"/>
            <a:ext cx="172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entury Gothic"/>
              </a:rPr>
              <a:t>WebAuth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914640" y="4981680"/>
            <a:ext cx="1443240" cy="147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3440" y="42670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3" name=""/>
          <p:cNvSpPr/>
          <p:nvPr/>
        </p:nvSpPr>
        <p:spPr>
          <a:xfrm>
            <a:off x="4573440" y="441972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4" name=""/>
          <p:cNvSpPr/>
          <p:nvPr/>
        </p:nvSpPr>
        <p:spPr>
          <a:xfrm>
            <a:off x="4573440" y="45720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5" name=""/>
          <p:cNvSpPr/>
          <p:nvPr/>
        </p:nvSpPr>
        <p:spPr>
          <a:xfrm>
            <a:off x="4573440" y="47242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4573440" y="487692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7" name=""/>
          <p:cNvSpPr/>
          <p:nvPr/>
        </p:nvSpPr>
        <p:spPr>
          <a:xfrm>
            <a:off x="608040" y="2363760"/>
            <a:ext cx="2976480" cy="3213000"/>
          </a:xfrm>
          <a:custGeom>
            <a:avLst/>
            <a:gdLst/>
            <a:ahLst/>
            <a:rect l="l" t="t" r="r" b="b"/>
            <a:pathLst>
              <a:path w="1875" h="2024">
                <a:moveTo>
                  <a:pt x="1874" y="0"/>
                </a:moveTo>
                <a:lnTo>
                  <a:pt x="1683" y="6"/>
                </a:lnTo>
                <a:lnTo>
                  <a:pt x="1495" y="17"/>
                </a:lnTo>
                <a:lnTo>
                  <a:pt x="1318" y="34"/>
                </a:lnTo>
                <a:lnTo>
                  <a:pt x="1145" y="56"/>
                </a:lnTo>
                <a:lnTo>
                  <a:pt x="978" y="84"/>
                </a:lnTo>
                <a:lnTo>
                  <a:pt x="827" y="124"/>
                </a:lnTo>
                <a:lnTo>
                  <a:pt x="682" y="163"/>
                </a:lnTo>
                <a:lnTo>
                  <a:pt x="549" y="208"/>
                </a:lnTo>
                <a:lnTo>
                  <a:pt x="426" y="259"/>
                </a:lnTo>
                <a:lnTo>
                  <a:pt x="321" y="315"/>
                </a:lnTo>
                <a:lnTo>
                  <a:pt x="271" y="348"/>
                </a:lnTo>
                <a:lnTo>
                  <a:pt x="227" y="377"/>
                </a:lnTo>
                <a:lnTo>
                  <a:pt x="184" y="405"/>
                </a:lnTo>
                <a:lnTo>
                  <a:pt x="148" y="438"/>
                </a:lnTo>
                <a:lnTo>
                  <a:pt x="112" y="472"/>
                </a:lnTo>
                <a:lnTo>
                  <a:pt x="83" y="506"/>
                </a:lnTo>
                <a:lnTo>
                  <a:pt x="58" y="540"/>
                </a:lnTo>
                <a:lnTo>
                  <a:pt x="40" y="573"/>
                </a:lnTo>
                <a:lnTo>
                  <a:pt x="21" y="607"/>
                </a:lnTo>
                <a:lnTo>
                  <a:pt x="11" y="646"/>
                </a:lnTo>
                <a:lnTo>
                  <a:pt x="3" y="680"/>
                </a:lnTo>
                <a:lnTo>
                  <a:pt x="0" y="719"/>
                </a:lnTo>
                <a:lnTo>
                  <a:pt x="0" y="1135"/>
                </a:lnTo>
                <a:lnTo>
                  <a:pt x="7" y="1191"/>
                </a:lnTo>
                <a:lnTo>
                  <a:pt x="21" y="1248"/>
                </a:lnTo>
                <a:lnTo>
                  <a:pt x="50" y="1304"/>
                </a:lnTo>
                <a:lnTo>
                  <a:pt x="90" y="1354"/>
                </a:lnTo>
                <a:lnTo>
                  <a:pt x="141" y="1405"/>
                </a:lnTo>
                <a:lnTo>
                  <a:pt x="198" y="1455"/>
                </a:lnTo>
                <a:lnTo>
                  <a:pt x="267" y="1506"/>
                </a:lnTo>
                <a:lnTo>
                  <a:pt x="343" y="1551"/>
                </a:lnTo>
                <a:lnTo>
                  <a:pt x="430" y="1596"/>
                </a:lnTo>
                <a:lnTo>
                  <a:pt x="527" y="1635"/>
                </a:lnTo>
                <a:lnTo>
                  <a:pt x="628" y="1675"/>
                </a:lnTo>
                <a:lnTo>
                  <a:pt x="740" y="1708"/>
                </a:lnTo>
                <a:lnTo>
                  <a:pt x="856" y="1742"/>
                </a:lnTo>
                <a:lnTo>
                  <a:pt x="982" y="1770"/>
                </a:lnTo>
                <a:lnTo>
                  <a:pt x="1112" y="1793"/>
                </a:lnTo>
                <a:lnTo>
                  <a:pt x="1249" y="1815"/>
                </a:lnTo>
                <a:lnTo>
                  <a:pt x="1249" y="2023"/>
                </a:lnTo>
                <a:lnTo>
                  <a:pt x="1874" y="1652"/>
                </a:lnTo>
                <a:lnTo>
                  <a:pt x="1249" y="1197"/>
                </a:lnTo>
                <a:lnTo>
                  <a:pt x="1249" y="1399"/>
                </a:lnTo>
                <a:lnTo>
                  <a:pt x="1043" y="1366"/>
                </a:lnTo>
                <a:lnTo>
                  <a:pt x="946" y="1349"/>
                </a:lnTo>
                <a:lnTo>
                  <a:pt x="852" y="1326"/>
                </a:lnTo>
                <a:lnTo>
                  <a:pt x="762" y="1304"/>
                </a:lnTo>
                <a:lnTo>
                  <a:pt x="675" y="1276"/>
                </a:lnTo>
                <a:lnTo>
                  <a:pt x="596" y="1248"/>
                </a:lnTo>
                <a:lnTo>
                  <a:pt x="516" y="1219"/>
                </a:lnTo>
                <a:lnTo>
                  <a:pt x="444" y="1186"/>
                </a:lnTo>
                <a:lnTo>
                  <a:pt x="375" y="1152"/>
                </a:lnTo>
                <a:lnTo>
                  <a:pt x="314" y="1118"/>
                </a:lnTo>
                <a:lnTo>
                  <a:pt x="256" y="1085"/>
                </a:lnTo>
                <a:lnTo>
                  <a:pt x="202" y="1045"/>
                </a:lnTo>
                <a:lnTo>
                  <a:pt x="155" y="1006"/>
                </a:lnTo>
                <a:lnTo>
                  <a:pt x="115" y="967"/>
                </a:lnTo>
                <a:lnTo>
                  <a:pt x="79" y="927"/>
                </a:lnTo>
                <a:lnTo>
                  <a:pt x="79" y="927"/>
                </a:lnTo>
                <a:lnTo>
                  <a:pt x="130" y="871"/>
                </a:lnTo>
                <a:lnTo>
                  <a:pt x="191" y="820"/>
                </a:lnTo>
                <a:lnTo>
                  <a:pt x="263" y="764"/>
                </a:lnTo>
                <a:lnTo>
                  <a:pt x="343" y="719"/>
                </a:lnTo>
                <a:lnTo>
                  <a:pt x="433" y="674"/>
                </a:lnTo>
                <a:lnTo>
                  <a:pt x="534" y="629"/>
                </a:lnTo>
                <a:lnTo>
                  <a:pt x="639" y="590"/>
                </a:lnTo>
                <a:lnTo>
                  <a:pt x="755" y="556"/>
                </a:lnTo>
                <a:lnTo>
                  <a:pt x="877" y="523"/>
                </a:lnTo>
                <a:lnTo>
                  <a:pt x="1004" y="495"/>
                </a:lnTo>
                <a:lnTo>
                  <a:pt x="1137" y="466"/>
                </a:lnTo>
                <a:lnTo>
                  <a:pt x="1278" y="450"/>
                </a:lnTo>
                <a:lnTo>
                  <a:pt x="1419" y="433"/>
                </a:lnTo>
                <a:lnTo>
                  <a:pt x="1567" y="422"/>
                </a:lnTo>
                <a:lnTo>
                  <a:pt x="1874" y="410"/>
                </a:lnTo>
                <a:lnTo>
                  <a:pt x="1874" y="0"/>
                </a:lnTo>
              </a:path>
            </a:pathLst>
          </a:cu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cap="rnd" w="1260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uthorization is written to settlement batch file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78000" y="2881440"/>
            <a:ext cx="1981080" cy="182880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1" name=""/>
          <p:cNvSpPr/>
          <p:nvPr/>
        </p:nvSpPr>
        <p:spPr>
          <a:xfrm>
            <a:off x="502200" y="2819520"/>
            <a:ext cx="172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entury Gothic"/>
              </a:rPr>
              <a:t>WebAuth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2" name=""/>
          <p:cNvSpPr/>
          <p:nvPr/>
        </p:nvSpPr>
        <p:spPr>
          <a:xfrm>
            <a:off x="2055960" y="36432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3" name=""/>
          <p:cNvSpPr/>
          <p:nvPr/>
        </p:nvSpPr>
        <p:spPr>
          <a:xfrm>
            <a:off x="763560" y="38098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4" name=""/>
          <p:cNvSpPr/>
          <p:nvPr/>
        </p:nvSpPr>
        <p:spPr>
          <a:xfrm>
            <a:off x="763560" y="396252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5" name=""/>
          <p:cNvSpPr/>
          <p:nvPr/>
        </p:nvSpPr>
        <p:spPr>
          <a:xfrm>
            <a:off x="763560" y="41148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6" name=""/>
          <p:cNvSpPr/>
          <p:nvPr/>
        </p:nvSpPr>
        <p:spPr>
          <a:xfrm>
            <a:off x="763560" y="42670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2209680"/>
            <a:ext cx="1981440" cy="182880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8" name=""/>
          <p:cNvSpPr/>
          <p:nvPr/>
        </p:nvSpPr>
        <p:spPr>
          <a:xfrm>
            <a:off x="5933160" y="2209680"/>
            <a:ext cx="1833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entury Gothic"/>
              </a:rPr>
              <a:t>Processor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9" name=""/>
          <p:cNvSpPr/>
          <p:nvPr/>
        </p:nvSpPr>
        <p:spPr>
          <a:xfrm>
            <a:off x="6253200" y="29862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0" name=""/>
          <p:cNvSpPr/>
          <p:nvPr/>
        </p:nvSpPr>
        <p:spPr>
          <a:xfrm>
            <a:off x="6253200" y="31384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1" name=""/>
          <p:cNvSpPr/>
          <p:nvPr/>
        </p:nvSpPr>
        <p:spPr>
          <a:xfrm>
            <a:off x="6253200" y="329076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2" name=""/>
          <p:cNvSpPr/>
          <p:nvPr/>
        </p:nvSpPr>
        <p:spPr>
          <a:xfrm>
            <a:off x="6253200" y="34434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3" name=""/>
          <p:cNvSpPr/>
          <p:nvPr/>
        </p:nvSpPr>
        <p:spPr>
          <a:xfrm>
            <a:off x="5792760" y="36576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530520" y="3149640"/>
            <a:ext cx="2095560" cy="10285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ransactions are sent back during settlemen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ard Processing Network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BASED PROCESS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ransactions are stored on the HOST (i.e. Card Processing Networ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ally settled by the HOST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RMINAL BASED PROCESS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ransactions stored on the Merchant’s system (WebAuthoriz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Settlement” or “Close Batch” is initiated by the Merch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28800" y="2502000"/>
            <a:ext cx="1263600" cy="100332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1" name=""/>
          <p:cNvSpPr/>
          <p:nvPr/>
        </p:nvSpPr>
        <p:spPr>
          <a:xfrm>
            <a:off x="1923480" y="2614680"/>
            <a:ext cx="103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entury Gothic"/>
              </a:rPr>
              <a:t>ICVERIFY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2" name=""/>
          <p:cNvSpPr/>
          <p:nvPr/>
        </p:nvSpPr>
        <p:spPr>
          <a:xfrm>
            <a:off x="2900520" y="2919240"/>
            <a:ext cx="8236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3" name=""/>
          <p:cNvSpPr/>
          <p:nvPr/>
        </p:nvSpPr>
        <p:spPr>
          <a:xfrm>
            <a:off x="2075040" y="301140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4" name=""/>
          <p:cNvSpPr/>
          <p:nvPr/>
        </p:nvSpPr>
        <p:spPr>
          <a:xfrm>
            <a:off x="2075040" y="309564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2075040" y="317808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6" name=""/>
          <p:cNvSpPr/>
          <p:nvPr/>
        </p:nvSpPr>
        <p:spPr>
          <a:xfrm>
            <a:off x="2075040" y="326232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7" name=""/>
          <p:cNvSpPr/>
          <p:nvPr/>
        </p:nvSpPr>
        <p:spPr>
          <a:xfrm>
            <a:off x="5330880" y="2133720"/>
            <a:ext cx="1263600" cy="100332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8" name=""/>
          <p:cNvSpPr/>
          <p:nvPr/>
        </p:nvSpPr>
        <p:spPr>
          <a:xfrm>
            <a:off x="5423040" y="2289240"/>
            <a:ext cx="1125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entury Gothic"/>
              </a:rPr>
              <a:t>Processor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9" name=""/>
          <p:cNvSpPr/>
          <p:nvPr/>
        </p:nvSpPr>
        <p:spPr>
          <a:xfrm>
            <a:off x="5576760" y="255888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0" name=""/>
          <p:cNvSpPr/>
          <p:nvPr/>
        </p:nvSpPr>
        <p:spPr>
          <a:xfrm>
            <a:off x="5576760" y="264312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1" name=""/>
          <p:cNvSpPr/>
          <p:nvPr/>
        </p:nvSpPr>
        <p:spPr>
          <a:xfrm>
            <a:off x="5576760" y="272736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2" name=""/>
          <p:cNvSpPr/>
          <p:nvPr/>
        </p:nvSpPr>
        <p:spPr>
          <a:xfrm>
            <a:off x="5576760" y="280980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3" name=""/>
          <p:cNvSpPr/>
          <p:nvPr/>
        </p:nvSpPr>
        <p:spPr>
          <a:xfrm>
            <a:off x="5283360" y="292752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821040" y="2625840"/>
            <a:ext cx="1378080" cy="6159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Host Vs. Terminal Settlemen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905120" y="4800600"/>
            <a:ext cx="1263600" cy="1003320"/>
            <a:chOff x="1905120" y="4800600"/>
            <a:chExt cx="1263600" cy="1003320"/>
          </a:xfrm>
        </p:grpSpPr>
        <p:sp>
          <p:nvSpPr>
            <p:cNvPr id="187" name=""/>
            <p:cNvSpPr/>
            <p:nvPr/>
          </p:nvSpPr>
          <p:spPr>
            <a:xfrm>
              <a:off x="1905120" y="4800600"/>
              <a:ext cx="1263600" cy="1003320"/>
            </a:xfrm>
            <a:prstGeom prst="rect">
              <a:avLst/>
            </a:prstGeom>
            <a:gradFill rotWithShape="0">
              <a:gsLst>
                <a:gs pos="0">
                  <a:srgbClr val="654b7e"/>
                </a:gs>
                <a:gs pos="50000">
                  <a:srgbClr val="cc99ff"/>
                </a:gs>
                <a:gs pos="100000">
                  <a:srgbClr val="654b7e"/>
                </a:gs>
              </a:gsLst>
              <a:lin ang="10800000"/>
            </a:gra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58760" y="4913280"/>
              <a:ext cx="1031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Century Gothic"/>
                </a:rPr>
                <a:t>ICVERIFY</a:t>
              </a:r>
              <a:endParaRPr b="0" lang="en-US" sz="16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51360" y="531036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51360" y="539460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1360" y="547704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133720" y="5560920"/>
              <a:ext cx="843120" cy="1404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724280" y="4648320"/>
            <a:ext cx="2778120" cy="1098360"/>
            <a:chOff x="4724280" y="4648320"/>
            <a:chExt cx="2778120" cy="1098360"/>
          </a:xfrm>
        </p:grpSpPr>
        <p:sp>
          <p:nvSpPr>
            <p:cNvPr id="194" name=""/>
            <p:cNvSpPr/>
            <p:nvPr/>
          </p:nvSpPr>
          <p:spPr>
            <a:xfrm>
              <a:off x="4724280" y="4648320"/>
              <a:ext cx="1263600" cy="1003320"/>
            </a:xfrm>
            <a:prstGeom prst="rect">
              <a:avLst/>
            </a:prstGeom>
            <a:gradFill rotWithShape="0">
              <a:gsLst>
                <a:gs pos="0">
                  <a:srgbClr val="654b7e"/>
                </a:gs>
                <a:gs pos="50000">
                  <a:srgbClr val="cc99ff"/>
                </a:gs>
                <a:gs pos="100000">
                  <a:srgbClr val="654b7e"/>
                </a:gs>
              </a:gsLst>
              <a:lin ang="10800000"/>
            </a:gra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87360" y="4803840"/>
              <a:ext cx="1125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Century Gothic"/>
                </a:rPr>
                <a:t>Processor</a:t>
              </a:r>
              <a:endParaRPr b="0" lang="en-US" sz="16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70520" y="507348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70520" y="515772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70520" y="524196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70520" y="532440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52880" y="541008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3"/>
            <a:stretch/>
          </p:blipFill>
          <p:spPr>
            <a:xfrm>
              <a:off x="6124680" y="5130720"/>
              <a:ext cx="1377720" cy="61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584280" y="3936960"/>
            <a:ext cx="7456320" cy="6516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811440" y="1523880"/>
            <a:ext cx="166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entury Gothic"/>
              </a:rPr>
              <a:t>Terminal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4" name=""/>
          <p:cNvSpPr/>
          <p:nvPr/>
        </p:nvSpPr>
        <p:spPr>
          <a:xfrm>
            <a:off x="740520" y="4572000"/>
            <a:ext cx="96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entury Gothic"/>
              </a:rPr>
              <a:t>Host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5257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</a:rPr>
              <a:t>Overview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28440" y="220932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nkcard industr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tallation and setu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WebAuthoriz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9400" y="212760"/>
            <a:ext cx="7811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PLURAL INTERFACE PROCESSING (PIP) / SPLIT DIAL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FLOW: </a:t>
            </a: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AUTHORIZATION AND SETTLEMENT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7" name=""/>
          <p:cNvSpPr/>
          <p:nvPr/>
        </p:nvSpPr>
        <p:spPr>
          <a:xfrm>
            <a:off x="363600" y="928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2444760" y="4654440"/>
            <a:ext cx="4025880" cy="166392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AMEX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DISCOVER (NOVUS)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9" name=""/>
          <p:cNvSpPr/>
          <p:nvPr/>
        </p:nvSpPr>
        <p:spPr>
          <a:xfrm>
            <a:off x="596880" y="12654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0" name=""/>
          <p:cNvSpPr/>
          <p:nvPr/>
        </p:nvSpPr>
        <p:spPr>
          <a:xfrm>
            <a:off x="217440" y="14176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1" name=""/>
          <p:cNvSpPr/>
          <p:nvPr/>
        </p:nvSpPr>
        <p:spPr>
          <a:xfrm>
            <a:off x="442800" y="4465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2" name=""/>
          <p:cNvSpPr/>
          <p:nvPr/>
        </p:nvSpPr>
        <p:spPr>
          <a:xfrm>
            <a:off x="363600" y="6141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3" name=""/>
          <p:cNvSpPr/>
          <p:nvPr/>
        </p:nvSpPr>
        <p:spPr>
          <a:xfrm>
            <a:off x="439560" y="5608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4" name=""/>
          <p:cNvSpPr/>
          <p:nvPr/>
        </p:nvSpPr>
        <p:spPr>
          <a:xfrm>
            <a:off x="7709040" y="56116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419720" y="3203640"/>
            <a:ext cx="0" cy="1365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6" name=""/>
          <p:cNvSpPr/>
          <p:nvPr/>
        </p:nvSpPr>
        <p:spPr>
          <a:xfrm>
            <a:off x="5264280" y="1981080"/>
            <a:ext cx="98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7" name=""/>
          <p:cNvSpPr/>
          <p:nvPr/>
        </p:nvSpPr>
        <p:spPr>
          <a:xfrm>
            <a:off x="6254640" y="1454040"/>
            <a:ext cx="2349720" cy="12826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8" name=""/>
          <p:cNvSpPr/>
          <p:nvPr/>
        </p:nvSpPr>
        <p:spPr>
          <a:xfrm>
            <a:off x="6327720" y="1569960"/>
            <a:ext cx="22240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OTHER CARD 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PROCESSING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NETWORKS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413160" y="1074600"/>
          <a:ext cx="1976400" cy="194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3160" y="1074600"/>
                    <a:ext cx="197640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Understanding WebAuth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981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Client/Server approach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224" name="j0223504" descr=""/>
          <p:cNvPicPr/>
          <p:nvPr/>
        </p:nvPicPr>
        <p:blipFill>
          <a:blip r:embed="rId2"/>
          <a:stretch/>
        </p:blipFill>
        <p:spPr>
          <a:xfrm>
            <a:off x="6629400" y="2286000"/>
            <a:ext cx="1266840" cy="1474920"/>
          </a:xfrm>
          <a:prstGeom prst="rect">
            <a:avLst/>
          </a:prstGeom>
          <a:ln w="0">
            <a:noFill/>
          </a:ln>
        </p:spPr>
      </p:pic>
      <p:pic>
        <p:nvPicPr>
          <p:cNvPr id="225" name="j0223504" descr=""/>
          <p:cNvPicPr/>
          <p:nvPr/>
        </p:nvPicPr>
        <p:blipFill>
          <a:blip r:embed="rId3"/>
          <a:stretch/>
        </p:blipFill>
        <p:spPr>
          <a:xfrm>
            <a:off x="7010280" y="4114800"/>
            <a:ext cx="1266840" cy="1474920"/>
          </a:xfrm>
          <a:prstGeom prst="rect">
            <a:avLst/>
          </a:prstGeom>
          <a:ln w="0">
            <a:noFill/>
          </a:ln>
        </p:spPr>
      </p:pic>
      <p:pic>
        <p:nvPicPr>
          <p:cNvPr id="226" name="j0223504" descr=""/>
          <p:cNvPicPr/>
          <p:nvPr/>
        </p:nvPicPr>
        <p:blipFill>
          <a:blip r:embed="rId4"/>
          <a:stretch/>
        </p:blipFill>
        <p:spPr>
          <a:xfrm>
            <a:off x="4572000" y="2133720"/>
            <a:ext cx="1266840" cy="1474560"/>
          </a:xfrm>
          <a:prstGeom prst="rect">
            <a:avLst/>
          </a:prstGeom>
          <a:ln w="0">
            <a:noFill/>
          </a:ln>
        </p:spPr>
      </p:pic>
      <p:pic>
        <p:nvPicPr>
          <p:cNvPr id="227" name="j0230337" descr=""/>
          <p:cNvPicPr/>
          <p:nvPr/>
        </p:nvPicPr>
        <p:blipFill>
          <a:blip r:embed="rId5"/>
          <a:stretch/>
        </p:blipFill>
        <p:spPr>
          <a:xfrm>
            <a:off x="838080" y="2590920"/>
            <a:ext cx="2106720" cy="3468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flipV="1">
            <a:off x="2743200" y="3352320"/>
            <a:ext cx="198108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42840" y="3581280"/>
            <a:ext cx="396252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743200" y="4495320"/>
            <a:ext cx="449568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31" name=""/>
          <p:cNvSpPr/>
          <p:nvPr/>
        </p:nvSpPr>
        <p:spPr>
          <a:xfrm>
            <a:off x="6400800" y="55627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How Does It Work?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s to processor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38080" y="1600200"/>
            <a:ext cx="7940880" cy="4548240"/>
            <a:chOff x="838080" y="1600200"/>
            <a:chExt cx="7940880" cy="4548240"/>
          </a:xfrm>
        </p:grpSpPr>
        <p:sp>
          <p:nvSpPr>
            <p:cNvPr id="235" name=""/>
            <p:cNvSpPr/>
            <p:nvPr/>
          </p:nvSpPr>
          <p:spPr>
            <a:xfrm>
              <a:off x="2666880" y="5029200"/>
              <a:ext cx="4267440" cy="76212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36" name="j0230337" descr=""/>
            <p:cNvPicPr/>
            <p:nvPr/>
          </p:nvPicPr>
          <p:blipFill>
            <a:blip r:embed="rId2"/>
            <a:stretch/>
          </p:blipFill>
          <p:spPr>
            <a:xfrm>
              <a:off x="838080" y="2590920"/>
              <a:ext cx="2106720" cy="34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j0261680" descr=""/>
            <p:cNvPicPr/>
            <p:nvPr/>
          </p:nvPicPr>
          <p:blipFill>
            <a:blip r:embed="rId3"/>
            <a:stretch/>
          </p:blipFill>
          <p:spPr>
            <a:xfrm>
              <a:off x="6781680" y="2514600"/>
              <a:ext cx="1997280" cy="36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 flipV="1">
              <a:off x="2743200" y="2666880"/>
              <a:ext cx="1371600" cy="533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39" name="SY00639_" descr=""/>
            <p:cNvPicPr/>
            <p:nvPr/>
          </p:nvPicPr>
          <p:blipFill>
            <a:blip r:embed="rId4"/>
            <a:stretch/>
          </p:blipFill>
          <p:spPr>
            <a:xfrm>
              <a:off x="4114800" y="3276720"/>
              <a:ext cx="163980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 flipV="1">
              <a:off x="2743200" y="4114440"/>
              <a:ext cx="129528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15000" y="4191120"/>
              <a:ext cx="106668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42" name="j0273798" descr=""/>
            <p:cNvPicPr/>
            <p:nvPr/>
          </p:nvPicPr>
          <p:blipFill>
            <a:blip r:embed="rId5"/>
            <a:stretch/>
          </p:blipFill>
          <p:spPr>
            <a:xfrm>
              <a:off x="4191120" y="1600200"/>
              <a:ext cx="183168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5715000" y="2514600"/>
              <a:ext cx="99072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324480" y="1828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45" name=""/>
          <p:cNvSpPr/>
          <p:nvPr/>
        </p:nvSpPr>
        <p:spPr>
          <a:xfrm>
            <a:off x="5105520" y="3124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4876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e Line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How fast is it?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1600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720 transactions per m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429000" y="2743200"/>
            <a:ext cx="2438280" cy="2666520"/>
            <a:chOff x="3429000" y="2743200"/>
            <a:chExt cx="2438280" cy="2666520"/>
          </a:xfrm>
        </p:grpSpPr>
        <p:sp>
          <p:nvSpPr>
            <p:cNvPr id="250" name=""/>
            <p:cNvSpPr/>
            <p:nvPr/>
          </p:nvSpPr>
          <p:spPr>
            <a:xfrm>
              <a:off x="3429000" y="2937600"/>
              <a:ext cx="2438280" cy="2472120"/>
            </a:xfrm>
            <a:custGeom>
              <a:avLst/>
              <a:gdLst/>
              <a:ahLst/>
              <a:rect l="l" t="t" r="r" b="b"/>
              <a:pathLst>
                <a:path w="5818" h="4776">
                  <a:moveTo>
                    <a:pt x="2329" y="4776"/>
                  </a:moveTo>
                  <a:lnTo>
                    <a:pt x="2316" y="4772"/>
                  </a:lnTo>
                  <a:lnTo>
                    <a:pt x="2304" y="4770"/>
                  </a:lnTo>
                  <a:lnTo>
                    <a:pt x="2290" y="4768"/>
                  </a:lnTo>
                  <a:lnTo>
                    <a:pt x="2279" y="4766"/>
                  </a:lnTo>
                  <a:lnTo>
                    <a:pt x="2265" y="4764"/>
                  </a:lnTo>
                  <a:lnTo>
                    <a:pt x="2254" y="4762"/>
                  </a:lnTo>
                  <a:lnTo>
                    <a:pt x="2240" y="4760"/>
                  </a:lnTo>
                  <a:lnTo>
                    <a:pt x="2228" y="4760"/>
                  </a:lnTo>
                  <a:lnTo>
                    <a:pt x="2201" y="4747"/>
                  </a:lnTo>
                  <a:lnTo>
                    <a:pt x="2174" y="4735"/>
                  </a:lnTo>
                  <a:lnTo>
                    <a:pt x="2147" y="4723"/>
                  </a:lnTo>
                  <a:lnTo>
                    <a:pt x="2122" y="4714"/>
                  </a:lnTo>
                  <a:lnTo>
                    <a:pt x="2093" y="4702"/>
                  </a:lnTo>
                  <a:lnTo>
                    <a:pt x="2065" y="4690"/>
                  </a:lnTo>
                  <a:lnTo>
                    <a:pt x="2038" y="4679"/>
                  </a:lnTo>
                  <a:lnTo>
                    <a:pt x="2011" y="4669"/>
                  </a:lnTo>
                  <a:lnTo>
                    <a:pt x="1972" y="4648"/>
                  </a:lnTo>
                  <a:lnTo>
                    <a:pt x="1945" y="4634"/>
                  </a:lnTo>
                  <a:lnTo>
                    <a:pt x="1924" y="4622"/>
                  </a:lnTo>
                  <a:lnTo>
                    <a:pt x="1910" y="4617"/>
                  </a:lnTo>
                  <a:lnTo>
                    <a:pt x="1899" y="4611"/>
                  </a:lnTo>
                  <a:lnTo>
                    <a:pt x="1891" y="4609"/>
                  </a:lnTo>
                  <a:lnTo>
                    <a:pt x="1885" y="4607"/>
                  </a:lnTo>
                  <a:lnTo>
                    <a:pt x="1879" y="4607"/>
                  </a:lnTo>
                  <a:lnTo>
                    <a:pt x="1842" y="4580"/>
                  </a:lnTo>
                  <a:lnTo>
                    <a:pt x="1813" y="4558"/>
                  </a:lnTo>
                  <a:lnTo>
                    <a:pt x="1788" y="4541"/>
                  </a:lnTo>
                  <a:lnTo>
                    <a:pt x="1771" y="4527"/>
                  </a:lnTo>
                  <a:lnTo>
                    <a:pt x="1753" y="4514"/>
                  </a:lnTo>
                  <a:lnTo>
                    <a:pt x="1742" y="4508"/>
                  </a:lnTo>
                  <a:lnTo>
                    <a:pt x="1732" y="4500"/>
                  </a:lnTo>
                  <a:lnTo>
                    <a:pt x="1726" y="4500"/>
                  </a:lnTo>
                  <a:lnTo>
                    <a:pt x="1701" y="4475"/>
                  </a:lnTo>
                  <a:lnTo>
                    <a:pt x="1678" y="4452"/>
                  </a:lnTo>
                  <a:lnTo>
                    <a:pt x="1652" y="4428"/>
                  </a:lnTo>
                  <a:lnTo>
                    <a:pt x="1627" y="4405"/>
                  </a:lnTo>
                  <a:lnTo>
                    <a:pt x="1600" y="4380"/>
                  </a:lnTo>
                  <a:lnTo>
                    <a:pt x="1577" y="4357"/>
                  </a:lnTo>
                  <a:lnTo>
                    <a:pt x="1550" y="4333"/>
                  </a:lnTo>
                  <a:lnTo>
                    <a:pt x="1526" y="4310"/>
                  </a:lnTo>
                  <a:lnTo>
                    <a:pt x="1503" y="4283"/>
                  </a:lnTo>
                  <a:lnTo>
                    <a:pt x="1480" y="4256"/>
                  </a:lnTo>
                  <a:lnTo>
                    <a:pt x="1456" y="4229"/>
                  </a:lnTo>
                  <a:lnTo>
                    <a:pt x="1435" y="4203"/>
                  </a:lnTo>
                  <a:lnTo>
                    <a:pt x="1412" y="4176"/>
                  </a:lnTo>
                  <a:lnTo>
                    <a:pt x="1389" y="4151"/>
                  </a:lnTo>
                  <a:lnTo>
                    <a:pt x="1365" y="4124"/>
                  </a:lnTo>
                  <a:lnTo>
                    <a:pt x="1342" y="4099"/>
                  </a:lnTo>
                  <a:lnTo>
                    <a:pt x="1328" y="4070"/>
                  </a:lnTo>
                  <a:lnTo>
                    <a:pt x="1317" y="4048"/>
                  </a:lnTo>
                  <a:lnTo>
                    <a:pt x="1307" y="4029"/>
                  </a:lnTo>
                  <a:lnTo>
                    <a:pt x="1299" y="4011"/>
                  </a:lnTo>
                  <a:lnTo>
                    <a:pt x="1286" y="3988"/>
                  </a:lnTo>
                  <a:lnTo>
                    <a:pt x="1270" y="3961"/>
                  </a:lnTo>
                  <a:lnTo>
                    <a:pt x="1251" y="3926"/>
                  </a:lnTo>
                  <a:lnTo>
                    <a:pt x="1226" y="3883"/>
                  </a:lnTo>
                  <a:lnTo>
                    <a:pt x="1202" y="3837"/>
                  </a:lnTo>
                  <a:lnTo>
                    <a:pt x="1185" y="3800"/>
                  </a:lnTo>
                  <a:lnTo>
                    <a:pt x="1171" y="3769"/>
                  </a:lnTo>
                  <a:lnTo>
                    <a:pt x="1162" y="3746"/>
                  </a:lnTo>
                  <a:lnTo>
                    <a:pt x="1154" y="3726"/>
                  </a:lnTo>
                  <a:lnTo>
                    <a:pt x="1148" y="3713"/>
                  </a:lnTo>
                  <a:lnTo>
                    <a:pt x="1142" y="3703"/>
                  </a:lnTo>
                  <a:lnTo>
                    <a:pt x="1140" y="3697"/>
                  </a:lnTo>
                  <a:lnTo>
                    <a:pt x="1131" y="3666"/>
                  </a:lnTo>
                  <a:lnTo>
                    <a:pt x="1121" y="3637"/>
                  </a:lnTo>
                  <a:lnTo>
                    <a:pt x="1111" y="3608"/>
                  </a:lnTo>
                  <a:lnTo>
                    <a:pt x="1102" y="3579"/>
                  </a:lnTo>
                  <a:lnTo>
                    <a:pt x="1090" y="3548"/>
                  </a:lnTo>
                  <a:lnTo>
                    <a:pt x="1080" y="3519"/>
                  </a:lnTo>
                  <a:lnTo>
                    <a:pt x="1071" y="3490"/>
                  </a:lnTo>
                  <a:lnTo>
                    <a:pt x="1061" y="3461"/>
                  </a:lnTo>
                  <a:lnTo>
                    <a:pt x="1053" y="3430"/>
                  </a:lnTo>
                  <a:lnTo>
                    <a:pt x="1047" y="3400"/>
                  </a:lnTo>
                  <a:lnTo>
                    <a:pt x="1041" y="3369"/>
                  </a:lnTo>
                  <a:lnTo>
                    <a:pt x="1036" y="3340"/>
                  </a:lnTo>
                  <a:lnTo>
                    <a:pt x="1028" y="3309"/>
                  </a:lnTo>
                  <a:lnTo>
                    <a:pt x="1022" y="3280"/>
                  </a:lnTo>
                  <a:lnTo>
                    <a:pt x="1014" y="3251"/>
                  </a:lnTo>
                  <a:lnTo>
                    <a:pt x="1008" y="3222"/>
                  </a:lnTo>
                  <a:lnTo>
                    <a:pt x="1008" y="3205"/>
                  </a:lnTo>
                  <a:lnTo>
                    <a:pt x="1008" y="3187"/>
                  </a:lnTo>
                  <a:lnTo>
                    <a:pt x="1008" y="3170"/>
                  </a:lnTo>
                  <a:lnTo>
                    <a:pt x="1008" y="3154"/>
                  </a:lnTo>
                  <a:lnTo>
                    <a:pt x="1010" y="3113"/>
                  </a:lnTo>
                  <a:lnTo>
                    <a:pt x="1014" y="3084"/>
                  </a:lnTo>
                  <a:lnTo>
                    <a:pt x="1016" y="3057"/>
                  </a:lnTo>
                  <a:lnTo>
                    <a:pt x="1020" y="3034"/>
                  </a:lnTo>
                  <a:lnTo>
                    <a:pt x="1022" y="3009"/>
                  </a:lnTo>
                  <a:lnTo>
                    <a:pt x="1026" y="2980"/>
                  </a:lnTo>
                  <a:lnTo>
                    <a:pt x="1032" y="2943"/>
                  </a:lnTo>
                  <a:lnTo>
                    <a:pt x="1039" y="2900"/>
                  </a:lnTo>
                  <a:lnTo>
                    <a:pt x="1043" y="2892"/>
                  </a:lnTo>
                  <a:lnTo>
                    <a:pt x="1049" y="2883"/>
                  </a:lnTo>
                  <a:lnTo>
                    <a:pt x="1055" y="2869"/>
                  </a:lnTo>
                  <a:lnTo>
                    <a:pt x="1063" y="2855"/>
                  </a:lnTo>
                  <a:lnTo>
                    <a:pt x="1071" y="2838"/>
                  </a:lnTo>
                  <a:lnTo>
                    <a:pt x="1080" y="2822"/>
                  </a:lnTo>
                  <a:lnTo>
                    <a:pt x="1092" y="2805"/>
                  </a:lnTo>
                  <a:lnTo>
                    <a:pt x="1103" y="2790"/>
                  </a:lnTo>
                  <a:lnTo>
                    <a:pt x="1115" y="2778"/>
                  </a:lnTo>
                  <a:lnTo>
                    <a:pt x="1127" y="2768"/>
                  </a:lnTo>
                  <a:lnTo>
                    <a:pt x="1140" y="2758"/>
                  </a:lnTo>
                  <a:lnTo>
                    <a:pt x="1154" y="2749"/>
                  </a:lnTo>
                  <a:lnTo>
                    <a:pt x="1166" y="2737"/>
                  </a:lnTo>
                  <a:lnTo>
                    <a:pt x="1181" y="2725"/>
                  </a:lnTo>
                  <a:lnTo>
                    <a:pt x="1195" y="2714"/>
                  </a:lnTo>
                  <a:lnTo>
                    <a:pt x="1210" y="2704"/>
                  </a:lnTo>
                  <a:lnTo>
                    <a:pt x="1222" y="2698"/>
                  </a:lnTo>
                  <a:lnTo>
                    <a:pt x="1235" y="2693"/>
                  </a:lnTo>
                  <a:lnTo>
                    <a:pt x="1249" y="2685"/>
                  </a:lnTo>
                  <a:lnTo>
                    <a:pt x="1263" y="2679"/>
                  </a:lnTo>
                  <a:lnTo>
                    <a:pt x="1274" y="2675"/>
                  </a:lnTo>
                  <a:lnTo>
                    <a:pt x="1290" y="2673"/>
                  </a:lnTo>
                  <a:lnTo>
                    <a:pt x="1301" y="2671"/>
                  </a:lnTo>
                  <a:lnTo>
                    <a:pt x="1317" y="2669"/>
                  </a:lnTo>
                  <a:lnTo>
                    <a:pt x="1330" y="2667"/>
                  </a:lnTo>
                  <a:lnTo>
                    <a:pt x="1344" y="2665"/>
                  </a:lnTo>
                  <a:lnTo>
                    <a:pt x="1358" y="2663"/>
                  </a:lnTo>
                  <a:lnTo>
                    <a:pt x="1373" y="2663"/>
                  </a:lnTo>
                  <a:lnTo>
                    <a:pt x="1367" y="2652"/>
                  </a:lnTo>
                  <a:lnTo>
                    <a:pt x="1367" y="2642"/>
                  </a:lnTo>
                  <a:lnTo>
                    <a:pt x="1367" y="2632"/>
                  </a:lnTo>
                  <a:lnTo>
                    <a:pt x="1367" y="2627"/>
                  </a:lnTo>
                  <a:lnTo>
                    <a:pt x="1338" y="2555"/>
                  </a:lnTo>
                  <a:lnTo>
                    <a:pt x="1317" y="2502"/>
                  </a:lnTo>
                  <a:lnTo>
                    <a:pt x="1299" y="2462"/>
                  </a:lnTo>
                  <a:lnTo>
                    <a:pt x="1290" y="2431"/>
                  </a:lnTo>
                  <a:lnTo>
                    <a:pt x="1278" y="2400"/>
                  </a:lnTo>
                  <a:lnTo>
                    <a:pt x="1268" y="2372"/>
                  </a:lnTo>
                  <a:lnTo>
                    <a:pt x="1257" y="2341"/>
                  </a:lnTo>
                  <a:lnTo>
                    <a:pt x="1247" y="2305"/>
                  </a:lnTo>
                  <a:lnTo>
                    <a:pt x="1233" y="2299"/>
                  </a:lnTo>
                  <a:lnTo>
                    <a:pt x="1222" y="2293"/>
                  </a:lnTo>
                  <a:lnTo>
                    <a:pt x="1210" y="2287"/>
                  </a:lnTo>
                  <a:lnTo>
                    <a:pt x="1199" y="2283"/>
                  </a:lnTo>
                  <a:lnTo>
                    <a:pt x="1185" y="2272"/>
                  </a:lnTo>
                  <a:lnTo>
                    <a:pt x="1173" y="2262"/>
                  </a:lnTo>
                  <a:lnTo>
                    <a:pt x="1162" y="2241"/>
                  </a:lnTo>
                  <a:lnTo>
                    <a:pt x="1152" y="2221"/>
                  </a:lnTo>
                  <a:lnTo>
                    <a:pt x="1140" y="2202"/>
                  </a:lnTo>
                  <a:lnTo>
                    <a:pt x="1131" y="2184"/>
                  </a:lnTo>
                  <a:lnTo>
                    <a:pt x="1119" y="2165"/>
                  </a:lnTo>
                  <a:lnTo>
                    <a:pt x="1109" y="2146"/>
                  </a:lnTo>
                  <a:lnTo>
                    <a:pt x="1098" y="2126"/>
                  </a:lnTo>
                  <a:lnTo>
                    <a:pt x="1088" y="2109"/>
                  </a:lnTo>
                  <a:lnTo>
                    <a:pt x="1074" y="2116"/>
                  </a:lnTo>
                  <a:lnTo>
                    <a:pt x="1067" y="2124"/>
                  </a:lnTo>
                  <a:lnTo>
                    <a:pt x="1057" y="2134"/>
                  </a:lnTo>
                  <a:lnTo>
                    <a:pt x="1045" y="2151"/>
                  </a:lnTo>
                  <a:lnTo>
                    <a:pt x="1024" y="2190"/>
                  </a:lnTo>
                  <a:lnTo>
                    <a:pt x="1008" y="2221"/>
                  </a:lnTo>
                  <a:lnTo>
                    <a:pt x="995" y="2243"/>
                  </a:lnTo>
                  <a:lnTo>
                    <a:pt x="987" y="2262"/>
                  </a:lnTo>
                  <a:lnTo>
                    <a:pt x="979" y="2276"/>
                  </a:lnTo>
                  <a:lnTo>
                    <a:pt x="974" y="2289"/>
                  </a:lnTo>
                  <a:lnTo>
                    <a:pt x="968" y="2305"/>
                  </a:lnTo>
                  <a:lnTo>
                    <a:pt x="962" y="2324"/>
                  </a:lnTo>
                  <a:lnTo>
                    <a:pt x="956" y="2343"/>
                  </a:lnTo>
                  <a:lnTo>
                    <a:pt x="954" y="2359"/>
                  </a:lnTo>
                  <a:lnTo>
                    <a:pt x="950" y="2371"/>
                  </a:lnTo>
                  <a:lnTo>
                    <a:pt x="950" y="2380"/>
                  </a:lnTo>
                  <a:lnTo>
                    <a:pt x="946" y="2388"/>
                  </a:lnTo>
                  <a:lnTo>
                    <a:pt x="944" y="2394"/>
                  </a:lnTo>
                  <a:lnTo>
                    <a:pt x="943" y="2405"/>
                  </a:lnTo>
                  <a:lnTo>
                    <a:pt x="943" y="2417"/>
                  </a:lnTo>
                  <a:lnTo>
                    <a:pt x="943" y="2429"/>
                  </a:lnTo>
                  <a:lnTo>
                    <a:pt x="943" y="2440"/>
                  </a:lnTo>
                  <a:lnTo>
                    <a:pt x="941" y="2452"/>
                  </a:lnTo>
                  <a:lnTo>
                    <a:pt x="941" y="2464"/>
                  </a:lnTo>
                  <a:lnTo>
                    <a:pt x="941" y="2475"/>
                  </a:lnTo>
                  <a:lnTo>
                    <a:pt x="941" y="2489"/>
                  </a:lnTo>
                  <a:lnTo>
                    <a:pt x="944" y="2493"/>
                  </a:lnTo>
                  <a:lnTo>
                    <a:pt x="950" y="2502"/>
                  </a:lnTo>
                  <a:lnTo>
                    <a:pt x="950" y="2506"/>
                  </a:lnTo>
                  <a:lnTo>
                    <a:pt x="954" y="2516"/>
                  </a:lnTo>
                  <a:lnTo>
                    <a:pt x="956" y="2526"/>
                  </a:lnTo>
                  <a:lnTo>
                    <a:pt x="962" y="2541"/>
                  </a:lnTo>
                  <a:lnTo>
                    <a:pt x="962" y="2553"/>
                  </a:lnTo>
                  <a:lnTo>
                    <a:pt x="962" y="2566"/>
                  </a:lnTo>
                  <a:lnTo>
                    <a:pt x="962" y="2582"/>
                  </a:lnTo>
                  <a:lnTo>
                    <a:pt x="962" y="2599"/>
                  </a:lnTo>
                  <a:lnTo>
                    <a:pt x="950" y="2617"/>
                  </a:lnTo>
                  <a:lnTo>
                    <a:pt x="944" y="2632"/>
                  </a:lnTo>
                  <a:lnTo>
                    <a:pt x="939" y="2642"/>
                  </a:lnTo>
                  <a:lnTo>
                    <a:pt x="935" y="2652"/>
                  </a:lnTo>
                  <a:lnTo>
                    <a:pt x="925" y="2663"/>
                  </a:lnTo>
                  <a:lnTo>
                    <a:pt x="913" y="2679"/>
                  </a:lnTo>
                  <a:lnTo>
                    <a:pt x="892" y="2681"/>
                  </a:lnTo>
                  <a:lnTo>
                    <a:pt x="873" y="2687"/>
                  </a:lnTo>
                  <a:lnTo>
                    <a:pt x="861" y="2689"/>
                  </a:lnTo>
                  <a:lnTo>
                    <a:pt x="851" y="2693"/>
                  </a:lnTo>
                  <a:lnTo>
                    <a:pt x="840" y="2694"/>
                  </a:lnTo>
                  <a:lnTo>
                    <a:pt x="830" y="2700"/>
                  </a:lnTo>
                  <a:lnTo>
                    <a:pt x="813" y="2694"/>
                  </a:lnTo>
                  <a:lnTo>
                    <a:pt x="799" y="2693"/>
                  </a:lnTo>
                  <a:lnTo>
                    <a:pt x="785" y="2689"/>
                  </a:lnTo>
                  <a:lnTo>
                    <a:pt x="776" y="2689"/>
                  </a:lnTo>
                  <a:lnTo>
                    <a:pt x="764" y="2687"/>
                  </a:lnTo>
                  <a:lnTo>
                    <a:pt x="756" y="2687"/>
                  </a:lnTo>
                  <a:lnTo>
                    <a:pt x="751" y="2685"/>
                  </a:lnTo>
                  <a:lnTo>
                    <a:pt x="725" y="2675"/>
                  </a:lnTo>
                  <a:lnTo>
                    <a:pt x="706" y="2669"/>
                  </a:lnTo>
                  <a:lnTo>
                    <a:pt x="688" y="2663"/>
                  </a:lnTo>
                  <a:lnTo>
                    <a:pt x="677" y="2658"/>
                  </a:lnTo>
                  <a:lnTo>
                    <a:pt x="665" y="2652"/>
                  </a:lnTo>
                  <a:lnTo>
                    <a:pt x="655" y="2648"/>
                  </a:lnTo>
                  <a:lnTo>
                    <a:pt x="644" y="2644"/>
                  </a:lnTo>
                  <a:lnTo>
                    <a:pt x="634" y="2642"/>
                  </a:lnTo>
                  <a:lnTo>
                    <a:pt x="576" y="2613"/>
                  </a:lnTo>
                  <a:lnTo>
                    <a:pt x="533" y="2594"/>
                  </a:lnTo>
                  <a:lnTo>
                    <a:pt x="502" y="2578"/>
                  </a:lnTo>
                  <a:lnTo>
                    <a:pt x="481" y="2568"/>
                  </a:lnTo>
                  <a:lnTo>
                    <a:pt x="463" y="2559"/>
                  </a:lnTo>
                  <a:lnTo>
                    <a:pt x="452" y="2551"/>
                  </a:lnTo>
                  <a:lnTo>
                    <a:pt x="440" y="2543"/>
                  </a:lnTo>
                  <a:lnTo>
                    <a:pt x="429" y="2535"/>
                  </a:lnTo>
                  <a:lnTo>
                    <a:pt x="417" y="2524"/>
                  </a:lnTo>
                  <a:lnTo>
                    <a:pt x="407" y="2514"/>
                  </a:lnTo>
                  <a:lnTo>
                    <a:pt x="396" y="2502"/>
                  </a:lnTo>
                  <a:lnTo>
                    <a:pt x="386" y="2493"/>
                  </a:lnTo>
                  <a:lnTo>
                    <a:pt x="374" y="2481"/>
                  </a:lnTo>
                  <a:lnTo>
                    <a:pt x="363" y="2469"/>
                  </a:lnTo>
                  <a:lnTo>
                    <a:pt x="353" y="2458"/>
                  </a:lnTo>
                  <a:lnTo>
                    <a:pt x="343" y="2446"/>
                  </a:lnTo>
                  <a:lnTo>
                    <a:pt x="334" y="2433"/>
                  </a:lnTo>
                  <a:lnTo>
                    <a:pt x="330" y="2423"/>
                  </a:lnTo>
                  <a:lnTo>
                    <a:pt x="324" y="2413"/>
                  </a:lnTo>
                  <a:lnTo>
                    <a:pt x="322" y="2405"/>
                  </a:lnTo>
                  <a:lnTo>
                    <a:pt x="318" y="2392"/>
                  </a:lnTo>
                  <a:lnTo>
                    <a:pt x="314" y="2380"/>
                  </a:lnTo>
                  <a:lnTo>
                    <a:pt x="310" y="2365"/>
                  </a:lnTo>
                  <a:lnTo>
                    <a:pt x="306" y="2345"/>
                  </a:lnTo>
                  <a:lnTo>
                    <a:pt x="306" y="2328"/>
                  </a:lnTo>
                  <a:lnTo>
                    <a:pt x="308" y="2316"/>
                  </a:lnTo>
                  <a:lnTo>
                    <a:pt x="310" y="2301"/>
                  </a:lnTo>
                  <a:lnTo>
                    <a:pt x="312" y="2287"/>
                  </a:lnTo>
                  <a:lnTo>
                    <a:pt x="324" y="2272"/>
                  </a:lnTo>
                  <a:lnTo>
                    <a:pt x="337" y="2262"/>
                  </a:lnTo>
                  <a:lnTo>
                    <a:pt x="326" y="2256"/>
                  </a:lnTo>
                  <a:lnTo>
                    <a:pt x="314" y="2252"/>
                  </a:lnTo>
                  <a:lnTo>
                    <a:pt x="303" y="2248"/>
                  </a:lnTo>
                  <a:lnTo>
                    <a:pt x="291" y="2246"/>
                  </a:lnTo>
                  <a:lnTo>
                    <a:pt x="281" y="2241"/>
                  </a:lnTo>
                  <a:lnTo>
                    <a:pt x="271" y="2237"/>
                  </a:lnTo>
                  <a:lnTo>
                    <a:pt x="260" y="2231"/>
                  </a:lnTo>
                  <a:lnTo>
                    <a:pt x="254" y="2225"/>
                  </a:lnTo>
                  <a:lnTo>
                    <a:pt x="240" y="2225"/>
                  </a:lnTo>
                  <a:lnTo>
                    <a:pt x="229" y="2225"/>
                  </a:lnTo>
                  <a:lnTo>
                    <a:pt x="217" y="2225"/>
                  </a:lnTo>
                  <a:lnTo>
                    <a:pt x="206" y="2225"/>
                  </a:lnTo>
                  <a:lnTo>
                    <a:pt x="188" y="2219"/>
                  </a:lnTo>
                  <a:lnTo>
                    <a:pt x="176" y="2215"/>
                  </a:lnTo>
                  <a:lnTo>
                    <a:pt x="167" y="2210"/>
                  </a:lnTo>
                  <a:lnTo>
                    <a:pt x="159" y="2208"/>
                  </a:lnTo>
                  <a:lnTo>
                    <a:pt x="151" y="2204"/>
                  </a:lnTo>
                  <a:lnTo>
                    <a:pt x="143" y="2200"/>
                  </a:lnTo>
                  <a:lnTo>
                    <a:pt x="132" y="2194"/>
                  </a:lnTo>
                  <a:lnTo>
                    <a:pt x="122" y="2188"/>
                  </a:lnTo>
                  <a:lnTo>
                    <a:pt x="109" y="2175"/>
                  </a:lnTo>
                  <a:lnTo>
                    <a:pt x="101" y="2167"/>
                  </a:lnTo>
                  <a:lnTo>
                    <a:pt x="93" y="2161"/>
                  </a:lnTo>
                  <a:lnTo>
                    <a:pt x="85" y="2155"/>
                  </a:lnTo>
                  <a:lnTo>
                    <a:pt x="74" y="2138"/>
                  </a:lnTo>
                  <a:lnTo>
                    <a:pt x="64" y="2120"/>
                  </a:lnTo>
                  <a:lnTo>
                    <a:pt x="52" y="2103"/>
                  </a:lnTo>
                  <a:lnTo>
                    <a:pt x="43" y="2087"/>
                  </a:lnTo>
                  <a:lnTo>
                    <a:pt x="33" y="2062"/>
                  </a:lnTo>
                  <a:lnTo>
                    <a:pt x="27" y="2041"/>
                  </a:lnTo>
                  <a:lnTo>
                    <a:pt x="21" y="2021"/>
                  </a:lnTo>
                  <a:lnTo>
                    <a:pt x="17" y="2006"/>
                  </a:lnTo>
                  <a:lnTo>
                    <a:pt x="12" y="1990"/>
                  </a:lnTo>
                  <a:lnTo>
                    <a:pt x="8" y="1979"/>
                  </a:lnTo>
                  <a:lnTo>
                    <a:pt x="2" y="1967"/>
                  </a:lnTo>
                  <a:lnTo>
                    <a:pt x="0" y="1961"/>
                  </a:lnTo>
                  <a:lnTo>
                    <a:pt x="0" y="1932"/>
                  </a:lnTo>
                  <a:lnTo>
                    <a:pt x="2" y="1911"/>
                  </a:lnTo>
                  <a:lnTo>
                    <a:pt x="4" y="1891"/>
                  </a:lnTo>
                  <a:lnTo>
                    <a:pt x="6" y="1880"/>
                  </a:lnTo>
                  <a:lnTo>
                    <a:pt x="6" y="1868"/>
                  </a:lnTo>
                  <a:lnTo>
                    <a:pt x="8" y="1858"/>
                  </a:lnTo>
                  <a:lnTo>
                    <a:pt x="10" y="1845"/>
                  </a:lnTo>
                  <a:lnTo>
                    <a:pt x="15" y="1833"/>
                  </a:lnTo>
                  <a:lnTo>
                    <a:pt x="23" y="1827"/>
                  </a:lnTo>
                  <a:lnTo>
                    <a:pt x="27" y="1824"/>
                  </a:lnTo>
                  <a:lnTo>
                    <a:pt x="29" y="1810"/>
                  </a:lnTo>
                  <a:lnTo>
                    <a:pt x="33" y="1796"/>
                  </a:lnTo>
                  <a:lnTo>
                    <a:pt x="35" y="1783"/>
                  </a:lnTo>
                  <a:lnTo>
                    <a:pt x="37" y="1771"/>
                  </a:lnTo>
                  <a:lnTo>
                    <a:pt x="45" y="1756"/>
                  </a:lnTo>
                  <a:lnTo>
                    <a:pt x="58" y="1744"/>
                  </a:lnTo>
                  <a:lnTo>
                    <a:pt x="68" y="1738"/>
                  </a:lnTo>
                  <a:lnTo>
                    <a:pt x="79" y="1732"/>
                  </a:lnTo>
                  <a:lnTo>
                    <a:pt x="79" y="1717"/>
                  </a:lnTo>
                  <a:lnTo>
                    <a:pt x="79" y="1701"/>
                  </a:lnTo>
                  <a:lnTo>
                    <a:pt x="79" y="1682"/>
                  </a:lnTo>
                  <a:lnTo>
                    <a:pt x="79" y="1663"/>
                  </a:lnTo>
                  <a:lnTo>
                    <a:pt x="78" y="1639"/>
                  </a:lnTo>
                  <a:lnTo>
                    <a:pt x="76" y="1616"/>
                  </a:lnTo>
                  <a:lnTo>
                    <a:pt x="76" y="1589"/>
                  </a:lnTo>
                  <a:lnTo>
                    <a:pt x="79" y="1564"/>
                  </a:lnTo>
                  <a:lnTo>
                    <a:pt x="83" y="1546"/>
                  </a:lnTo>
                  <a:lnTo>
                    <a:pt x="87" y="1537"/>
                  </a:lnTo>
                  <a:lnTo>
                    <a:pt x="87" y="1527"/>
                  </a:lnTo>
                  <a:lnTo>
                    <a:pt x="89" y="1511"/>
                  </a:lnTo>
                  <a:lnTo>
                    <a:pt x="109" y="1507"/>
                  </a:lnTo>
                  <a:lnTo>
                    <a:pt x="128" y="1505"/>
                  </a:lnTo>
                  <a:lnTo>
                    <a:pt x="145" y="1502"/>
                  </a:lnTo>
                  <a:lnTo>
                    <a:pt x="165" y="1500"/>
                  </a:lnTo>
                  <a:lnTo>
                    <a:pt x="182" y="1496"/>
                  </a:lnTo>
                  <a:lnTo>
                    <a:pt x="202" y="1492"/>
                  </a:lnTo>
                  <a:lnTo>
                    <a:pt x="219" y="1488"/>
                  </a:lnTo>
                  <a:lnTo>
                    <a:pt x="239" y="1486"/>
                  </a:lnTo>
                  <a:lnTo>
                    <a:pt x="266" y="1482"/>
                  </a:lnTo>
                  <a:lnTo>
                    <a:pt x="293" y="1480"/>
                  </a:lnTo>
                  <a:lnTo>
                    <a:pt x="320" y="1478"/>
                  </a:lnTo>
                  <a:lnTo>
                    <a:pt x="349" y="1476"/>
                  </a:lnTo>
                  <a:lnTo>
                    <a:pt x="376" y="1472"/>
                  </a:lnTo>
                  <a:lnTo>
                    <a:pt x="403" y="1472"/>
                  </a:lnTo>
                  <a:lnTo>
                    <a:pt x="431" y="1469"/>
                  </a:lnTo>
                  <a:lnTo>
                    <a:pt x="460" y="1469"/>
                  </a:lnTo>
                  <a:lnTo>
                    <a:pt x="574" y="1467"/>
                  </a:lnTo>
                  <a:lnTo>
                    <a:pt x="667" y="1467"/>
                  </a:lnTo>
                  <a:lnTo>
                    <a:pt x="741" y="1467"/>
                  </a:lnTo>
                  <a:lnTo>
                    <a:pt x="807" y="1467"/>
                  </a:lnTo>
                  <a:lnTo>
                    <a:pt x="863" y="1467"/>
                  </a:lnTo>
                  <a:lnTo>
                    <a:pt x="927" y="1467"/>
                  </a:lnTo>
                  <a:lnTo>
                    <a:pt x="995" y="1467"/>
                  </a:lnTo>
                  <a:lnTo>
                    <a:pt x="1082" y="1469"/>
                  </a:lnTo>
                  <a:lnTo>
                    <a:pt x="1100" y="1469"/>
                  </a:lnTo>
                  <a:lnTo>
                    <a:pt x="1117" y="1469"/>
                  </a:lnTo>
                  <a:lnTo>
                    <a:pt x="1135" y="1469"/>
                  </a:lnTo>
                  <a:lnTo>
                    <a:pt x="1152" y="1471"/>
                  </a:lnTo>
                  <a:lnTo>
                    <a:pt x="1167" y="1472"/>
                  </a:lnTo>
                  <a:lnTo>
                    <a:pt x="1185" y="1474"/>
                  </a:lnTo>
                  <a:lnTo>
                    <a:pt x="1202" y="1476"/>
                  </a:lnTo>
                  <a:lnTo>
                    <a:pt x="1220" y="1480"/>
                  </a:lnTo>
                  <a:lnTo>
                    <a:pt x="1261" y="1420"/>
                  </a:lnTo>
                  <a:lnTo>
                    <a:pt x="1292" y="1377"/>
                  </a:lnTo>
                  <a:lnTo>
                    <a:pt x="1317" y="1341"/>
                  </a:lnTo>
                  <a:lnTo>
                    <a:pt x="1338" y="1315"/>
                  </a:lnTo>
                  <a:lnTo>
                    <a:pt x="1356" y="1290"/>
                  </a:lnTo>
                  <a:lnTo>
                    <a:pt x="1373" y="1269"/>
                  </a:lnTo>
                  <a:lnTo>
                    <a:pt x="1394" y="1246"/>
                  </a:lnTo>
                  <a:lnTo>
                    <a:pt x="1422" y="1216"/>
                  </a:lnTo>
                  <a:lnTo>
                    <a:pt x="1482" y="1154"/>
                  </a:lnTo>
                  <a:lnTo>
                    <a:pt x="1532" y="1106"/>
                  </a:lnTo>
                  <a:lnTo>
                    <a:pt x="1569" y="1069"/>
                  </a:lnTo>
                  <a:lnTo>
                    <a:pt x="1600" y="1042"/>
                  </a:lnTo>
                  <a:lnTo>
                    <a:pt x="1623" y="1017"/>
                  </a:lnTo>
                  <a:lnTo>
                    <a:pt x="1648" y="993"/>
                  </a:lnTo>
                  <a:lnTo>
                    <a:pt x="1676" y="970"/>
                  </a:lnTo>
                  <a:lnTo>
                    <a:pt x="1710" y="941"/>
                  </a:lnTo>
                  <a:lnTo>
                    <a:pt x="1722" y="931"/>
                  </a:lnTo>
                  <a:lnTo>
                    <a:pt x="1734" y="924"/>
                  </a:lnTo>
                  <a:lnTo>
                    <a:pt x="1745" y="916"/>
                  </a:lnTo>
                  <a:lnTo>
                    <a:pt x="1757" y="908"/>
                  </a:lnTo>
                  <a:lnTo>
                    <a:pt x="1769" y="898"/>
                  </a:lnTo>
                  <a:lnTo>
                    <a:pt x="1780" y="891"/>
                  </a:lnTo>
                  <a:lnTo>
                    <a:pt x="1792" y="881"/>
                  </a:lnTo>
                  <a:lnTo>
                    <a:pt x="1806" y="873"/>
                  </a:lnTo>
                  <a:lnTo>
                    <a:pt x="1827" y="860"/>
                  </a:lnTo>
                  <a:lnTo>
                    <a:pt x="1846" y="848"/>
                  </a:lnTo>
                  <a:lnTo>
                    <a:pt x="1866" y="838"/>
                  </a:lnTo>
                  <a:lnTo>
                    <a:pt x="1887" y="829"/>
                  </a:lnTo>
                  <a:lnTo>
                    <a:pt x="1906" y="815"/>
                  </a:lnTo>
                  <a:lnTo>
                    <a:pt x="1930" y="803"/>
                  </a:lnTo>
                  <a:lnTo>
                    <a:pt x="1955" y="790"/>
                  </a:lnTo>
                  <a:lnTo>
                    <a:pt x="1986" y="778"/>
                  </a:lnTo>
                  <a:lnTo>
                    <a:pt x="1999" y="770"/>
                  </a:lnTo>
                  <a:lnTo>
                    <a:pt x="2017" y="765"/>
                  </a:lnTo>
                  <a:lnTo>
                    <a:pt x="2030" y="759"/>
                  </a:lnTo>
                  <a:lnTo>
                    <a:pt x="2048" y="753"/>
                  </a:lnTo>
                  <a:lnTo>
                    <a:pt x="2062" y="747"/>
                  </a:lnTo>
                  <a:lnTo>
                    <a:pt x="2077" y="741"/>
                  </a:lnTo>
                  <a:lnTo>
                    <a:pt x="2091" y="735"/>
                  </a:lnTo>
                  <a:lnTo>
                    <a:pt x="2106" y="730"/>
                  </a:lnTo>
                  <a:lnTo>
                    <a:pt x="2122" y="724"/>
                  </a:lnTo>
                  <a:lnTo>
                    <a:pt x="2137" y="724"/>
                  </a:lnTo>
                  <a:lnTo>
                    <a:pt x="2153" y="722"/>
                  </a:lnTo>
                  <a:lnTo>
                    <a:pt x="2170" y="720"/>
                  </a:lnTo>
                  <a:lnTo>
                    <a:pt x="2178" y="699"/>
                  </a:lnTo>
                  <a:lnTo>
                    <a:pt x="2186" y="683"/>
                  </a:lnTo>
                  <a:lnTo>
                    <a:pt x="2191" y="671"/>
                  </a:lnTo>
                  <a:lnTo>
                    <a:pt x="2199" y="660"/>
                  </a:lnTo>
                  <a:lnTo>
                    <a:pt x="2205" y="646"/>
                  </a:lnTo>
                  <a:lnTo>
                    <a:pt x="2213" y="635"/>
                  </a:lnTo>
                  <a:lnTo>
                    <a:pt x="2224" y="617"/>
                  </a:lnTo>
                  <a:lnTo>
                    <a:pt x="2240" y="598"/>
                  </a:lnTo>
                  <a:lnTo>
                    <a:pt x="2254" y="576"/>
                  </a:lnTo>
                  <a:lnTo>
                    <a:pt x="2267" y="563"/>
                  </a:lnTo>
                  <a:lnTo>
                    <a:pt x="2277" y="549"/>
                  </a:lnTo>
                  <a:lnTo>
                    <a:pt x="2286" y="540"/>
                  </a:lnTo>
                  <a:lnTo>
                    <a:pt x="2294" y="530"/>
                  </a:lnTo>
                  <a:lnTo>
                    <a:pt x="2306" y="520"/>
                  </a:lnTo>
                  <a:lnTo>
                    <a:pt x="2319" y="507"/>
                  </a:lnTo>
                  <a:lnTo>
                    <a:pt x="2339" y="493"/>
                  </a:lnTo>
                  <a:lnTo>
                    <a:pt x="2349" y="487"/>
                  </a:lnTo>
                  <a:lnTo>
                    <a:pt x="2356" y="483"/>
                  </a:lnTo>
                  <a:lnTo>
                    <a:pt x="2364" y="477"/>
                  </a:lnTo>
                  <a:lnTo>
                    <a:pt x="2372" y="476"/>
                  </a:lnTo>
                  <a:lnTo>
                    <a:pt x="2380" y="472"/>
                  </a:lnTo>
                  <a:lnTo>
                    <a:pt x="2389" y="468"/>
                  </a:lnTo>
                  <a:lnTo>
                    <a:pt x="2401" y="462"/>
                  </a:lnTo>
                  <a:lnTo>
                    <a:pt x="2418" y="456"/>
                  </a:lnTo>
                  <a:lnTo>
                    <a:pt x="2447" y="419"/>
                  </a:lnTo>
                  <a:lnTo>
                    <a:pt x="2473" y="392"/>
                  </a:lnTo>
                  <a:lnTo>
                    <a:pt x="2492" y="369"/>
                  </a:lnTo>
                  <a:lnTo>
                    <a:pt x="2511" y="351"/>
                  </a:lnTo>
                  <a:lnTo>
                    <a:pt x="2529" y="332"/>
                  </a:lnTo>
                  <a:lnTo>
                    <a:pt x="2548" y="315"/>
                  </a:lnTo>
                  <a:lnTo>
                    <a:pt x="2572" y="291"/>
                  </a:lnTo>
                  <a:lnTo>
                    <a:pt x="2603" y="266"/>
                  </a:lnTo>
                  <a:lnTo>
                    <a:pt x="2622" y="251"/>
                  </a:lnTo>
                  <a:lnTo>
                    <a:pt x="2643" y="235"/>
                  </a:lnTo>
                  <a:lnTo>
                    <a:pt x="2663" y="220"/>
                  </a:lnTo>
                  <a:lnTo>
                    <a:pt x="2684" y="206"/>
                  </a:lnTo>
                  <a:lnTo>
                    <a:pt x="2703" y="188"/>
                  </a:lnTo>
                  <a:lnTo>
                    <a:pt x="2725" y="171"/>
                  </a:lnTo>
                  <a:lnTo>
                    <a:pt x="2746" y="154"/>
                  </a:lnTo>
                  <a:lnTo>
                    <a:pt x="2767" y="138"/>
                  </a:lnTo>
                  <a:lnTo>
                    <a:pt x="2816" y="109"/>
                  </a:lnTo>
                  <a:lnTo>
                    <a:pt x="2853" y="90"/>
                  </a:lnTo>
                  <a:lnTo>
                    <a:pt x="2882" y="74"/>
                  </a:lnTo>
                  <a:lnTo>
                    <a:pt x="2905" y="62"/>
                  </a:lnTo>
                  <a:lnTo>
                    <a:pt x="2923" y="51"/>
                  </a:lnTo>
                  <a:lnTo>
                    <a:pt x="2942" y="43"/>
                  </a:lnTo>
                  <a:lnTo>
                    <a:pt x="2961" y="31"/>
                  </a:lnTo>
                  <a:lnTo>
                    <a:pt x="2989" y="22"/>
                  </a:lnTo>
                  <a:lnTo>
                    <a:pt x="3004" y="18"/>
                  </a:lnTo>
                  <a:lnTo>
                    <a:pt x="3023" y="14"/>
                  </a:lnTo>
                  <a:lnTo>
                    <a:pt x="3041" y="10"/>
                  </a:lnTo>
                  <a:lnTo>
                    <a:pt x="3058" y="6"/>
                  </a:lnTo>
                  <a:lnTo>
                    <a:pt x="3072" y="0"/>
                  </a:lnTo>
                  <a:lnTo>
                    <a:pt x="3089" y="0"/>
                  </a:lnTo>
                  <a:lnTo>
                    <a:pt x="3105" y="0"/>
                  </a:lnTo>
                  <a:lnTo>
                    <a:pt x="3126" y="0"/>
                  </a:lnTo>
                  <a:lnTo>
                    <a:pt x="3146" y="8"/>
                  </a:lnTo>
                  <a:lnTo>
                    <a:pt x="3165" y="20"/>
                  </a:lnTo>
                  <a:lnTo>
                    <a:pt x="3184" y="29"/>
                  </a:lnTo>
                  <a:lnTo>
                    <a:pt x="3206" y="39"/>
                  </a:lnTo>
                  <a:lnTo>
                    <a:pt x="3215" y="49"/>
                  </a:lnTo>
                  <a:lnTo>
                    <a:pt x="3227" y="59"/>
                  </a:lnTo>
                  <a:lnTo>
                    <a:pt x="3229" y="70"/>
                  </a:lnTo>
                  <a:lnTo>
                    <a:pt x="3233" y="82"/>
                  </a:lnTo>
                  <a:lnTo>
                    <a:pt x="3237" y="93"/>
                  </a:lnTo>
                  <a:lnTo>
                    <a:pt x="3243" y="107"/>
                  </a:lnTo>
                  <a:lnTo>
                    <a:pt x="3241" y="123"/>
                  </a:lnTo>
                  <a:lnTo>
                    <a:pt x="3241" y="138"/>
                  </a:lnTo>
                  <a:lnTo>
                    <a:pt x="3239" y="148"/>
                  </a:lnTo>
                  <a:lnTo>
                    <a:pt x="3239" y="159"/>
                  </a:lnTo>
                  <a:lnTo>
                    <a:pt x="3235" y="167"/>
                  </a:lnTo>
                  <a:lnTo>
                    <a:pt x="3235" y="177"/>
                  </a:lnTo>
                  <a:lnTo>
                    <a:pt x="3231" y="188"/>
                  </a:lnTo>
                  <a:lnTo>
                    <a:pt x="3231" y="202"/>
                  </a:lnTo>
                  <a:lnTo>
                    <a:pt x="3227" y="204"/>
                  </a:lnTo>
                  <a:lnTo>
                    <a:pt x="3225" y="212"/>
                  </a:lnTo>
                  <a:lnTo>
                    <a:pt x="3223" y="214"/>
                  </a:lnTo>
                  <a:lnTo>
                    <a:pt x="3223" y="221"/>
                  </a:lnTo>
                  <a:lnTo>
                    <a:pt x="3221" y="231"/>
                  </a:lnTo>
                  <a:lnTo>
                    <a:pt x="3221" y="245"/>
                  </a:lnTo>
                  <a:lnTo>
                    <a:pt x="3212" y="262"/>
                  </a:lnTo>
                  <a:lnTo>
                    <a:pt x="3202" y="284"/>
                  </a:lnTo>
                  <a:lnTo>
                    <a:pt x="3196" y="293"/>
                  </a:lnTo>
                  <a:lnTo>
                    <a:pt x="3192" y="305"/>
                  </a:lnTo>
                  <a:lnTo>
                    <a:pt x="3186" y="316"/>
                  </a:lnTo>
                  <a:lnTo>
                    <a:pt x="3184" y="328"/>
                  </a:lnTo>
                  <a:lnTo>
                    <a:pt x="3163" y="355"/>
                  </a:lnTo>
                  <a:lnTo>
                    <a:pt x="3144" y="382"/>
                  </a:lnTo>
                  <a:lnTo>
                    <a:pt x="3122" y="410"/>
                  </a:lnTo>
                  <a:lnTo>
                    <a:pt x="3103" y="439"/>
                  </a:lnTo>
                  <a:lnTo>
                    <a:pt x="3082" y="468"/>
                  </a:lnTo>
                  <a:lnTo>
                    <a:pt x="3060" y="497"/>
                  </a:lnTo>
                  <a:lnTo>
                    <a:pt x="3039" y="526"/>
                  </a:lnTo>
                  <a:lnTo>
                    <a:pt x="3020" y="555"/>
                  </a:lnTo>
                  <a:lnTo>
                    <a:pt x="2983" y="586"/>
                  </a:lnTo>
                  <a:lnTo>
                    <a:pt x="2958" y="613"/>
                  </a:lnTo>
                  <a:lnTo>
                    <a:pt x="2936" y="631"/>
                  </a:lnTo>
                  <a:lnTo>
                    <a:pt x="2923" y="646"/>
                  </a:lnTo>
                  <a:lnTo>
                    <a:pt x="2911" y="656"/>
                  </a:lnTo>
                  <a:lnTo>
                    <a:pt x="2903" y="664"/>
                  </a:lnTo>
                  <a:lnTo>
                    <a:pt x="2894" y="671"/>
                  </a:lnTo>
                  <a:lnTo>
                    <a:pt x="2884" y="683"/>
                  </a:lnTo>
                  <a:lnTo>
                    <a:pt x="2884" y="691"/>
                  </a:lnTo>
                  <a:lnTo>
                    <a:pt x="2884" y="704"/>
                  </a:lnTo>
                  <a:lnTo>
                    <a:pt x="2888" y="706"/>
                  </a:lnTo>
                  <a:lnTo>
                    <a:pt x="2894" y="710"/>
                  </a:lnTo>
                  <a:lnTo>
                    <a:pt x="2894" y="714"/>
                  </a:lnTo>
                  <a:lnTo>
                    <a:pt x="2897" y="720"/>
                  </a:lnTo>
                  <a:lnTo>
                    <a:pt x="2899" y="728"/>
                  </a:lnTo>
                  <a:lnTo>
                    <a:pt x="2905" y="741"/>
                  </a:lnTo>
                  <a:lnTo>
                    <a:pt x="2903" y="755"/>
                  </a:lnTo>
                  <a:lnTo>
                    <a:pt x="2901" y="770"/>
                  </a:lnTo>
                  <a:lnTo>
                    <a:pt x="2899" y="782"/>
                  </a:lnTo>
                  <a:lnTo>
                    <a:pt x="2899" y="799"/>
                  </a:lnTo>
                  <a:lnTo>
                    <a:pt x="2923" y="801"/>
                  </a:lnTo>
                  <a:lnTo>
                    <a:pt x="2950" y="805"/>
                  </a:lnTo>
                  <a:lnTo>
                    <a:pt x="2975" y="811"/>
                  </a:lnTo>
                  <a:lnTo>
                    <a:pt x="3004" y="817"/>
                  </a:lnTo>
                  <a:lnTo>
                    <a:pt x="3031" y="823"/>
                  </a:lnTo>
                  <a:lnTo>
                    <a:pt x="3058" y="829"/>
                  </a:lnTo>
                  <a:lnTo>
                    <a:pt x="3086" y="834"/>
                  </a:lnTo>
                  <a:lnTo>
                    <a:pt x="3115" y="840"/>
                  </a:lnTo>
                  <a:lnTo>
                    <a:pt x="3142" y="850"/>
                  </a:lnTo>
                  <a:lnTo>
                    <a:pt x="3163" y="858"/>
                  </a:lnTo>
                  <a:lnTo>
                    <a:pt x="3179" y="863"/>
                  </a:lnTo>
                  <a:lnTo>
                    <a:pt x="3192" y="869"/>
                  </a:lnTo>
                  <a:lnTo>
                    <a:pt x="3210" y="873"/>
                  </a:lnTo>
                  <a:lnTo>
                    <a:pt x="3227" y="877"/>
                  </a:lnTo>
                  <a:lnTo>
                    <a:pt x="3237" y="883"/>
                  </a:lnTo>
                  <a:lnTo>
                    <a:pt x="3245" y="889"/>
                  </a:lnTo>
                  <a:lnTo>
                    <a:pt x="3250" y="894"/>
                  </a:lnTo>
                  <a:lnTo>
                    <a:pt x="3258" y="900"/>
                  </a:lnTo>
                  <a:lnTo>
                    <a:pt x="3264" y="904"/>
                  </a:lnTo>
                  <a:lnTo>
                    <a:pt x="3274" y="912"/>
                  </a:lnTo>
                  <a:lnTo>
                    <a:pt x="3285" y="922"/>
                  </a:lnTo>
                  <a:lnTo>
                    <a:pt x="3301" y="935"/>
                  </a:lnTo>
                  <a:lnTo>
                    <a:pt x="3301" y="941"/>
                  </a:lnTo>
                  <a:lnTo>
                    <a:pt x="3305" y="955"/>
                  </a:lnTo>
                  <a:lnTo>
                    <a:pt x="3309" y="966"/>
                  </a:lnTo>
                  <a:lnTo>
                    <a:pt x="3314" y="986"/>
                  </a:lnTo>
                  <a:lnTo>
                    <a:pt x="3320" y="1005"/>
                  </a:lnTo>
                  <a:lnTo>
                    <a:pt x="3332" y="1034"/>
                  </a:lnTo>
                  <a:lnTo>
                    <a:pt x="3343" y="1065"/>
                  </a:lnTo>
                  <a:lnTo>
                    <a:pt x="3359" y="1106"/>
                  </a:lnTo>
                  <a:lnTo>
                    <a:pt x="3365" y="1135"/>
                  </a:lnTo>
                  <a:lnTo>
                    <a:pt x="3374" y="1168"/>
                  </a:lnTo>
                  <a:lnTo>
                    <a:pt x="3384" y="1199"/>
                  </a:lnTo>
                  <a:lnTo>
                    <a:pt x="3396" y="1234"/>
                  </a:lnTo>
                  <a:lnTo>
                    <a:pt x="3406" y="1265"/>
                  </a:lnTo>
                  <a:lnTo>
                    <a:pt x="3417" y="1298"/>
                  </a:lnTo>
                  <a:lnTo>
                    <a:pt x="3427" y="1331"/>
                  </a:lnTo>
                  <a:lnTo>
                    <a:pt x="3438" y="1364"/>
                  </a:lnTo>
                  <a:lnTo>
                    <a:pt x="3446" y="1410"/>
                  </a:lnTo>
                  <a:lnTo>
                    <a:pt x="3458" y="1457"/>
                  </a:lnTo>
                  <a:lnTo>
                    <a:pt x="3468" y="1504"/>
                  </a:lnTo>
                  <a:lnTo>
                    <a:pt x="3479" y="1552"/>
                  </a:lnTo>
                  <a:lnTo>
                    <a:pt x="3489" y="1599"/>
                  </a:lnTo>
                  <a:lnTo>
                    <a:pt x="3501" y="1645"/>
                  </a:lnTo>
                  <a:lnTo>
                    <a:pt x="3510" y="1692"/>
                  </a:lnTo>
                  <a:lnTo>
                    <a:pt x="3522" y="1738"/>
                  </a:lnTo>
                  <a:lnTo>
                    <a:pt x="3543" y="1748"/>
                  </a:lnTo>
                  <a:lnTo>
                    <a:pt x="3563" y="1756"/>
                  </a:lnTo>
                  <a:lnTo>
                    <a:pt x="3578" y="1763"/>
                  </a:lnTo>
                  <a:lnTo>
                    <a:pt x="3594" y="1771"/>
                  </a:lnTo>
                  <a:lnTo>
                    <a:pt x="3607" y="1777"/>
                  </a:lnTo>
                  <a:lnTo>
                    <a:pt x="3627" y="1787"/>
                  </a:lnTo>
                  <a:lnTo>
                    <a:pt x="3650" y="1796"/>
                  </a:lnTo>
                  <a:lnTo>
                    <a:pt x="3681" y="1812"/>
                  </a:lnTo>
                  <a:lnTo>
                    <a:pt x="3712" y="1835"/>
                  </a:lnTo>
                  <a:lnTo>
                    <a:pt x="3739" y="1853"/>
                  </a:lnTo>
                  <a:lnTo>
                    <a:pt x="3757" y="1866"/>
                  </a:lnTo>
                  <a:lnTo>
                    <a:pt x="3770" y="1876"/>
                  </a:lnTo>
                  <a:lnTo>
                    <a:pt x="3784" y="1886"/>
                  </a:lnTo>
                  <a:lnTo>
                    <a:pt x="3791" y="1891"/>
                  </a:lnTo>
                  <a:lnTo>
                    <a:pt x="3855" y="1969"/>
                  </a:lnTo>
                  <a:lnTo>
                    <a:pt x="3904" y="2029"/>
                  </a:lnTo>
                  <a:lnTo>
                    <a:pt x="3941" y="2074"/>
                  </a:lnTo>
                  <a:lnTo>
                    <a:pt x="3970" y="2109"/>
                  </a:lnTo>
                  <a:lnTo>
                    <a:pt x="3989" y="2134"/>
                  </a:lnTo>
                  <a:lnTo>
                    <a:pt x="4007" y="2157"/>
                  </a:lnTo>
                  <a:lnTo>
                    <a:pt x="4020" y="2177"/>
                  </a:lnTo>
                  <a:lnTo>
                    <a:pt x="4040" y="2198"/>
                  </a:lnTo>
                  <a:lnTo>
                    <a:pt x="4051" y="2215"/>
                  </a:lnTo>
                  <a:lnTo>
                    <a:pt x="4063" y="2237"/>
                  </a:lnTo>
                  <a:lnTo>
                    <a:pt x="4075" y="2256"/>
                  </a:lnTo>
                  <a:lnTo>
                    <a:pt x="4088" y="2279"/>
                  </a:lnTo>
                  <a:lnTo>
                    <a:pt x="4100" y="2301"/>
                  </a:lnTo>
                  <a:lnTo>
                    <a:pt x="4113" y="2322"/>
                  </a:lnTo>
                  <a:lnTo>
                    <a:pt x="4127" y="2343"/>
                  </a:lnTo>
                  <a:lnTo>
                    <a:pt x="4141" y="2367"/>
                  </a:lnTo>
                  <a:lnTo>
                    <a:pt x="4152" y="2404"/>
                  </a:lnTo>
                  <a:lnTo>
                    <a:pt x="4162" y="2433"/>
                  </a:lnTo>
                  <a:lnTo>
                    <a:pt x="4170" y="2454"/>
                  </a:lnTo>
                  <a:lnTo>
                    <a:pt x="4177" y="2469"/>
                  </a:lnTo>
                  <a:lnTo>
                    <a:pt x="4179" y="2479"/>
                  </a:lnTo>
                  <a:lnTo>
                    <a:pt x="4185" y="2487"/>
                  </a:lnTo>
                  <a:lnTo>
                    <a:pt x="4187" y="2493"/>
                  </a:lnTo>
                  <a:lnTo>
                    <a:pt x="4193" y="2499"/>
                  </a:lnTo>
                  <a:lnTo>
                    <a:pt x="4195" y="2516"/>
                  </a:lnTo>
                  <a:lnTo>
                    <a:pt x="4201" y="2535"/>
                  </a:lnTo>
                  <a:lnTo>
                    <a:pt x="4206" y="2555"/>
                  </a:lnTo>
                  <a:lnTo>
                    <a:pt x="4212" y="2578"/>
                  </a:lnTo>
                  <a:lnTo>
                    <a:pt x="4218" y="2601"/>
                  </a:lnTo>
                  <a:lnTo>
                    <a:pt x="4224" y="2625"/>
                  </a:lnTo>
                  <a:lnTo>
                    <a:pt x="4230" y="2650"/>
                  </a:lnTo>
                  <a:lnTo>
                    <a:pt x="4236" y="2679"/>
                  </a:lnTo>
                  <a:lnTo>
                    <a:pt x="4245" y="2677"/>
                  </a:lnTo>
                  <a:lnTo>
                    <a:pt x="4255" y="2677"/>
                  </a:lnTo>
                  <a:lnTo>
                    <a:pt x="4265" y="2675"/>
                  </a:lnTo>
                  <a:lnTo>
                    <a:pt x="4276" y="2673"/>
                  </a:lnTo>
                  <a:lnTo>
                    <a:pt x="4286" y="2673"/>
                  </a:lnTo>
                  <a:lnTo>
                    <a:pt x="4296" y="2673"/>
                  </a:lnTo>
                  <a:lnTo>
                    <a:pt x="4307" y="2673"/>
                  </a:lnTo>
                  <a:lnTo>
                    <a:pt x="4319" y="2675"/>
                  </a:lnTo>
                  <a:lnTo>
                    <a:pt x="4329" y="2675"/>
                  </a:lnTo>
                  <a:lnTo>
                    <a:pt x="4340" y="2677"/>
                  </a:lnTo>
                  <a:lnTo>
                    <a:pt x="4350" y="2677"/>
                  </a:lnTo>
                  <a:lnTo>
                    <a:pt x="4362" y="2679"/>
                  </a:lnTo>
                  <a:lnTo>
                    <a:pt x="4366" y="2683"/>
                  </a:lnTo>
                  <a:lnTo>
                    <a:pt x="4373" y="2689"/>
                  </a:lnTo>
                  <a:lnTo>
                    <a:pt x="4377" y="2689"/>
                  </a:lnTo>
                  <a:lnTo>
                    <a:pt x="4383" y="2693"/>
                  </a:lnTo>
                  <a:lnTo>
                    <a:pt x="4391" y="2694"/>
                  </a:lnTo>
                  <a:lnTo>
                    <a:pt x="4404" y="2700"/>
                  </a:lnTo>
                  <a:lnTo>
                    <a:pt x="4416" y="2708"/>
                  </a:lnTo>
                  <a:lnTo>
                    <a:pt x="4428" y="2720"/>
                  </a:lnTo>
                  <a:lnTo>
                    <a:pt x="4439" y="2733"/>
                  </a:lnTo>
                  <a:lnTo>
                    <a:pt x="4451" y="2747"/>
                  </a:lnTo>
                  <a:lnTo>
                    <a:pt x="4455" y="2768"/>
                  </a:lnTo>
                  <a:lnTo>
                    <a:pt x="4459" y="2788"/>
                  </a:lnTo>
                  <a:lnTo>
                    <a:pt x="4461" y="2801"/>
                  </a:lnTo>
                  <a:lnTo>
                    <a:pt x="4464" y="2815"/>
                  </a:lnTo>
                  <a:lnTo>
                    <a:pt x="4464" y="2826"/>
                  </a:lnTo>
                  <a:lnTo>
                    <a:pt x="4466" y="2840"/>
                  </a:lnTo>
                  <a:lnTo>
                    <a:pt x="4468" y="2857"/>
                  </a:lnTo>
                  <a:lnTo>
                    <a:pt x="4472" y="2879"/>
                  </a:lnTo>
                  <a:lnTo>
                    <a:pt x="4482" y="2894"/>
                  </a:lnTo>
                  <a:lnTo>
                    <a:pt x="4493" y="2912"/>
                  </a:lnTo>
                  <a:lnTo>
                    <a:pt x="4505" y="2921"/>
                  </a:lnTo>
                  <a:lnTo>
                    <a:pt x="4519" y="2931"/>
                  </a:lnTo>
                  <a:lnTo>
                    <a:pt x="4534" y="2941"/>
                  </a:lnTo>
                  <a:lnTo>
                    <a:pt x="4552" y="2952"/>
                  </a:lnTo>
                  <a:lnTo>
                    <a:pt x="4557" y="2970"/>
                  </a:lnTo>
                  <a:lnTo>
                    <a:pt x="4563" y="2985"/>
                  </a:lnTo>
                  <a:lnTo>
                    <a:pt x="4565" y="2995"/>
                  </a:lnTo>
                  <a:lnTo>
                    <a:pt x="4569" y="3005"/>
                  </a:lnTo>
                  <a:lnTo>
                    <a:pt x="4571" y="3016"/>
                  </a:lnTo>
                  <a:lnTo>
                    <a:pt x="4573" y="3032"/>
                  </a:lnTo>
                  <a:lnTo>
                    <a:pt x="4563" y="3042"/>
                  </a:lnTo>
                  <a:lnTo>
                    <a:pt x="4556" y="3051"/>
                  </a:lnTo>
                  <a:lnTo>
                    <a:pt x="4550" y="3059"/>
                  </a:lnTo>
                  <a:lnTo>
                    <a:pt x="4544" y="3069"/>
                  </a:lnTo>
                  <a:lnTo>
                    <a:pt x="4532" y="3082"/>
                  </a:lnTo>
                  <a:lnTo>
                    <a:pt x="4521" y="3102"/>
                  </a:lnTo>
                  <a:lnTo>
                    <a:pt x="4519" y="3117"/>
                  </a:lnTo>
                  <a:lnTo>
                    <a:pt x="4515" y="3133"/>
                  </a:lnTo>
                  <a:lnTo>
                    <a:pt x="4526" y="3143"/>
                  </a:lnTo>
                  <a:lnTo>
                    <a:pt x="4544" y="3160"/>
                  </a:lnTo>
                  <a:lnTo>
                    <a:pt x="4554" y="3170"/>
                  </a:lnTo>
                  <a:lnTo>
                    <a:pt x="4567" y="3183"/>
                  </a:lnTo>
                  <a:lnTo>
                    <a:pt x="4581" y="3195"/>
                  </a:lnTo>
                  <a:lnTo>
                    <a:pt x="4600" y="3212"/>
                  </a:lnTo>
                  <a:lnTo>
                    <a:pt x="4616" y="3216"/>
                  </a:lnTo>
                  <a:lnTo>
                    <a:pt x="4633" y="3222"/>
                  </a:lnTo>
                  <a:lnTo>
                    <a:pt x="4653" y="3230"/>
                  </a:lnTo>
                  <a:lnTo>
                    <a:pt x="4674" y="3238"/>
                  </a:lnTo>
                  <a:lnTo>
                    <a:pt x="4687" y="3236"/>
                  </a:lnTo>
                  <a:lnTo>
                    <a:pt x="4701" y="3236"/>
                  </a:lnTo>
                  <a:lnTo>
                    <a:pt x="4707" y="3234"/>
                  </a:lnTo>
                  <a:lnTo>
                    <a:pt x="4715" y="3232"/>
                  </a:lnTo>
                  <a:lnTo>
                    <a:pt x="4726" y="3230"/>
                  </a:lnTo>
                  <a:lnTo>
                    <a:pt x="4742" y="3228"/>
                  </a:lnTo>
                  <a:lnTo>
                    <a:pt x="4763" y="3212"/>
                  </a:lnTo>
                  <a:lnTo>
                    <a:pt x="4781" y="3201"/>
                  </a:lnTo>
                  <a:lnTo>
                    <a:pt x="4792" y="3193"/>
                  </a:lnTo>
                  <a:lnTo>
                    <a:pt x="4804" y="3187"/>
                  </a:lnTo>
                  <a:lnTo>
                    <a:pt x="4812" y="3179"/>
                  </a:lnTo>
                  <a:lnTo>
                    <a:pt x="4821" y="3174"/>
                  </a:lnTo>
                  <a:lnTo>
                    <a:pt x="4829" y="3166"/>
                  </a:lnTo>
                  <a:lnTo>
                    <a:pt x="4843" y="3160"/>
                  </a:lnTo>
                  <a:lnTo>
                    <a:pt x="4845" y="3146"/>
                  </a:lnTo>
                  <a:lnTo>
                    <a:pt x="4846" y="3139"/>
                  </a:lnTo>
                  <a:lnTo>
                    <a:pt x="4848" y="3129"/>
                  </a:lnTo>
                  <a:lnTo>
                    <a:pt x="4852" y="3121"/>
                  </a:lnTo>
                  <a:lnTo>
                    <a:pt x="4854" y="3110"/>
                  </a:lnTo>
                  <a:lnTo>
                    <a:pt x="4858" y="3098"/>
                  </a:lnTo>
                  <a:lnTo>
                    <a:pt x="4862" y="3080"/>
                  </a:lnTo>
                  <a:lnTo>
                    <a:pt x="4868" y="3059"/>
                  </a:lnTo>
                  <a:lnTo>
                    <a:pt x="4872" y="3042"/>
                  </a:lnTo>
                  <a:lnTo>
                    <a:pt x="4877" y="3030"/>
                  </a:lnTo>
                  <a:lnTo>
                    <a:pt x="4883" y="3018"/>
                  </a:lnTo>
                  <a:lnTo>
                    <a:pt x="4889" y="3007"/>
                  </a:lnTo>
                  <a:lnTo>
                    <a:pt x="4899" y="2997"/>
                  </a:lnTo>
                  <a:lnTo>
                    <a:pt x="4907" y="2993"/>
                  </a:lnTo>
                  <a:lnTo>
                    <a:pt x="4912" y="2987"/>
                  </a:lnTo>
                  <a:lnTo>
                    <a:pt x="4920" y="2987"/>
                  </a:lnTo>
                  <a:lnTo>
                    <a:pt x="4928" y="2982"/>
                  </a:lnTo>
                  <a:lnTo>
                    <a:pt x="4943" y="2980"/>
                  </a:lnTo>
                  <a:lnTo>
                    <a:pt x="4957" y="2980"/>
                  </a:lnTo>
                  <a:lnTo>
                    <a:pt x="4969" y="2980"/>
                  </a:lnTo>
                  <a:lnTo>
                    <a:pt x="4976" y="2983"/>
                  </a:lnTo>
                  <a:lnTo>
                    <a:pt x="4986" y="2989"/>
                  </a:lnTo>
                  <a:lnTo>
                    <a:pt x="4996" y="2997"/>
                  </a:lnTo>
                  <a:lnTo>
                    <a:pt x="5005" y="3007"/>
                  </a:lnTo>
                  <a:lnTo>
                    <a:pt x="5015" y="3018"/>
                  </a:lnTo>
                  <a:lnTo>
                    <a:pt x="5027" y="3032"/>
                  </a:lnTo>
                  <a:lnTo>
                    <a:pt x="5037" y="3046"/>
                  </a:lnTo>
                  <a:lnTo>
                    <a:pt x="5048" y="3059"/>
                  </a:lnTo>
                  <a:lnTo>
                    <a:pt x="5058" y="3084"/>
                  </a:lnTo>
                  <a:lnTo>
                    <a:pt x="5069" y="3106"/>
                  </a:lnTo>
                  <a:lnTo>
                    <a:pt x="5077" y="3121"/>
                  </a:lnTo>
                  <a:lnTo>
                    <a:pt x="5085" y="3135"/>
                  </a:lnTo>
                  <a:lnTo>
                    <a:pt x="5089" y="3144"/>
                  </a:lnTo>
                  <a:lnTo>
                    <a:pt x="5093" y="3152"/>
                  </a:lnTo>
                  <a:lnTo>
                    <a:pt x="5097" y="3160"/>
                  </a:lnTo>
                  <a:lnTo>
                    <a:pt x="5101" y="3170"/>
                  </a:lnTo>
                  <a:lnTo>
                    <a:pt x="5102" y="3172"/>
                  </a:lnTo>
                  <a:lnTo>
                    <a:pt x="5112" y="3181"/>
                  </a:lnTo>
                  <a:lnTo>
                    <a:pt x="5118" y="3208"/>
                  </a:lnTo>
                  <a:lnTo>
                    <a:pt x="5128" y="3236"/>
                  </a:lnTo>
                  <a:lnTo>
                    <a:pt x="5135" y="3265"/>
                  </a:lnTo>
                  <a:lnTo>
                    <a:pt x="5145" y="3294"/>
                  </a:lnTo>
                  <a:lnTo>
                    <a:pt x="5155" y="3323"/>
                  </a:lnTo>
                  <a:lnTo>
                    <a:pt x="5165" y="3352"/>
                  </a:lnTo>
                  <a:lnTo>
                    <a:pt x="5174" y="3381"/>
                  </a:lnTo>
                  <a:lnTo>
                    <a:pt x="5186" y="3412"/>
                  </a:lnTo>
                  <a:lnTo>
                    <a:pt x="5188" y="3430"/>
                  </a:lnTo>
                  <a:lnTo>
                    <a:pt x="5192" y="3447"/>
                  </a:lnTo>
                  <a:lnTo>
                    <a:pt x="5196" y="3464"/>
                  </a:lnTo>
                  <a:lnTo>
                    <a:pt x="5201" y="3484"/>
                  </a:lnTo>
                  <a:lnTo>
                    <a:pt x="5203" y="3501"/>
                  </a:lnTo>
                  <a:lnTo>
                    <a:pt x="5207" y="3521"/>
                  </a:lnTo>
                  <a:lnTo>
                    <a:pt x="5211" y="3540"/>
                  </a:lnTo>
                  <a:lnTo>
                    <a:pt x="5217" y="3561"/>
                  </a:lnTo>
                  <a:lnTo>
                    <a:pt x="5217" y="3581"/>
                  </a:lnTo>
                  <a:lnTo>
                    <a:pt x="5217" y="3602"/>
                  </a:lnTo>
                  <a:lnTo>
                    <a:pt x="5217" y="3624"/>
                  </a:lnTo>
                  <a:lnTo>
                    <a:pt x="5217" y="3647"/>
                  </a:lnTo>
                  <a:lnTo>
                    <a:pt x="5217" y="3668"/>
                  </a:lnTo>
                  <a:lnTo>
                    <a:pt x="5217" y="3689"/>
                  </a:lnTo>
                  <a:lnTo>
                    <a:pt x="5219" y="3711"/>
                  </a:lnTo>
                  <a:lnTo>
                    <a:pt x="5223" y="3734"/>
                  </a:lnTo>
                  <a:lnTo>
                    <a:pt x="5215" y="3750"/>
                  </a:lnTo>
                  <a:lnTo>
                    <a:pt x="5209" y="3769"/>
                  </a:lnTo>
                  <a:lnTo>
                    <a:pt x="5203" y="3788"/>
                  </a:lnTo>
                  <a:lnTo>
                    <a:pt x="5201" y="3810"/>
                  </a:lnTo>
                  <a:lnTo>
                    <a:pt x="5188" y="3823"/>
                  </a:lnTo>
                  <a:lnTo>
                    <a:pt x="5180" y="3833"/>
                  </a:lnTo>
                  <a:lnTo>
                    <a:pt x="5170" y="3839"/>
                  </a:lnTo>
                  <a:lnTo>
                    <a:pt x="5159" y="3847"/>
                  </a:lnTo>
                  <a:lnTo>
                    <a:pt x="5147" y="3847"/>
                  </a:lnTo>
                  <a:lnTo>
                    <a:pt x="5137" y="3847"/>
                  </a:lnTo>
                  <a:lnTo>
                    <a:pt x="5126" y="3847"/>
                  </a:lnTo>
                  <a:lnTo>
                    <a:pt x="5116" y="3850"/>
                  </a:lnTo>
                  <a:lnTo>
                    <a:pt x="5101" y="3843"/>
                  </a:lnTo>
                  <a:lnTo>
                    <a:pt x="5085" y="3835"/>
                  </a:lnTo>
                  <a:lnTo>
                    <a:pt x="5060" y="3806"/>
                  </a:lnTo>
                  <a:lnTo>
                    <a:pt x="5040" y="3786"/>
                  </a:lnTo>
                  <a:lnTo>
                    <a:pt x="5027" y="3771"/>
                  </a:lnTo>
                  <a:lnTo>
                    <a:pt x="5017" y="3761"/>
                  </a:lnTo>
                  <a:lnTo>
                    <a:pt x="5002" y="3744"/>
                  </a:lnTo>
                  <a:lnTo>
                    <a:pt x="4990" y="3730"/>
                  </a:lnTo>
                  <a:lnTo>
                    <a:pt x="4984" y="3711"/>
                  </a:lnTo>
                  <a:lnTo>
                    <a:pt x="4980" y="3699"/>
                  </a:lnTo>
                  <a:lnTo>
                    <a:pt x="4976" y="3691"/>
                  </a:lnTo>
                  <a:lnTo>
                    <a:pt x="4974" y="3684"/>
                  </a:lnTo>
                  <a:lnTo>
                    <a:pt x="4971" y="3676"/>
                  </a:lnTo>
                  <a:lnTo>
                    <a:pt x="4969" y="3666"/>
                  </a:lnTo>
                  <a:lnTo>
                    <a:pt x="4963" y="3655"/>
                  </a:lnTo>
                  <a:lnTo>
                    <a:pt x="4957" y="3645"/>
                  </a:lnTo>
                  <a:lnTo>
                    <a:pt x="4951" y="3635"/>
                  </a:lnTo>
                  <a:lnTo>
                    <a:pt x="4947" y="3629"/>
                  </a:lnTo>
                  <a:lnTo>
                    <a:pt x="4912" y="3616"/>
                  </a:lnTo>
                  <a:lnTo>
                    <a:pt x="4887" y="3606"/>
                  </a:lnTo>
                  <a:lnTo>
                    <a:pt x="4866" y="3596"/>
                  </a:lnTo>
                  <a:lnTo>
                    <a:pt x="4848" y="3591"/>
                  </a:lnTo>
                  <a:lnTo>
                    <a:pt x="4831" y="3581"/>
                  </a:lnTo>
                  <a:lnTo>
                    <a:pt x="4813" y="3573"/>
                  </a:lnTo>
                  <a:lnTo>
                    <a:pt x="4790" y="3561"/>
                  </a:lnTo>
                  <a:lnTo>
                    <a:pt x="4763" y="3550"/>
                  </a:lnTo>
                  <a:lnTo>
                    <a:pt x="4724" y="3525"/>
                  </a:lnTo>
                  <a:lnTo>
                    <a:pt x="4697" y="3505"/>
                  </a:lnTo>
                  <a:lnTo>
                    <a:pt x="4676" y="3490"/>
                  </a:lnTo>
                  <a:lnTo>
                    <a:pt x="4660" y="3480"/>
                  </a:lnTo>
                  <a:lnTo>
                    <a:pt x="4647" y="3470"/>
                  </a:lnTo>
                  <a:lnTo>
                    <a:pt x="4637" y="3463"/>
                  </a:lnTo>
                  <a:lnTo>
                    <a:pt x="4625" y="3455"/>
                  </a:lnTo>
                  <a:lnTo>
                    <a:pt x="4616" y="3445"/>
                  </a:lnTo>
                  <a:lnTo>
                    <a:pt x="4610" y="3445"/>
                  </a:lnTo>
                  <a:lnTo>
                    <a:pt x="4604" y="3445"/>
                  </a:lnTo>
                  <a:lnTo>
                    <a:pt x="4606" y="3451"/>
                  </a:lnTo>
                  <a:lnTo>
                    <a:pt x="4614" y="3463"/>
                  </a:lnTo>
                  <a:lnTo>
                    <a:pt x="4623" y="3480"/>
                  </a:lnTo>
                  <a:lnTo>
                    <a:pt x="4637" y="3503"/>
                  </a:lnTo>
                  <a:lnTo>
                    <a:pt x="4653" y="3532"/>
                  </a:lnTo>
                  <a:lnTo>
                    <a:pt x="4676" y="3567"/>
                  </a:lnTo>
                  <a:lnTo>
                    <a:pt x="4701" y="3612"/>
                  </a:lnTo>
                  <a:lnTo>
                    <a:pt x="4732" y="3666"/>
                  </a:lnTo>
                  <a:lnTo>
                    <a:pt x="4753" y="3722"/>
                  </a:lnTo>
                  <a:lnTo>
                    <a:pt x="4771" y="3767"/>
                  </a:lnTo>
                  <a:lnTo>
                    <a:pt x="4782" y="3800"/>
                  </a:lnTo>
                  <a:lnTo>
                    <a:pt x="4794" y="3827"/>
                  </a:lnTo>
                  <a:lnTo>
                    <a:pt x="4800" y="3845"/>
                  </a:lnTo>
                  <a:lnTo>
                    <a:pt x="4806" y="3864"/>
                  </a:lnTo>
                  <a:lnTo>
                    <a:pt x="4812" y="3883"/>
                  </a:lnTo>
                  <a:lnTo>
                    <a:pt x="4821" y="3909"/>
                  </a:lnTo>
                  <a:lnTo>
                    <a:pt x="4823" y="3934"/>
                  </a:lnTo>
                  <a:lnTo>
                    <a:pt x="4827" y="3959"/>
                  </a:lnTo>
                  <a:lnTo>
                    <a:pt x="4831" y="3984"/>
                  </a:lnTo>
                  <a:lnTo>
                    <a:pt x="4837" y="4011"/>
                  </a:lnTo>
                  <a:lnTo>
                    <a:pt x="4839" y="4037"/>
                  </a:lnTo>
                  <a:lnTo>
                    <a:pt x="4843" y="4062"/>
                  </a:lnTo>
                  <a:lnTo>
                    <a:pt x="4846" y="4087"/>
                  </a:lnTo>
                  <a:lnTo>
                    <a:pt x="4852" y="4114"/>
                  </a:lnTo>
                  <a:lnTo>
                    <a:pt x="4850" y="4130"/>
                  </a:lnTo>
                  <a:lnTo>
                    <a:pt x="4848" y="4147"/>
                  </a:lnTo>
                  <a:lnTo>
                    <a:pt x="4848" y="4165"/>
                  </a:lnTo>
                  <a:lnTo>
                    <a:pt x="4848" y="4182"/>
                  </a:lnTo>
                  <a:lnTo>
                    <a:pt x="4848" y="4200"/>
                  </a:lnTo>
                  <a:lnTo>
                    <a:pt x="4848" y="4217"/>
                  </a:lnTo>
                  <a:lnTo>
                    <a:pt x="4848" y="4235"/>
                  </a:lnTo>
                  <a:lnTo>
                    <a:pt x="4848" y="4252"/>
                  </a:lnTo>
                  <a:lnTo>
                    <a:pt x="4839" y="4275"/>
                  </a:lnTo>
                  <a:lnTo>
                    <a:pt x="4833" y="4297"/>
                  </a:lnTo>
                  <a:lnTo>
                    <a:pt x="4827" y="4312"/>
                  </a:lnTo>
                  <a:lnTo>
                    <a:pt x="4821" y="4326"/>
                  </a:lnTo>
                  <a:lnTo>
                    <a:pt x="4815" y="4337"/>
                  </a:lnTo>
                  <a:lnTo>
                    <a:pt x="4812" y="4349"/>
                  </a:lnTo>
                  <a:lnTo>
                    <a:pt x="4808" y="4361"/>
                  </a:lnTo>
                  <a:lnTo>
                    <a:pt x="4806" y="4374"/>
                  </a:lnTo>
                  <a:lnTo>
                    <a:pt x="4796" y="4384"/>
                  </a:lnTo>
                  <a:lnTo>
                    <a:pt x="4788" y="4394"/>
                  </a:lnTo>
                  <a:lnTo>
                    <a:pt x="4781" y="4403"/>
                  </a:lnTo>
                  <a:lnTo>
                    <a:pt x="4775" y="4413"/>
                  </a:lnTo>
                  <a:lnTo>
                    <a:pt x="4761" y="4430"/>
                  </a:lnTo>
                  <a:lnTo>
                    <a:pt x="4753" y="4448"/>
                  </a:lnTo>
                  <a:lnTo>
                    <a:pt x="4748" y="4450"/>
                  </a:lnTo>
                  <a:lnTo>
                    <a:pt x="4742" y="4456"/>
                  </a:lnTo>
                  <a:lnTo>
                    <a:pt x="4734" y="4463"/>
                  </a:lnTo>
                  <a:lnTo>
                    <a:pt x="4726" y="4477"/>
                  </a:lnTo>
                  <a:lnTo>
                    <a:pt x="4713" y="4491"/>
                  </a:lnTo>
                  <a:lnTo>
                    <a:pt x="4697" y="4512"/>
                  </a:lnTo>
                  <a:lnTo>
                    <a:pt x="4674" y="4535"/>
                  </a:lnTo>
                  <a:lnTo>
                    <a:pt x="4647" y="4570"/>
                  </a:lnTo>
                  <a:lnTo>
                    <a:pt x="4629" y="4582"/>
                  </a:lnTo>
                  <a:lnTo>
                    <a:pt x="4614" y="4595"/>
                  </a:lnTo>
                  <a:lnTo>
                    <a:pt x="4596" y="4609"/>
                  </a:lnTo>
                  <a:lnTo>
                    <a:pt x="4581" y="4622"/>
                  </a:lnTo>
                  <a:lnTo>
                    <a:pt x="4563" y="4634"/>
                  </a:lnTo>
                  <a:lnTo>
                    <a:pt x="4546" y="4646"/>
                  </a:lnTo>
                  <a:lnTo>
                    <a:pt x="4530" y="4659"/>
                  </a:lnTo>
                  <a:lnTo>
                    <a:pt x="4515" y="4675"/>
                  </a:lnTo>
                  <a:lnTo>
                    <a:pt x="4486" y="4685"/>
                  </a:lnTo>
                  <a:lnTo>
                    <a:pt x="4462" y="4692"/>
                  </a:lnTo>
                  <a:lnTo>
                    <a:pt x="4445" y="4698"/>
                  </a:lnTo>
                  <a:lnTo>
                    <a:pt x="4430" y="4704"/>
                  </a:lnTo>
                  <a:lnTo>
                    <a:pt x="4414" y="4706"/>
                  </a:lnTo>
                  <a:lnTo>
                    <a:pt x="4398" y="4712"/>
                  </a:lnTo>
                  <a:lnTo>
                    <a:pt x="4379" y="4716"/>
                  </a:lnTo>
                  <a:lnTo>
                    <a:pt x="4356" y="4723"/>
                  </a:lnTo>
                  <a:lnTo>
                    <a:pt x="4338" y="4717"/>
                  </a:lnTo>
                  <a:lnTo>
                    <a:pt x="4321" y="4717"/>
                  </a:lnTo>
                  <a:lnTo>
                    <a:pt x="4303" y="4717"/>
                  </a:lnTo>
                  <a:lnTo>
                    <a:pt x="4288" y="4717"/>
                  </a:lnTo>
                  <a:lnTo>
                    <a:pt x="4234" y="4702"/>
                  </a:lnTo>
                  <a:lnTo>
                    <a:pt x="4193" y="4690"/>
                  </a:lnTo>
                  <a:lnTo>
                    <a:pt x="4160" y="4681"/>
                  </a:lnTo>
                  <a:lnTo>
                    <a:pt x="4133" y="4675"/>
                  </a:lnTo>
                  <a:lnTo>
                    <a:pt x="4106" y="4667"/>
                  </a:lnTo>
                  <a:lnTo>
                    <a:pt x="4080" y="4659"/>
                  </a:lnTo>
                  <a:lnTo>
                    <a:pt x="4049" y="4648"/>
                  </a:lnTo>
                  <a:lnTo>
                    <a:pt x="4013" y="4638"/>
                  </a:lnTo>
                  <a:lnTo>
                    <a:pt x="4007" y="4630"/>
                  </a:lnTo>
                  <a:lnTo>
                    <a:pt x="4003" y="4622"/>
                  </a:lnTo>
                  <a:lnTo>
                    <a:pt x="3982" y="4617"/>
                  </a:lnTo>
                  <a:lnTo>
                    <a:pt x="3962" y="4613"/>
                  </a:lnTo>
                  <a:lnTo>
                    <a:pt x="3945" y="4609"/>
                  </a:lnTo>
                  <a:lnTo>
                    <a:pt x="3929" y="4607"/>
                  </a:lnTo>
                  <a:lnTo>
                    <a:pt x="3908" y="4595"/>
                  </a:lnTo>
                  <a:lnTo>
                    <a:pt x="3888" y="4586"/>
                  </a:lnTo>
                  <a:lnTo>
                    <a:pt x="3867" y="4574"/>
                  </a:lnTo>
                  <a:lnTo>
                    <a:pt x="3850" y="4564"/>
                  </a:lnTo>
                  <a:lnTo>
                    <a:pt x="3828" y="4553"/>
                  </a:lnTo>
                  <a:lnTo>
                    <a:pt x="3809" y="4541"/>
                  </a:lnTo>
                  <a:lnTo>
                    <a:pt x="3788" y="4531"/>
                  </a:lnTo>
                  <a:lnTo>
                    <a:pt x="3770" y="4522"/>
                  </a:lnTo>
                  <a:lnTo>
                    <a:pt x="3726" y="4492"/>
                  </a:lnTo>
                  <a:lnTo>
                    <a:pt x="3694" y="4469"/>
                  </a:lnTo>
                  <a:lnTo>
                    <a:pt x="3667" y="4452"/>
                  </a:lnTo>
                  <a:lnTo>
                    <a:pt x="3644" y="4436"/>
                  </a:lnTo>
                  <a:lnTo>
                    <a:pt x="3621" y="4419"/>
                  </a:lnTo>
                  <a:lnTo>
                    <a:pt x="3596" y="4401"/>
                  </a:lnTo>
                  <a:lnTo>
                    <a:pt x="3565" y="4378"/>
                  </a:lnTo>
                  <a:lnTo>
                    <a:pt x="3528" y="4353"/>
                  </a:lnTo>
                  <a:lnTo>
                    <a:pt x="3508" y="4333"/>
                  </a:lnTo>
                  <a:lnTo>
                    <a:pt x="3489" y="4316"/>
                  </a:lnTo>
                  <a:lnTo>
                    <a:pt x="3470" y="4299"/>
                  </a:lnTo>
                  <a:lnTo>
                    <a:pt x="3452" y="4283"/>
                  </a:lnTo>
                  <a:lnTo>
                    <a:pt x="3433" y="4266"/>
                  </a:lnTo>
                  <a:lnTo>
                    <a:pt x="3415" y="4252"/>
                  </a:lnTo>
                  <a:lnTo>
                    <a:pt x="3398" y="4235"/>
                  </a:lnTo>
                  <a:lnTo>
                    <a:pt x="3380" y="4221"/>
                  </a:lnTo>
                  <a:lnTo>
                    <a:pt x="3322" y="4145"/>
                  </a:lnTo>
                  <a:lnTo>
                    <a:pt x="3279" y="4089"/>
                  </a:lnTo>
                  <a:lnTo>
                    <a:pt x="3246" y="4044"/>
                  </a:lnTo>
                  <a:lnTo>
                    <a:pt x="3221" y="4010"/>
                  </a:lnTo>
                  <a:lnTo>
                    <a:pt x="3196" y="3977"/>
                  </a:lnTo>
                  <a:lnTo>
                    <a:pt x="3175" y="3946"/>
                  </a:lnTo>
                  <a:lnTo>
                    <a:pt x="3150" y="3909"/>
                  </a:lnTo>
                  <a:lnTo>
                    <a:pt x="3120" y="3866"/>
                  </a:lnTo>
                  <a:lnTo>
                    <a:pt x="3109" y="3845"/>
                  </a:lnTo>
                  <a:lnTo>
                    <a:pt x="3099" y="3823"/>
                  </a:lnTo>
                  <a:lnTo>
                    <a:pt x="3089" y="3802"/>
                  </a:lnTo>
                  <a:lnTo>
                    <a:pt x="3080" y="3783"/>
                  </a:lnTo>
                  <a:lnTo>
                    <a:pt x="3070" y="3761"/>
                  </a:lnTo>
                  <a:lnTo>
                    <a:pt x="3060" y="3740"/>
                  </a:lnTo>
                  <a:lnTo>
                    <a:pt x="3051" y="3719"/>
                  </a:lnTo>
                  <a:lnTo>
                    <a:pt x="3041" y="3697"/>
                  </a:lnTo>
                  <a:lnTo>
                    <a:pt x="3031" y="3676"/>
                  </a:lnTo>
                  <a:lnTo>
                    <a:pt x="3023" y="3657"/>
                  </a:lnTo>
                  <a:lnTo>
                    <a:pt x="3016" y="3637"/>
                  </a:lnTo>
                  <a:lnTo>
                    <a:pt x="3010" y="3618"/>
                  </a:lnTo>
                  <a:lnTo>
                    <a:pt x="3000" y="3596"/>
                  </a:lnTo>
                  <a:lnTo>
                    <a:pt x="2992" y="3579"/>
                  </a:lnTo>
                  <a:lnTo>
                    <a:pt x="2985" y="3558"/>
                  </a:lnTo>
                  <a:lnTo>
                    <a:pt x="2979" y="3540"/>
                  </a:lnTo>
                  <a:lnTo>
                    <a:pt x="2975" y="3530"/>
                  </a:lnTo>
                  <a:lnTo>
                    <a:pt x="2967" y="3528"/>
                  </a:lnTo>
                  <a:lnTo>
                    <a:pt x="2961" y="3511"/>
                  </a:lnTo>
                  <a:lnTo>
                    <a:pt x="2958" y="3496"/>
                  </a:lnTo>
                  <a:lnTo>
                    <a:pt x="2952" y="3480"/>
                  </a:lnTo>
                  <a:lnTo>
                    <a:pt x="2948" y="3466"/>
                  </a:lnTo>
                  <a:lnTo>
                    <a:pt x="2942" y="3451"/>
                  </a:lnTo>
                  <a:lnTo>
                    <a:pt x="2938" y="3437"/>
                  </a:lnTo>
                  <a:lnTo>
                    <a:pt x="2934" y="3422"/>
                  </a:lnTo>
                  <a:lnTo>
                    <a:pt x="2930" y="3408"/>
                  </a:lnTo>
                  <a:lnTo>
                    <a:pt x="2913" y="3333"/>
                  </a:lnTo>
                  <a:lnTo>
                    <a:pt x="2903" y="3276"/>
                  </a:lnTo>
                  <a:lnTo>
                    <a:pt x="2894" y="3232"/>
                  </a:lnTo>
                  <a:lnTo>
                    <a:pt x="2888" y="3199"/>
                  </a:lnTo>
                  <a:lnTo>
                    <a:pt x="2882" y="3170"/>
                  </a:lnTo>
                  <a:lnTo>
                    <a:pt x="2878" y="3144"/>
                  </a:lnTo>
                  <a:lnTo>
                    <a:pt x="2872" y="3117"/>
                  </a:lnTo>
                  <a:lnTo>
                    <a:pt x="2868" y="3084"/>
                  </a:lnTo>
                  <a:lnTo>
                    <a:pt x="2864" y="3071"/>
                  </a:lnTo>
                  <a:lnTo>
                    <a:pt x="2862" y="3059"/>
                  </a:lnTo>
                  <a:lnTo>
                    <a:pt x="2862" y="3046"/>
                  </a:lnTo>
                  <a:lnTo>
                    <a:pt x="2862" y="3034"/>
                  </a:lnTo>
                  <a:lnTo>
                    <a:pt x="2862" y="3018"/>
                  </a:lnTo>
                  <a:lnTo>
                    <a:pt x="2862" y="3007"/>
                  </a:lnTo>
                  <a:lnTo>
                    <a:pt x="2862" y="2991"/>
                  </a:lnTo>
                  <a:lnTo>
                    <a:pt x="2862" y="2980"/>
                  </a:lnTo>
                  <a:lnTo>
                    <a:pt x="2862" y="2968"/>
                  </a:lnTo>
                  <a:lnTo>
                    <a:pt x="2864" y="2956"/>
                  </a:lnTo>
                  <a:lnTo>
                    <a:pt x="2866" y="2945"/>
                  </a:lnTo>
                  <a:lnTo>
                    <a:pt x="2870" y="2935"/>
                  </a:lnTo>
                  <a:lnTo>
                    <a:pt x="2870" y="2923"/>
                  </a:lnTo>
                  <a:lnTo>
                    <a:pt x="2872" y="2912"/>
                  </a:lnTo>
                  <a:lnTo>
                    <a:pt x="2874" y="2900"/>
                  </a:lnTo>
                  <a:lnTo>
                    <a:pt x="2878" y="2890"/>
                  </a:lnTo>
                  <a:lnTo>
                    <a:pt x="2886" y="2877"/>
                  </a:lnTo>
                  <a:lnTo>
                    <a:pt x="2894" y="2863"/>
                  </a:lnTo>
                  <a:lnTo>
                    <a:pt x="2897" y="2834"/>
                  </a:lnTo>
                  <a:lnTo>
                    <a:pt x="2901" y="2813"/>
                  </a:lnTo>
                  <a:lnTo>
                    <a:pt x="2905" y="2793"/>
                  </a:lnTo>
                  <a:lnTo>
                    <a:pt x="2909" y="2782"/>
                  </a:lnTo>
                  <a:lnTo>
                    <a:pt x="2911" y="2768"/>
                  </a:lnTo>
                  <a:lnTo>
                    <a:pt x="2917" y="2755"/>
                  </a:lnTo>
                  <a:lnTo>
                    <a:pt x="2921" y="2739"/>
                  </a:lnTo>
                  <a:lnTo>
                    <a:pt x="2930" y="2722"/>
                  </a:lnTo>
                  <a:lnTo>
                    <a:pt x="2936" y="2708"/>
                  </a:lnTo>
                  <a:lnTo>
                    <a:pt x="2942" y="2696"/>
                  </a:lnTo>
                  <a:lnTo>
                    <a:pt x="2948" y="2685"/>
                  </a:lnTo>
                  <a:lnTo>
                    <a:pt x="2956" y="2673"/>
                  </a:lnTo>
                  <a:lnTo>
                    <a:pt x="2961" y="2661"/>
                  </a:lnTo>
                  <a:lnTo>
                    <a:pt x="2969" y="2650"/>
                  </a:lnTo>
                  <a:lnTo>
                    <a:pt x="2975" y="2638"/>
                  </a:lnTo>
                  <a:lnTo>
                    <a:pt x="2983" y="2627"/>
                  </a:lnTo>
                  <a:lnTo>
                    <a:pt x="3000" y="2603"/>
                  </a:lnTo>
                  <a:lnTo>
                    <a:pt x="3018" y="2586"/>
                  </a:lnTo>
                  <a:lnTo>
                    <a:pt x="3029" y="2572"/>
                  </a:lnTo>
                  <a:lnTo>
                    <a:pt x="3043" y="2565"/>
                  </a:lnTo>
                  <a:lnTo>
                    <a:pt x="3060" y="2547"/>
                  </a:lnTo>
                  <a:lnTo>
                    <a:pt x="3074" y="2532"/>
                  </a:lnTo>
                  <a:lnTo>
                    <a:pt x="3089" y="2528"/>
                  </a:lnTo>
                  <a:lnTo>
                    <a:pt x="3105" y="2520"/>
                  </a:lnTo>
                  <a:lnTo>
                    <a:pt x="3105" y="2506"/>
                  </a:lnTo>
                  <a:lnTo>
                    <a:pt x="3105" y="2499"/>
                  </a:lnTo>
                  <a:lnTo>
                    <a:pt x="3093" y="2481"/>
                  </a:lnTo>
                  <a:lnTo>
                    <a:pt x="3084" y="2466"/>
                  </a:lnTo>
                  <a:lnTo>
                    <a:pt x="3074" y="2448"/>
                  </a:lnTo>
                  <a:lnTo>
                    <a:pt x="3064" y="2433"/>
                  </a:lnTo>
                  <a:lnTo>
                    <a:pt x="3054" y="2415"/>
                  </a:lnTo>
                  <a:lnTo>
                    <a:pt x="3047" y="2398"/>
                  </a:lnTo>
                  <a:lnTo>
                    <a:pt x="3037" y="2382"/>
                  </a:lnTo>
                  <a:lnTo>
                    <a:pt x="3031" y="2367"/>
                  </a:lnTo>
                  <a:lnTo>
                    <a:pt x="3014" y="2365"/>
                  </a:lnTo>
                  <a:lnTo>
                    <a:pt x="3002" y="2363"/>
                  </a:lnTo>
                  <a:lnTo>
                    <a:pt x="2987" y="2359"/>
                  </a:lnTo>
                  <a:lnTo>
                    <a:pt x="2973" y="2357"/>
                  </a:lnTo>
                  <a:lnTo>
                    <a:pt x="2961" y="2347"/>
                  </a:lnTo>
                  <a:lnTo>
                    <a:pt x="2946" y="2341"/>
                  </a:lnTo>
                  <a:lnTo>
                    <a:pt x="2936" y="2324"/>
                  </a:lnTo>
                  <a:lnTo>
                    <a:pt x="2930" y="2312"/>
                  </a:lnTo>
                  <a:lnTo>
                    <a:pt x="2921" y="2297"/>
                  </a:lnTo>
                  <a:lnTo>
                    <a:pt x="2915" y="2283"/>
                  </a:lnTo>
                  <a:lnTo>
                    <a:pt x="2905" y="2283"/>
                  </a:lnTo>
                  <a:lnTo>
                    <a:pt x="2894" y="2283"/>
                  </a:lnTo>
                  <a:lnTo>
                    <a:pt x="2886" y="2287"/>
                  </a:lnTo>
                  <a:lnTo>
                    <a:pt x="2880" y="2293"/>
                  </a:lnTo>
                  <a:lnTo>
                    <a:pt x="2872" y="2299"/>
                  </a:lnTo>
                  <a:lnTo>
                    <a:pt x="2862" y="2305"/>
                  </a:lnTo>
                  <a:lnTo>
                    <a:pt x="2843" y="2324"/>
                  </a:lnTo>
                  <a:lnTo>
                    <a:pt x="2831" y="2341"/>
                  </a:lnTo>
                  <a:lnTo>
                    <a:pt x="2822" y="2353"/>
                  </a:lnTo>
                  <a:lnTo>
                    <a:pt x="2814" y="2367"/>
                  </a:lnTo>
                  <a:lnTo>
                    <a:pt x="2806" y="2378"/>
                  </a:lnTo>
                  <a:lnTo>
                    <a:pt x="2798" y="2394"/>
                  </a:lnTo>
                  <a:lnTo>
                    <a:pt x="2787" y="2411"/>
                  </a:lnTo>
                  <a:lnTo>
                    <a:pt x="2777" y="2436"/>
                  </a:lnTo>
                  <a:lnTo>
                    <a:pt x="2767" y="2454"/>
                  </a:lnTo>
                  <a:lnTo>
                    <a:pt x="2760" y="2473"/>
                  </a:lnTo>
                  <a:lnTo>
                    <a:pt x="2754" y="2491"/>
                  </a:lnTo>
                  <a:lnTo>
                    <a:pt x="2748" y="2510"/>
                  </a:lnTo>
                  <a:lnTo>
                    <a:pt x="2742" y="2528"/>
                  </a:lnTo>
                  <a:lnTo>
                    <a:pt x="2736" y="2547"/>
                  </a:lnTo>
                  <a:lnTo>
                    <a:pt x="2731" y="2565"/>
                  </a:lnTo>
                  <a:lnTo>
                    <a:pt x="2725" y="2584"/>
                  </a:lnTo>
                  <a:lnTo>
                    <a:pt x="2723" y="2605"/>
                  </a:lnTo>
                  <a:lnTo>
                    <a:pt x="2723" y="2627"/>
                  </a:lnTo>
                  <a:lnTo>
                    <a:pt x="2721" y="2648"/>
                  </a:lnTo>
                  <a:lnTo>
                    <a:pt x="2721" y="2671"/>
                  </a:lnTo>
                  <a:lnTo>
                    <a:pt x="2719" y="2693"/>
                  </a:lnTo>
                  <a:lnTo>
                    <a:pt x="2719" y="2716"/>
                  </a:lnTo>
                  <a:lnTo>
                    <a:pt x="2719" y="2739"/>
                  </a:lnTo>
                  <a:lnTo>
                    <a:pt x="2719" y="2762"/>
                  </a:lnTo>
                  <a:lnTo>
                    <a:pt x="2719" y="2774"/>
                  </a:lnTo>
                  <a:lnTo>
                    <a:pt x="2721" y="2790"/>
                  </a:lnTo>
                  <a:lnTo>
                    <a:pt x="2723" y="2803"/>
                  </a:lnTo>
                  <a:lnTo>
                    <a:pt x="2725" y="2819"/>
                  </a:lnTo>
                  <a:lnTo>
                    <a:pt x="2725" y="2830"/>
                  </a:lnTo>
                  <a:lnTo>
                    <a:pt x="2725" y="2846"/>
                  </a:lnTo>
                  <a:lnTo>
                    <a:pt x="2727" y="2859"/>
                  </a:lnTo>
                  <a:lnTo>
                    <a:pt x="2731" y="2875"/>
                  </a:lnTo>
                  <a:lnTo>
                    <a:pt x="2723" y="2881"/>
                  </a:lnTo>
                  <a:lnTo>
                    <a:pt x="2717" y="2890"/>
                  </a:lnTo>
                  <a:lnTo>
                    <a:pt x="2711" y="2898"/>
                  </a:lnTo>
                  <a:lnTo>
                    <a:pt x="2709" y="2912"/>
                  </a:lnTo>
                  <a:lnTo>
                    <a:pt x="2694" y="2912"/>
                  </a:lnTo>
                  <a:lnTo>
                    <a:pt x="2680" y="2912"/>
                  </a:lnTo>
                  <a:lnTo>
                    <a:pt x="2667" y="2912"/>
                  </a:lnTo>
                  <a:lnTo>
                    <a:pt x="2655" y="2914"/>
                  </a:lnTo>
                  <a:lnTo>
                    <a:pt x="2643" y="2914"/>
                  </a:lnTo>
                  <a:lnTo>
                    <a:pt x="2632" y="2916"/>
                  </a:lnTo>
                  <a:lnTo>
                    <a:pt x="2620" y="2918"/>
                  </a:lnTo>
                  <a:lnTo>
                    <a:pt x="2608" y="2921"/>
                  </a:lnTo>
                  <a:lnTo>
                    <a:pt x="2529" y="2912"/>
                  </a:lnTo>
                  <a:lnTo>
                    <a:pt x="2471" y="2908"/>
                  </a:lnTo>
                  <a:lnTo>
                    <a:pt x="2426" y="2902"/>
                  </a:lnTo>
                  <a:lnTo>
                    <a:pt x="2399" y="2902"/>
                  </a:lnTo>
                  <a:lnTo>
                    <a:pt x="2380" y="2898"/>
                  </a:lnTo>
                  <a:lnTo>
                    <a:pt x="2370" y="2896"/>
                  </a:lnTo>
                  <a:lnTo>
                    <a:pt x="2362" y="2894"/>
                  </a:lnTo>
                  <a:lnTo>
                    <a:pt x="2360" y="2894"/>
                  </a:lnTo>
                  <a:lnTo>
                    <a:pt x="2292" y="2881"/>
                  </a:lnTo>
                  <a:lnTo>
                    <a:pt x="2240" y="2869"/>
                  </a:lnTo>
                  <a:lnTo>
                    <a:pt x="2199" y="2859"/>
                  </a:lnTo>
                  <a:lnTo>
                    <a:pt x="2166" y="2854"/>
                  </a:lnTo>
                  <a:lnTo>
                    <a:pt x="2135" y="2848"/>
                  </a:lnTo>
                  <a:lnTo>
                    <a:pt x="2106" y="2842"/>
                  </a:lnTo>
                  <a:lnTo>
                    <a:pt x="2071" y="2836"/>
                  </a:lnTo>
                  <a:lnTo>
                    <a:pt x="2032" y="2832"/>
                  </a:lnTo>
                  <a:lnTo>
                    <a:pt x="2021" y="2819"/>
                  </a:lnTo>
                  <a:lnTo>
                    <a:pt x="2007" y="2805"/>
                  </a:lnTo>
                  <a:lnTo>
                    <a:pt x="1998" y="2788"/>
                  </a:lnTo>
                  <a:lnTo>
                    <a:pt x="1988" y="2770"/>
                  </a:lnTo>
                  <a:lnTo>
                    <a:pt x="1976" y="2751"/>
                  </a:lnTo>
                  <a:lnTo>
                    <a:pt x="1970" y="2731"/>
                  </a:lnTo>
                  <a:lnTo>
                    <a:pt x="1935" y="2689"/>
                  </a:lnTo>
                  <a:lnTo>
                    <a:pt x="1901" y="2646"/>
                  </a:lnTo>
                  <a:lnTo>
                    <a:pt x="1868" y="2603"/>
                  </a:lnTo>
                  <a:lnTo>
                    <a:pt x="1835" y="2563"/>
                  </a:lnTo>
                  <a:lnTo>
                    <a:pt x="1800" y="2518"/>
                  </a:lnTo>
                  <a:lnTo>
                    <a:pt x="1767" y="2475"/>
                  </a:lnTo>
                  <a:lnTo>
                    <a:pt x="1734" y="2435"/>
                  </a:lnTo>
                  <a:lnTo>
                    <a:pt x="1701" y="2394"/>
                  </a:lnTo>
                  <a:lnTo>
                    <a:pt x="1681" y="2372"/>
                  </a:lnTo>
                  <a:lnTo>
                    <a:pt x="1662" y="2353"/>
                  </a:lnTo>
                  <a:lnTo>
                    <a:pt x="1643" y="2334"/>
                  </a:lnTo>
                  <a:lnTo>
                    <a:pt x="1625" y="2316"/>
                  </a:lnTo>
                  <a:lnTo>
                    <a:pt x="1604" y="2299"/>
                  </a:lnTo>
                  <a:lnTo>
                    <a:pt x="1586" y="2281"/>
                  </a:lnTo>
                  <a:lnTo>
                    <a:pt x="1565" y="2264"/>
                  </a:lnTo>
                  <a:lnTo>
                    <a:pt x="1548" y="2246"/>
                  </a:lnTo>
                  <a:lnTo>
                    <a:pt x="1526" y="2229"/>
                  </a:lnTo>
                  <a:lnTo>
                    <a:pt x="1507" y="2217"/>
                  </a:lnTo>
                  <a:lnTo>
                    <a:pt x="1487" y="2204"/>
                  </a:lnTo>
                  <a:lnTo>
                    <a:pt x="1468" y="2192"/>
                  </a:lnTo>
                  <a:lnTo>
                    <a:pt x="1458" y="2192"/>
                  </a:lnTo>
                  <a:lnTo>
                    <a:pt x="1447" y="2192"/>
                  </a:lnTo>
                  <a:lnTo>
                    <a:pt x="1441" y="2200"/>
                  </a:lnTo>
                  <a:lnTo>
                    <a:pt x="1437" y="2210"/>
                  </a:lnTo>
                  <a:lnTo>
                    <a:pt x="1427" y="2215"/>
                  </a:lnTo>
                  <a:lnTo>
                    <a:pt x="1418" y="2221"/>
                  </a:lnTo>
                  <a:lnTo>
                    <a:pt x="1406" y="2227"/>
                  </a:lnTo>
                  <a:lnTo>
                    <a:pt x="1400" y="2235"/>
                  </a:lnTo>
                  <a:lnTo>
                    <a:pt x="1402" y="2256"/>
                  </a:lnTo>
                  <a:lnTo>
                    <a:pt x="1404" y="2277"/>
                  </a:lnTo>
                  <a:lnTo>
                    <a:pt x="1408" y="2297"/>
                  </a:lnTo>
                  <a:lnTo>
                    <a:pt x="1416" y="2320"/>
                  </a:lnTo>
                  <a:lnTo>
                    <a:pt x="1422" y="2347"/>
                  </a:lnTo>
                  <a:lnTo>
                    <a:pt x="1435" y="2384"/>
                  </a:lnTo>
                  <a:lnTo>
                    <a:pt x="1451" y="2433"/>
                  </a:lnTo>
                  <a:lnTo>
                    <a:pt x="1474" y="2499"/>
                  </a:lnTo>
                  <a:lnTo>
                    <a:pt x="1480" y="2510"/>
                  </a:lnTo>
                  <a:lnTo>
                    <a:pt x="1487" y="2528"/>
                  </a:lnTo>
                  <a:lnTo>
                    <a:pt x="1495" y="2545"/>
                  </a:lnTo>
                  <a:lnTo>
                    <a:pt x="1505" y="2568"/>
                  </a:lnTo>
                  <a:lnTo>
                    <a:pt x="1515" y="2592"/>
                  </a:lnTo>
                  <a:lnTo>
                    <a:pt x="1526" y="2621"/>
                  </a:lnTo>
                  <a:lnTo>
                    <a:pt x="1540" y="2650"/>
                  </a:lnTo>
                  <a:lnTo>
                    <a:pt x="1557" y="2685"/>
                  </a:lnTo>
                  <a:lnTo>
                    <a:pt x="1571" y="2689"/>
                  </a:lnTo>
                  <a:lnTo>
                    <a:pt x="1584" y="2694"/>
                  </a:lnTo>
                  <a:lnTo>
                    <a:pt x="1584" y="2706"/>
                  </a:lnTo>
                  <a:lnTo>
                    <a:pt x="1584" y="2722"/>
                  </a:lnTo>
                  <a:lnTo>
                    <a:pt x="1608" y="2729"/>
                  </a:lnTo>
                  <a:lnTo>
                    <a:pt x="1631" y="2741"/>
                  </a:lnTo>
                  <a:lnTo>
                    <a:pt x="1654" y="2751"/>
                  </a:lnTo>
                  <a:lnTo>
                    <a:pt x="1679" y="2762"/>
                  </a:lnTo>
                  <a:lnTo>
                    <a:pt x="1703" y="2772"/>
                  </a:lnTo>
                  <a:lnTo>
                    <a:pt x="1726" y="2784"/>
                  </a:lnTo>
                  <a:lnTo>
                    <a:pt x="1749" y="2793"/>
                  </a:lnTo>
                  <a:lnTo>
                    <a:pt x="1774" y="2805"/>
                  </a:lnTo>
                  <a:lnTo>
                    <a:pt x="1794" y="2815"/>
                  </a:lnTo>
                  <a:lnTo>
                    <a:pt x="1811" y="2826"/>
                  </a:lnTo>
                  <a:lnTo>
                    <a:pt x="1829" y="2834"/>
                  </a:lnTo>
                  <a:lnTo>
                    <a:pt x="1848" y="2846"/>
                  </a:lnTo>
                  <a:lnTo>
                    <a:pt x="1870" y="2855"/>
                  </a:lnTo>
                  <a:lnTo>
                    <a:pt x="1901" y="2869"/>
                  </a:lnTo>
                  <a:lnTo>
                    <a:pt x="1939" y="2886"/>
                  </a:lnTo>
                  <a:lnTo>
                    <a:pt x="1992" y="2912"/>
                  </a:lnTo>
                  <a:lnTo>
                    <a:pt x="2001" y="2918"/>
                  </a:lnTo>
                  <a:lnTo>
                    <a:pt x="2011" y="2927"/>
                  </a:lnTo>
                  <a:lnTo>
                    <a:pt x="2021" y="2933"/>
                  </a:lnTo>
                  <a:lnTo>
                    <a:pt x="2032" y="2943"/>
                  </a:lnTo>
                  <a:lnTo>
                    <a:pt x="2079" y="2966"/>
                  </a:lnTo>
                  <a:lnTo>
                    <a:pt x="2114" y="2983"/>
                  </a:lnTo>
                  <a:lnTo>
                    <a:pt x="2139" y="2997"/>
                  </a:lnTo>
                  <a:lnTo>
                    <a:pt x="2160" y="3009"/>
                  </a:lnTo>
                  <a:lnTo>
                    <a:pt x="2172" y="3014"/>
                  </a:lnTo>
                  <a:lnTo>
                    <a:pt x="2184" y="3022"/>
                  </a:lnTo>
                  <a:lnTo>
                    <a:pt x="2191" y="3028"/>
                  </a:lnTo>
                  <a:lnTo>
                    <a:pt x="2201" y="3038"/>
                  </a:lnTo>
                  <a:lnTo>
                    <a:pt x="2238" y="3063"/>
                  </a:lnTo>
                  <a:lnTo>
                    <a:pt x="2267" y="3082"/>
                  </a:lnTo>
                  <a:lnTo>
                    <a:pt x="2288" y="3096"/>
                  </a:lnTo>
                  <a:lnTo>
                    <a:pt x="2306" y="3108"/>
                  </a:lnTo>
                  <a:lnTo>
                    <a:pt x="2316" y="3111"/>
                  </a:lnTo>
                  <a:lnTo>
                    <a:pt x="2325" y="3117"/>
                  </a:lnTo>
                  <a:lnTo>
                    <a:pt x="2333" y="3119"/>
                  </a:lnTo>
                  <a:lnTo>
                    <a:pt x="2345" y="3123"/>
                  </a:lnTo>
                  <a:lnTo>
                    <a:pt x="2362" y="3137"/>
                  </a:lnTo>
                  <a:lnTo>
                    <a:pt x="2380" y="3152"/>
                  </a:lnTo>
                  <a:lnTo>
                    <a:pt x="2397" y="3168"/>
                  </a:lnTo>
                  <a:lnTo>
                    <a:pt x="2414" y="3183"/>
                  </a:lnTo>
                  <a:lnTo>
                    <a:pt x="2432" y="3197"/>
                  </a:lnTo>
                  <a:lnTo>
                    <a:pt x="2449" y="3212"/>
                  </a:lnTo>
                  <a:lnTo>
                    <a:pt x="2467" y="3228"/>
                  </a:lnTo>
                  <a:lnTo>
                    <a:pt x="2486" y="3243"/>
                  </a:lnTo>
                  <a:lnTo>
                    <a:pt x="2519" y="3278"/>
                  </a:lnTo>
                  <a:lnTo>
                    <a:pt x="2550" y="3313"/>
                  </a:lnTo>
                  <a:lnTo>
                    <a:pt x="2574" y="3340"/>
                  </a:lnTo>
                  <a:lnTo>
                    <a:pt x="2599" y="3368"/>
                  </a:lnTo>
                  <a:lnTo>
                    <a:pt x="2616" y="3389"/>
                  </a:lnTo>
                  <a:lnTo>
                    <a:pt x="2636" y="3408"/>
                  </a:lnTo>
                  <a:lnTo>
                    <a:pt x="2653" y="3426"/>
                  </a:lnTo>
                  <a:lnTo>
                    <a:pt x="2672" y="3445"/>
                  </a:lnTo>
                  <a:lnTo>
                    <a:pt x="2676" y="3453"/>
                  </a:lnTo>
                  <a:lnTo>
                    <a:pt x="2684" y="3466"/>
                  </a:lnTo>
                  <a:lnTo>
                    <a:pt x="2694" y="3480"/>
                  </a:lnTo>
                  <a:lnTo>
                    <a:pt x="2705" y="3496"/>
                  </a:lnTo>
                  <a:lnTo>
                    <a:pt x="2717" y="3509"/>
                  </a:lnTo>
                  <a:lnTo>
                    <a:pt x="2729" y="3523"/>
                  </a:lnTo>
                  <a:lnTo>
                    <a:pt x="2736" y="3532"/>
                  </a:lnTo>
                  <a:lnTo>
                    <a:pt x="2746" y="3540"/>
                  </a:lnTo>
                  <a:lnTo>
                    <a:pt x="2760" y="3560"/>
                  </a:lnTo>
                  <a:lnTo>
                    <a:pt x="2773" y="3579"/>
                  </a:lnTo>
                  <a:lnTo>
                    <a:pt x="2785" y="3598"/>
                  </a:lnTo>
                  <a:lnTo>
                    <a:pt x="2797" y="3618"/>
                  </a:lnTo>
                  <a:lnTo>
                    <a:pt x="2806" y="3635"/>
                  </a:lnTo>
                  <a:lnTo>
                    <a:pt x="2818" y="3655"/>
                  </a:lnTo>
                  <a:lnTo>
                    <a:pt x="2830" y="3674"/>
                  </a:lnTo>
                  <a:lnTo>
                    <a:pt x="2847" y="3697"/>
                  </a:lnTo>
                  <a:lnTo>
                    <a:pt x="2862" y="3730"/>
                  </a:lnTo>
                  <a:lnTo>
                    <a:pt x="2880" y="3763"/>
                  </a:lnTo>
                  <a:lnTo>
                    <a:pt x="2897" y="3796"/>
                  </a:lnTo>
                  <a:lnTo>
                    <a:pt x="2915" y="3831"/>
                  </a:lnTo>
                  <a:lnTo>
                    <a:pt x="2930" y="3862"/>
                  </a:lnTo>
                  <a:lnTo>
                    <a:pt x="2948" y="3895"/>
                  </a:lnTo>
                  <a:lnTo>
                    <a:pt x="2965" y="3928"/>
                  </a:lnTo>
                  <a:lnTo>
                    <a:pt x="2983" y="3961"/>
                  </a:lnTo>
                  <a:lnTo>
                    <a:pt x="2989" y="3988"/>
                  </a:lnTo>
                  <a:lnTo>
                    <a:pt x="2994" y="4011"/>
                  </a:lnTo>
                  <a:lnTo>
                    <a:pt x="2998" y="4031"/>
                  </a:lnTo>
                  <a:lnTo>
                    <a:pt x="3004" y="4052"/>
                  </a:lnTo>
                  <a:lnTo>
                    <a:pt x="3006" y="4074"/>
                  </a:lnTo>
                  <a:lnTo>
                    <a:pt x="3012" y="4101"/>
                  </a:lnTo>
                  <a:lnTo>
                    <a:pt x="3016" y="4134"/>
                  </a:lnTo>
                  <a:lnTo>
                    <a:pt x="3025" y="4178"/>
                  </a:lnTo>
                  <a:lnTo>
                    <a:pt x="3025" y="4190"/>
                  </a:lnTo>
                  <a:lnTo>
                    <a:pt x="3027" y="4205"/>
                  </a:lnTo>
                  <a:lnTo>
                    <a:pt x="3029" y="4217"/>
                  </a:lnTo>
                  <a:lnTo>
                    <a:pt x="3031" y="4233"/>
                  </a:lnTo>
                  <a:lnTo>
                    <a:pt x="3031" y="4246"/>
                  </a:lnTo>
                  <a:lnTo>
                    <a:pt x="3031" y="4262"/>
                  </a:lnTo>
                  <a:lnTo>
                    <a:pt x="3033" y="4277"/>
                  </a:lnTo>
                  <a:lnTo>
                    <a:pt x="3037" y="4295"/>
                  </a:lnTo>
                  <a:lnTo>
                    <a:pt x="3033" y="4306"/>
                  </a:lnTo>
                  <a:lnTo>
                    <a:pt x="3031" y="4318"/>
                  </a:lnTo>
                  <a:lnTo>
                    <a:pt x="3029" y="4330"/>
                  </a:lnTo>
                  <a:lnTo>
                    <a:pt x="3027" y="4341"/>
                  </a:lnTo>
                  <a:lnTo>
                    <a:pt x="3023" y="4353"/>
                  </a:lnTo>
                  <a:lnTo>
                    <a:pt x="3023" y="4366"/>
                  </a:lnTo>
                  <a:lnTo>
                    <a:pt x="3020" y="4380"/>
                  </a:lnTo>
                  <a:lnTo>
                    <a:pt x="3020" y="4396"/>
                  </a:lnTo>
                  <a:lnTo>
                    <a:pt x="3012" y="4413"/>
                  </a:lnTo>
                  <a:lnTo>
                    <a:pt x="3006" y="4434"/>
                  </a:lnTo>
                  <a:lnTo>
                    <a:pt x="3000" y="4452"/>
                  </a:lnTo>
                  <a:lnTo>
                    <a:pt x="2994" y="4473"/>
                  </a:lnTo>
                  <a:lnTo>
                    <a:pt x="2987" y="4492"/>
                  </a:lnTo>
                  <a:lnTo>
                    <a:pt x="2981" y="4514"/>
                  </a:lnTo>
                  <a:lnTo>
                    <a:pt x="2973" y="4535"/>
                  </a:lnTo>
                  <a:lnTo>
                    <a:pt x="2967" y="4558"/>
                  </a:lnTo>
                  <a:lnTo>
                    <a:pt x="2956" y="4570"/>
                  </a:lnTo>
                  <a:lnTo>
                    <a:pt x="2948" y="4582"/>
                  </a:lnTo>
                  <a:lnTo>
                    <a:pt x="2938" y="4593"/>
                  </a:lnTo>
                  <a:lnTo>
                    <a:pt x="2930" y="4605"/>
                  </a:lnTo>
                  <a:lnTo>
                    <a:pt x="2921" y="4617"/>
                  </a:lnTo>
                  <a:lnTo>
                    <a:pt x="2911" y="4630"/>
                  </a:lnTo>
                  <a:lnTo>
                    <a:pt x="2901" y="4644"/>
                  </a:lnTo>
                  <a:lnTo>
                    <a:pt x="2894" y="4659"/>
                  </a:lnTo>
                  <a:lnTo>
                    <a:pt x="2872" y="4671"/>
                  </a:lnTo>
                  <a:lnTo>
                    <a:pt x="2853" y="4683"/>
                  </a:lnTo>
                  <a:lnTo>
                    <a:pt x="2833" y="4694"/>
                  </a:lnTo>
                  <a:lnTo>
                    <a:pt x="2814" y="4706"/>
                  </a:lnTo>
                  <a:lnTo>
                    <a:pt x="2795" y="4710"/>
                  </a:lnTo>
                  <a:lnTo>
                    <a:pt x="2777" y="4716"/>
                  </a:lnTo>
                  <a:lnTo>
                    <a:pt x="2758" y="4721"/>
                  </a:lnTo>
                  <a:lnTo>
                    <a:pt x="2736" y="4729"/>
                  </a:lnTo>
                  <a:lnTo>
                    <a:pt x="2709" y="4737"/>
                  </a:lnTo>
                  <a:lnTo>
                    <a:pt x="2678" y="4747"/>
                  </a:lnTo>
                  <a:lnTo>
                    <a:pt x="2643" y="4758"/>
                  </a:lnTo>
                  <a:lnTo>
                    <a:pt x="2603" y="4770"/>
                  </a:lnTo>
                  <a:lnTo>
                    <a:pt x="2589" y="4770"/>
                  </a:lnTo>
                  <a:lnTo>
                    <a:pt x="2575" y="4772"/>
                  </a:lnTo>
                  <a:lnTo>
                    <a:pt x="2560" y="4772"/>
                  </a:lnTo>
                  <a:lnTo>
                    <a:pt x="2541" y="4774"/>
                  </a:lnTo>
                  <a:lnTo>
                    <a:pt x="2508" y="4774"/>
                  </a:lnTo>
                  <a:lnTo>
                    <a:pt x="2465" y="4774"/>
                  </a:lnTo>
                  <a:lnTo>
                    <a:pt x="2405" y="4774"/>
                  </a:lnTo>
                  <a:lnTo>
                    <a:pt x="2329" y="4776"/>
                  </a:lnTo>
                  <a:close/>
                  <a:moveTo>
                    <a:pt x="2418" y="4733"/>
                  </a:moveTo>
                  <a:lnTo>
                    <a:pt x="2434" y="4733"/>
                  </a:lnTo>
                  <a:lnTo>
                    <a:pt x="2449" y="4733"/>
                  </a:lnTo>
                  <a:lnTo>
                    <a:pt x="2467" y="4733"/>
                  </a:lnTo>
                  <a:lnTo>
                    <a:pt x="2484" y="4733"/>
                  </a:lnTo>
                  <a:lnTo>
                    <a:pt x="2500" y="4733"/>
                  </a:lnTo>
                  <a:lnTo>
                    <a:pt x="2517" y="4733"/>
                  </a:lnTo>
                  <a:lnTo>
                    <a:pt x="2533" y="4733"/>
                  </a:lnTo>
                  <a:lnTo>
                    <a:pt x="2550" y="4733"/>
                  </a:lnTo>
                  <a:lnTo>
                    <a:pt x="2560" y="4727"/>
                  </a:lnTo>
                  <a:lnTo>
                    <a:pt x="2570" y="4725"/>
                  </a:lnTo>
                  <a:lnTo>
                    <a:pt x="2581" y="4721"/>
                  </a:lnTo>
                  <a:lnTo>
                    <a:pt x="2593" y="4719"/>
                  </a:lnTo>
                  <a:lnTo>
                    <a:pt x="2603" y="4716"/>
                  </a:lnTo>
                  <a:lnTo>
                    <a:pt x="2614" y="4716"/>
                  </a:lnTo>
                  <a:lnTo>
                    <a:pt x="2624" y="4712"/>
                  </a:lnTo>
                  <a:lnTo>
                    <a:pt x="2636" y="4712"/>
                  </a:lnTo>
                  <a:lnTo>
                    <a:pt x="2665" y="4696"/>
                  </a:lnTo>
                  <a:lnTo>
                    <a:pt x="2690" y="4685"/>
                  </a:lnTo>
                  <a:lnTo>
                    <a:pt x="2707" y="4677"/>
                  </a:lnTo>
                  <a:lnTo>
                    <a:pt x="2725" y="4671"/>
                  </a:lnTo>
                  <a:lnTo>
                    <a:pt x="2738" y="4665"/>
                  </a:lnTo>
                  <a:lnTo>
                    <a:pt x="2752" y="4659"/>
                  </a:lnTo>
                  <a:lnTo>
                    <a:pt x="2767" y="4653"/>
                  </a:lnTo>
                  <a:lnTo>
                    <a:pt x="2789" y="4648"/>
                  </a:lnTo>
                  <a:lnTo>
                    <a:pt x="2800" y="4640"/>
                  </a:lnTo>
                  <a:lnTo>
                    <a:pt x="2812" y="4634"/>
                  </a:lnTo>
                  <a:lnTo>
                    <a:pt x="2820" y="4628"/>
                  </a:lnTo>
                  <a:lnTo>
                    <a:pt x="2831" y="4624"/>
                  </a:lnTo>
                  <a:lnTo>
                    <a:pt x="2841" y="4615"/>
                  </a:lnTo>
                  <a:lnTo>
                    <a:pt x="2855" y="4607"/>
                  </a:lnTo>
                  <a:lnTo>
                    <a:pt x="2870" y="4593"/>
                  </a:lnTo>
                  <a:lnTo>
                    <a:pt x="2894" y="4580"/>
                  </a:lnTo>
                  <a:lnTo>
                    <a:pt x="2901" y="4562"/>
                  </a:lnTo>
                  <a:lnTo>
                    <a:pt x="2909" y="4551"/>
                  </a:lnTo>
                  <a:lnTo>
                    <a:pt x="2919" y="4535"/>
                  </a:lnTo>
                  <a:lnTo>
                    <a:pt x="2930" y="4522"/>
                  </a:lnTo>
                  <a:lnTo>
                    <a:pt x="2936" y="4492"/>
                  </a:lnTo>
                  <a:lnTo>
                    <a:pt x="2942" y="4465"/>
                  </a:lnTo>
                  <a:lnTo>
                    <a:pt x="2948" y="4438"/>
                  </a:lnTo>
                  <a:lnTo>
                    <a:pt x="2956" y="4411"/>
                  </a:lnTo>
                  <a:lnTo>
                    <a:pt x="2961" y="4382"/>
                  </a:lnTo>
                  <a:lnTo>
                    <a:pt x="2969" y="4357"/>
                  </a:lnTo>
                  <a:lnTo>
                    <a:pt x="2975" y="4330"/>
                  </a:lnTo>
                  <a:lnTo>
                    <a:pt x="2983" y="4304"/>
                  </a:lnTo>
                  <a:lnTo>
                    <a:pt x="2981" y="4285"/>
                  </a:lnTo>
                  <a:lnTo>
                    <a:pt x="2981" y="4267"/>
                  </a:lnTo>
                  <a:lnTo>
                    <a:pt x="2981" y="4250"/>
                  </a:lnTo>
                  <a:lnTo>
                    <a:pt x="2981" y="4233"/>
                  </a:lnTo>
                  <a:lnTo>
                    <a:pt x="2979" y="4215"/>
                  </a:lnTo>
                  <a:lnTo>
                    <a:pt x="2979" y="4200"/>
                  </a:lnTo>
                  <a:lnTo>
                    <a:pt x="2979" y="4182"/>
                  </a:lnTo>
                  <a:lnTo>
                    <a:pt x="2979" y="4169"/>
                  </a:lnTo>
                  <a:lnTo>
                    <a:pt x="2975" y="4153"/>
                  </a:lnTo>
                  <a:lnTo>
                    <a:pt x="2973" y="4139"/>
                  </a:lnTo>
                  <a:lnTo>
                    <a:pt x="2971" y="4126"/>
                  </a:lnTo>
                  <a:lnTo>
                    <a:pt x="2969" y="4112"/>
                  </a:lnTo>
                  <a:lnTo>
                    <a:pt x="2967" y="4099"/>
                  </a:lnTo>
                  <a:lnTo>
                    <a:pt x="2965" y="4085"/>
                  </a:lnTo>
                  <a:lnTo>
                    <a:pt x="2963" y="4074"/>
                  </a:lnTo>
                  <a:lnTo>
                    <a:pt x="2963" y="4062"/>
                  </a:lnTo>
                  <a:lnTo>
                    <a:pt x="2956" y="4044"/>
                  </a:lnTo>
                  <a:lnTo>
                    <a:pt x="2950" y="4029"/>
                  </a:lnTo>
                  <a:lnTo>
                    <a:pt x="2944" y="4013"/>
                  </a:lnTo>
                  <a:lnTo>
                    <a:pt x="2938" y="3998"/>
                  </a:lnTo>
                  <a:lnTo>
                    <a:pt x="2932" y="3982"/>
                  </a:lnTo>
                  <a:lnTo>
                    <a:pt x="2926" y="3969"/>
                  </a:lnTo>
                  <a:lnTo>
                    <a:pt x="2923" y="3953"/>
                  </a:lnTo>
                  <a:lnTo>
                    <a:pt x="2921" y="3942"/>
                  </a:lnTo>
                  <a:lnTo>
                    <a:pt x="2903" y="3909"/>
                  </a:lnTo>
                  <a:lnTo>
                    <a:pt x="2888" y="3878"/>
                  </a:lnTo>
                  <a:lnTo>
                    <a:pt x="2872" y="3845"/>
                  </a:lnTo>
                  <a:lnTo>
                    <a:pt x="2857" y="3816"/>
                  </a:lnTo>
                  <a:lnTo>
                    <a:pt x="2839" y="3785"/>
                  </a:lnTo>
                  <a:lnTo>
                    <a:pt x="2826" y="3755"/>
                  </a:lnTo>
                  <a:lnTo>
                    <a:pt x="2810" y="3726"/>
                  </a:lnTo>
                  <a:lnTo>
                    <a:pt x="2798" y="3697"/>
                  </a:lnTo>
                  <a:lnTo>
                    <a:pt x="2787" y="3684"/>
                  </a:lnTo>
                  <a:lnTo>
                    <a:pt x="2777" y="3670"/>
                  </a:lnTo>
                  <a:lnTo>
                    <a:pt x="2766" y="3655"/>
                  </a:lnTo>
                  <a:lnTo>
                    <a:pt x="2756" y="3637"/>
                  </a:lnTo>
                  <a:lnTo>
                    <a:pt x="2738" y="3614"/>
                  </a:lnTo>
                  <a:lnTo>
                    <a:pt x="2721" y="3587"/>
                  </a:lnTo>
                  <a:lnTo>
                    <a:pt x="2698" y="3556"/>
                  </a:lnTo>
                  <a:lnTo>
                    <a:pt x="2672" y="3519"/>
                  </a:lnTo>
                  <a:lnTo>
                    <a:pt x="2663" y="3519"/>
                  </a:lnTo>
                  <a:lnTo>
                    <a:pt x="2657" y="3519"/>
                  </a:lnTo>
                  <a:lnTo>
                    <a:pt x="2651" y="3509"/>
                  </a:lnTo>
                  <a:lnTo>
                    <a:pt x="2647" y="3499"/>
                  </a:lnTo>
                  <a:lnTo>
                    <a:pt x="2643" y="3488"/>
                  </a:lnTo>
                  <a:lnTo>
                    <a:pt x="2639" y="3482"/>
                  </a:lnTo>
                  <a:lnTo>
                    <a:pt x="2612" y="3453"/>
                  </a:lnTo>
                  <a:lnTo>
                    <a:pt x="2587" y="3426"/>
                  </a:lnTo>
                  <a:lnTo>
                    <a:pt x="2562" y="3397"/>
                  </a:lnTo>
                  <a:lnTo>
                    <a:pt x="2539" y="3369"/>
                  </a:lnTo>
                  <a:lnTo>
                    <a:pt x="2513" y="3340"/>
                  </a:lnTo>
                  <a:lnTo>
                    <a:pt x="2488" y="3313"/>
                  </a:lnTo>
                  <a:lnTo>
                    <a:pt x="2463" y="3286"/>
                  </a:lnTo>
                  <a:lnTo>
                    <a:pt x="2440" y="3259"/>
                  </a:lnTo>
                  <a:lnTo>
                    <a:pt x="2397" y="3230"/>
                  </a:lnTo>
                  <a:lnTo>
                    <a:pt x="2364" y="3207"/>
                  </a:lnTo>
                  <a:lnTo>
                    <a:pt x="2333" y="3187"/>
                  </a:lnTo>
                  <a:lnTo>
                    <a:pt x="2306" y="3168"/>
                  </a:lnTo>
                  <a:lnTo>
                    <a:pt x="2269" y="3146"/>
                  </a:lnTo>
                  <a:lnTo>
                    <a:pt x="2226" y="3119"/>
                  </a:lnTo>
                  <a:lnTo>
                    <a:pt x="2172" y="3086"/>
                  </a:lnTo>
                  <a:lnTo>
                    <a:pt x="2102" y="3044"/>
                  </a:lnTo>
                  <a:lnTo>
                    <a:pt x="2091" y="3032"/>
                  </a:lnTo>
                  <a:lnTo>
                    <a:pt x="2081" y="3022"/>
                  </a:lnTo>
                  <a:lnTo>
                    <a:pt x="2069" y="3011"/>
                  </a:lnTo>
                  <a:lnTo>
                    <a:pt x="2060" y="3001"/>
                  </a:lnTo>
                  <a:lnTo>
                    <a:pt x="2019" y="2980"/>
                  </a:lnTo>
                  <a:lnTo>
                    <a:pt x="1988" y="2962"/>
                  </a:lnTo>
                  <a:lnTo>
                    <a:pt x="1957" y="2947"/>
                  </a:lnTo>
                  <a:lnTo>
                    <a:pt x="1928" y="2931"/>
                  </a:lnTo>
                  <a:lnTo>
                    <a:pt x="1891" y="2912"/>
                  </a:lnTo>
                  <a:lnTo>
                    <a:pt x="1850" y="2892"/>
                  </a:lnTo>
                  <a:lnTo>
                    <a:pt x="1794" y="2865"/>
                  </a:lnTo>
                  <a:lnTo>
                    <a:pt x="1726" y="2832"/>
                  </a:lnTo>
                  <a:lnTo>
                    <a:pt x="1707" y="2822"/>
                  </a:lnTo>
                  <a:lnTo>
                    <a:pt x="1689" y="2815"/>
                  </a:lnTo>
                  <a:lnTo>
                    <a:pt x="1670" y="2807"/>
                  </a:lnTo>
                  <a:lnTo>
                    <a:pt x="1652" y="2799"/>
                  </a:lnTo>
                  <a:lnTo>
                    <a:pt x="1633" y="2790"/>
                  </a:lnTo>
                  <a:lnTo>
                    <a:pt x="1614" y="2784"/>
                  </a:lnTo>
                  <a:lnTo>
                    <a:pt x="1596" y="2774"/>
                  </a:lnTo>
                  <a:lnTo>
                    <a:pt x="1579" y="2768"/>
                  </a:lnTo>
                  <a:lnTo>
                    <a:pt x="1548" y="2758"/>
                  </a:lnTo>
                  <a:lnTo>
                    <a:pt x="1524" y="2753"/>
                  </a:lnTo>
                  <a:lnTo>
                    <a:pt x="1503" y="2747"/>
                  </a:lnTo>
                  <a:lnTo>
                    <a:pt x="1486" y="2741"/>
                  </a:lnTo>
                  <a:lnTo>
                    <a:pt x="1464" y="2735"/>
                  </a:lnTo>
                  <a:lnTo>
                    <a:pt x="1445" y="2731"/>
                  </a:lnTo>
                  <a:lnTo>
                    <a:pt x="1422" y="2725"/>
                  </a:lnTo>
                  <a:lnTo>
                    <a:pt x="1394" y="2722"/>
                  </a:lnTo>
                  <a:lnTo>
                    <a:pt x="1373" y="2722"/>
                  </a:lnTo>
                  <a:lnTo>
                    <a:pt x="1354" y="2722"/>
                  </a:lnTo>
                  <a:lnTo>
                    <a:pt x="1334" y="2722"/>
                  </a:lnTo>
                  <a:lnTo>
                    <a:pt x="1315" y="2722"/>
                  </a:lnTo>
                  <a:lnTo>
                    <a:pt x="1297" y="2727"/>
                  </a:lnTo>
                  <a:lnTo>
                    <a:pt x="1286" y="2733"/>
                  </a:lnTo>
                  <a:lnTo>
                    <a:pt x="1270" y="2737"/>
                  </a:lnTo>
                  <a:lnTo>
                    <a:pt x="1257" y="2743"/>
                  </a:lnTo>
                  <a:lnTo>
                    <a:pt x="1251" y="2745"/>
                  </a:lnTo>
                  <a:lnTo>
                    <a:pt x="1247" y="2747"/>
                  </a:lnTo>
                  <a:lnTo>
                    <a:pt x="1241" y="2751"/>
                  </a:lnTo>
                  <a:lnTo>
                    <a:pt x="1233" y="2758"/>
                  </a:lnTo>
                  <a:lnTo>
                    <a:pt x="1220" y="2764"/>
                  </a:lnTo>
                  <a:lnTo>
                    <a:pt x="1200" y="2778"/>
                  </a:lnTo>
                  <a:lnTo>
                    <a:pt x="1173" y="2793"/>
                  </a:lnTo>
                  <a:lnTo>
                    <a:pt x="1140" y="2817"/>
                  </a:lnTo>
                  <a:lnTo>
                    <a:pt x="1135" y="2822"/>
                  </a:lnTo>
                  <a:lnTo>
                    <a:pt x="1131" y="2830"/>
                  </a:lnTo>
                  <a:lnTo>
                    <a:pt x="1125" y="2838"/>
                  </a:lnTo>
                  <a:lnTo>
                    <a:pt x="1121" y="2850"/>
                  </a:lnTo>
                  <a:lnTo>
                    <a:pt x="1113" y="2861"/>
                  </a:lnTo>
                  <a:lnTo>
                    <a:pt x="1105" y="2881"/>
                  </a:lnTo>
                  <a:lnTo>
                    <a:pt x="1092" y="2904"/>
                  </a:lnTo>
                  <a:lnTo>
                    <a:pt x="1078" y="2937"/>
                  </a:lnTo>
                  <a:lnTo>
                    <a:pt x="1074" y="2958"/>
                  </a:lnTo>
                  <a:lnTo>
                    <a:pt x="1072" y="2980"/>
                  </a:lnTo>
                  <a:lnTo>
                    <a:pt x="1069" y="3001"/>
                  </a:lnTo>
                  <a:lnTo>
                    <a:pt x="1067" y="3022"/>
                  </a:lnTo>
                  <a:lnTo>
                    <a:pt x="1063" y="3042"/>
                  </a:lnTo>
                  <a:lnTo>
                    <a:pt x="1061" y="3063"/>
                  </a:lnTo>
                  <a:lnTo>
                    <a:pt x="1057" y="3084"/>
                  </a:lnTo>
                  <a:lnTo>
                    <a:pt x="1057" y="3106"/>
                  </a:lnTo>
                  <a:lnTo>
                    <a:pt x="1057" y="3117"/>
                  </a:lnTo>
                  <a:lnTo>
                    <a:pt x="1057" y="3133"/>
                  </a:lnTo>
                  <a:lnTo>
                    <a:pt x="1057" y="3144"/>
                  </a:lnTo>
                  <a:lnTo>
                    <a:pt x="1057" y="3160"/>
                  </a:lnTo>
                  <a:lnTo>
                    <a:pt x="1057" y="3174"/>
                  </a:lnTo>
                  <a:lnTo>
                    <a:pt x="1057" y="3187"/>
                  </a:lnTo>
                  <a:lnTo>
                    <a:pt x="1057" y="3199"/>
                  </a:lnTo>
                  <a:lnTo>
                    <a:pt x="1057" y="3212"/>
                  </a:lnTo>
                  <a:lnTo>
                    <a:pt x="1059" y="3236"/>
                  </a:lnTo>
                  <a:lnTo>
                    <a:pt x="1063" y="3259"/>
                  </a:lnTo>
                  <a:lnTo>
                    <a:pt x="1069" y="3282"/>
                  </a:lnTo>
                  <a:lnTo>
                    <a:pt x="1074" y="3307"/>
                  </a:lnTo>
                  <a:lnTo>
                    <a:pt x="1078" y="3331"/>
                  </a:lnTo>
                  <a:lnTo>
                    <a:pt x="1084" y="3354"/>
                  </a:lnTo>
                  <a:lnTo>
                    <a:pt x="1088" y="3377"/>
                  </a:lnTo>
                  <a:lnTo>
                    <a:pt x="1094" y="3402"/>
                  </a:lnTo>
                  <a:lnTo>
                    <a:pt x="1103" y="3447"/>
                  </a:lnTo>
                  <a:lnTo>
                    <a:pt x="1115" y="3484"/>
                  </a:lnTo>
                  <a:lnTo>
                    <a:pt x="1123" y="3513"/>
                  </a:lnTo>
                  <a:lnTo>
                    <a:pt x="1133" y="3536"/>
                  </a:lnTo>
                  <a:lnTo>
                    <a:pt x="1138" y="3554"/>
                  </a:lnTo>
                  <a:lnTo>
                    <a:pt x="1144" y="3573"/>
                  </a:lnTo>
                  <a:lnTo>
                    <a:pt x="1150" y="3593"/>
                  </a:lnTo>
                  <a:lnTo>
                    <a:pt x="1156" y="3618"/>
                  </a:lnTo>
                  <a:lnTo>
                    <a:pt x="1183" y="3678"/>
                  </a:lnTo>
                  <a:lnTo>
                    <a:pt x="1206" y="3726"/>
                  </a:lnTo>
                  <a:lnTo>
                    <a:pt x="1224" y="3761"/>
                  </a:lnTo>
                  <a:lnTo>
                    <a:pt x="1237" y="3790"/>
                  </a:lnTo>
                  <a:lnTo>
                    <a:pt x="1247" y="3812"/>
                  </a:lnTo>
                  <a:lnTo>
                    <a:pt x="1259" y="3833"/>
                  </a:lnTo>
                  <a:lnTo>
                    <a:pt x="1266" y="3852"/>
                  </a:lnTo>
                  <a:lnTo>
                    <a:pt x="1278" y="3878"/>
                  </a:lnTo>
                  <a:lnTo>
                    <a:pt x="1282" y="3883"/>
                  </a:lnTo>
                  <a:lnTo>
                    <a:pt x="1294" y="3901"/>
                  </a:lnTo>
                  <a:lnTo>
                    <a:pt x="1309" y="3924"/>
                  </a:lnTo>
                  <a:lnTo>
                    <a:pt x="1328" y="3953"/>
                  </a:lnTo>
                  <a:lnTo>
                    <a:pt x="1346" y="3982"/>
                  </a:lnTo>
                  <a:lnTo>
                    <a:pt x="1367" y="4013"/>
                  </a:lnTo>
                  <a:lnTo>
                    <a:pt x="1385" y="4041"/>
                  </a:lnTo>
                  <a:lnTo>
                    <a:pt x="1404" y="4068"/>
                  </a:lnTo>
                  <a:lnTo>
                    <a:pt x="1410" y="4079"/>
                  </a:lnTo>
                  <a:lnTo>
                    <a:pt x="1416" y="4091"/>
                  </a:lnTo>
                  <a:lnTo>
                    <a:pt x="1420" y="4099"/>
                  </a:lnTo>
                  <a:lnTo>
                    <a:pt x="1423" y="4107"/>
                  </a:lnTo>
                  <a:lnTo>
                    <a:pt x="1425" y="4116"/>
                  </a:lnTo>
                  <a:lnTo>
                    <a:pt x="1431" y="4132"/>
                  </a:lnTo>
                  <a:lnTo>
                    <a:pt x="1443" y="4147"/>
                  </a:lnTo>
                  <a:lnTo>
                    <a:pt x="1466" y="4172"/>
                  </a:lnTo>
                  <a:lnTo>
                    <a:pt x="1495" y="4202"/>
                  </a:lnTo>
                  <a:lnTo>
                    <a:pt x="1530" y="4236"/>
                  </a:lnTo>
                  <a:lnTo>
                    <a:pt x="1561" y="4269"/>
                  </a:lnTo>
                  <a:lnTo>
                    <a:pt x="1588" y="4299"/>
                  </a:lnTo>
                  <a:lnTo>
                    <a:pt x="1610" y="4322"/>
                  </a:lnTo>
                  <a:lnTo>
                    <a:pt x="1621" y="4337"/>
                  </a:lnTo>
                  <a:lnTo>
                    <a:pt x="1639" y="4351"/>
                  </a:lnTo>
                  <a:lnTo>
                    <a:pt x="1656" y="4364"/>
                  </a:lnTo>
                  <a:lnTo>
                    <a:pt x="1672" y="4376"/>
                  </a:lnTo>
                  <a:lnTo>
                    <a:pt x="1689" y="4390"/>
                  </a:lnTo>
                  <a:lnTo>
                    <a:pt x="1693" y="4394"/>
                  </a:lnTo>
                  <a:lnTo>
                    <a:pt x="1699" y="4399"/>
                  </a:lnTo>
                  <a:lnTo>
                    <a:pt x="1707" y="4407"/>
                  </a:lnTo>
                  <a:lnTo>
                    <a:pt x="1718" y="4417"/>
                  </a:lnTo>
                  <a:lnTo>
                    <a:pt x="1732" y="4427"/>
                  </a:lnTo>
                  <a:lnTo>
                    <a:pt x="1751" y="4442"/>
                  </a:lnTo>
                  <a:lnTo>
                    <a:pt x="1773" y="4460"/>
                  </a:lnTo>
                  <a:lnTo>
                    <a:pt x="1802" y="4485"/>
                  </a:lnTo>
                  <a:lnTo>
                    <a:pt x="1813" y="4489"/>
                  </a:lnTo>
                  <a:lnTo>
                    <a:pt x="1825" y="4494"/>
                  </a:lnTo>
                  <a:lnTo>
                    <a:pt x="1837" y="4500"/>
                  </a:lnTo>
                  <a:lnTo>
                    <a:pt x="1852" y="4508"/>
                  </a:lnTo>
                  <a:lnTo>
                    <a:pt x="1870" y="4520"/>
                  </a:lnTo>
                  <a:lnTo>
                    <a:pt x="1895" y="4537"/>
                  </a:lnTo>
                  <a:lnTo>
                    <a:pt x="1926" y="4558"/>
                  </a:lnTo>
                  <a:lnTo>
                    <a:pt x="1970" y="4589"/>
                  </a:lnTo>
                  <a:lnTo>
                    <a:pt x="1990" y="4599"/>
                  </a:lnTo>
                  <a:lnTo>
                    <a:pt x="2011" y="4609"/>
                  </a:lnTo>
                  <a:lnTo>
                    <a:pt x="2032" y="4619"/>
                  </a:lnTo>
                  <a:lnTo>
                    <a:pt x="2054" y="4628"/>
                  </a:lnTo>
                  <a:lnTo>
                    <a:pt x="2073" y="4638"/>
                  </a:lnTo>
                  <a:lnTo>
                    <a:pt x="2093" y="4648"/>
                  </a:lnTo>
                  <a:lnTo>
                    <a:pt x="2112" y="4657"/>
                  </a:lnTo>
                  <a:lnTo>
                    <a:pt x="2133" y="4669"/>
                  </a:lnTo>
                  <a:lnTo>
                    <a:pt x="2149" y="4673"/>
                  </a:lnTo>
                  <a:lnTo>
                    <a:pt x="2164" y="4679"/>
                  </a:lnTo>
                  <a:lnTo>
                    <a:pt x="2180" y="4685"/>
                  </a:lnTo>
                  <a:lnTo>
                    <a:pt x="2195" y="4690"/>
                  </a:lnTo>
                  <a:lnTo>
                    <a:pt x="2209" y="4694"/>
                  </a:lnTo>
                  <a:lnTo>
                    <a:pt x="2224" y="4700"/>
                  </a:lnTo>
                  <a:lnTo>
                    <a:pt x="2240" y="4706"/>
                  </a:lnTo>
                  <a:lnTo>
                    <a:pt x="2255" y="4712"/>
                  </a:lnTo>
                  <a:lnTo>
                    <a:pt x="2275" y="4712"/>
                  </a:lnTo>
                  <a:lnTo>
                    <a:pt x="2296" y="4716"/>
                  </a:lnTo>
                  <a:lnTo>
                    <a:pt x="2318" y="4717"/>
                  </a:lnTo>
                  <a:lnTo>
                    <a:pt x="2339" y="4721"/>
                  </a:lnTo>
                  <a:lnTo>
                    <a:pt x="2358" y="4723"/>
                  </a:lnTo>
                  <a:lnTo>
                    <a:pt x="2378" y="4727"/>
                  </a:lnTo>
                  <a:lnTo>
                    <a:pt x="2397" y="4729"/>
                  </a:lnTo>
                  <a:lnTo>
                    <a:pt x="2418" y="4733"/>
                  </a:lnTo>
                  <a:close/>
                  <a:moveTo>
                    <a:pt x="4303" y="4669"/>
                  </a:moveTo>
                  <a:lnTo>
                    <a:pt x="4313" y="4667"/>
                  </a:lnTo>
                  <a:lnTo>
                    <a:pt x="4323" y="4667"/>
                  </a:lnTo>
                  <a:lnTo>
                    <a:pt x="4334" y="4667"/>
                  </a:lnTo>
                  <a:lnTo>
                    <a:pt x="4346" y="4667"/>
                  </a:lnTo>
                  <a:lnTo>
                    <a:pt x="4358" y="4665"/>
                  </a:lnTo>
                  <a:lnTo>
                    <a:pt x="4369" y="4665"/>
                  </a:lnTo>
                  <a:lnTo>
                    <a:pt x="4381" y="4665"/>
                  </a:lnTo>
                  <a:lnTo>
                    <a:pt x="4393" y="4665"/>
                  </a:lnTo>
                  <a:lnTo>
                    <a:pt x="4402" y="4659"/>
                  </a:lnTo>
                  <a:lnTo>
                    <a:pt x="4414" y="4657"/>
                  </a:lnTo>
                  <a:lnTo>
                    <a:pt x="4424" y="4652"/>
                  </a:lnTo>
                  <a:lnTo>
                    <a:pt x="4435" y="4650"/>
                  </a:lnTo>
                  <a:lnTo>
                    <a:pt x="4447" y="4642"/>
                  </a:lnTo>
                  <a:lnTo>
                    <a:pt x="4464" y="4634"/>
                  </a:lnTo>
                  <a:lnTo>
                    <a:pt x="4486" y="4622"/>
                  </a:lnTo>
                  <a:lnTo>
                    <a:pt x="4515" y="4611"/>
                  </a:lnTo>
                  <a:lnTo>
                    <a:pt x="4528" y="4601"/>
                  </a:lnTo>
                  <a:lnTo>
                    <a:pt x="4544" y="4591"/>
                  </a:lnTo>
                  <a:lnTo>
                    <a:pt x="4556" y="4580"/>
                  </a:lnTo>
                  <a:lnTo>
                    <a:pt x="4573" y="4570"/>
                  </a:lnTo>
                  <a:lnTo>
                    <a:pt x="4585" y="4556"/>
                  </a:lnTo>
                  <a:lnTo>
                    <a:pt x="4598" y="4545"/>
                  </a:lnTo>
                  <a:lnTo>
                    <a:pt x="4612" y="4531"/>
                  </a:lnTo>
                  <a:lnTo>
                    <a:pt x="4625" y="4520"/>
                  </a:lnTo>
                  <a:lnTo>
                    <a:pt x="4637" y="4506"/>
                  </a:lnTo>
                  <a:lnTo>
                    <a:pt x="4649" y="4494"/>
                  </a:lnTo>
                  <a:lnTo>
                    <a:pt x="4662" y="4481"/>
                  </a:lnTo>
                  <a:lnTo>
                    <a:pt x="4678" y="4469"/>
                  </a:lnTo>
                  <a:lnTo>
                    <a:pt x="4680" y="4460"/>
                  </a:lnTo>
                  <a:lnTo>
                    <a:pt x="4684" y="4454"/>
                  </a:lnTo>
                  <a:lnTo>
                    <a:pt x="4689" y="4444"/>
                  </a:lnTo>
                  <a:lnTo>
                    <a:pt x="4697" y="4436"/>
                  </a:lnTo>
                  <a:lnTo>
                    <a:pt x="4705" y="4419"/>
                  </a:lnTo>
                  <a:lnTo>
                    <a:pt x="4718" y="4399"/>
                  </a:lnTo>
                  <a:lnTo>
                    <a:pt x="4738" y="4372"/>
                  </a:lnTo>
                  <a:lnTo>
                    <a:pt x="4763" y="4337"/>
                  </a:lnTo>
                  <a:lnTo>
                    <a:pt x="4767" y="4324"/>
                  </a:lnTo>
                  <a:lnTo>
                    <a:pt x="4773" y="4312"/>
                  </a:lnTo>
                  <a:lnTo>
                    <a:pt x="4779" y="4300"/>
                  </a:lnTo>
                  <a:lnTo>
                    <a:pt x="4784" y="4289"/>
                  </a:lnTo>
                  <a:lnTo>
                    <a:pt x="4784" y="4271"/>
                  </a:lnTo>
                  <a:lnTo>
                    <a:pt x="4786" y="4256"/>
                  </a:lnTo>
                  <a:lnTo>
                    <a:pt x="4788" y="4240"/>
                  </a:lnTo>
                  <a:lnTo>
                    <a:pt x="4792" y="4225"/>
                  </a:lnTo>
                  <a:lnTo>
                    <a:pt x="4792" y="4207"/>
                  </a:lnTo>
                  <a:lnTo>
                    <a:pt x="4794" y="4194"/>
                  </a:lnTo>
                  <a:lnTo>
                    <a:pt x="4796" y="4176"/>
                  </a:lnTo>
                  <a:lnTo>
                    <a:pt x="4800" y="4163"/>
                  </a:lnTo>
                  <a:lnTo>
                    <a:pt x="4800" y="4147"/>
                  </a:lnTo>
                  <a:lnTo>
                    <a:pt x="4800" y="4134"/>
                  </a:lnTo>
                  <a:lnTo>
                    <a:pt x="4800" y="4122"/>
                  </a:lnTo>
                  <a:lnTo>
                    <a:pt x="4800" y="4110"/>
                  </a:lnTo>
                  <a:lnTo>
                    <a:pt x="4800" y="4097"/>
                  </a:lnTo>
                  <a:lnTo>
                    <a:pt x="4800" y="4085"/>
                  </a:lnTo>
                  <a:lnTo>
                    <a:pt x="4800" y="4074"/>
                  </a:lnTo>
                  <a:lnTo>
                    <a:pt x="4800" y="4062"/>
                  </a:lnTo>
                  <a:lnTo>
                    <a:pt x="4796" y="4050"/>
                  </a:lnTo>
                  <a:lnTo>
                    <a:pt x="4794" y="4039"/>
                  </a:lnTo>
                  <a:lnTo>
                    <a:pt x="4792" y="4027"/>
                  </a:lnTo>
                  <a:lnTo>
                    <a:pt x="4792" y="4017"/>
                  </a:lnTo>
                  <a:lnTo>
                    <a:pt x="4786" y="3996"/>
                  </a:lnTo>
                  <a:lnTo>
                    <a:pt x="4784" y="3978"/>
                  </a:lnTo>
                  <a:lnTo>
                    <a:pt x="4773" y="3949"/>
                  </a:lnTo>
                  <a:lnTo>
                    <a:pt x="4763" y="3922"/>
                  </a:lnTo>
                  <a:lnTo>
                    <a:pt x="4753" y="3897"/>
                  </a:lnTo>
                  <a:lnTo>
                    <a:pt x="4746" y="3874"/>
                  </a:lnTo>
                  <a:lnTo>
                    <a:pt x="4736" y="3850"/>
                  </a:lnTo>
                  <a:lnTo>
                    <a:pt x="4730" y="3829"/>
                  </a:lnTo>
                  <a:lnTo>
                    <a:pt x="4724" y="3812"/>
                  </a:lnTo>
                  <a:lnTo>
                    <a:pt x="4720" y="3798"/>
                  </a:lnTo>
                  <a:lnTo>
                    <a:pt x="4691" y="3740"/>
                  </a:lnTo>
                  <a:lnTo>
                    <a:pt x="4668" y="3695"/>
                  </a:lnTo>
                  <a:lnTo>
                    <a:pt x="4649" y="3658"/>
                  </a:lnTo>
                  <a:lnTo>
                    <a:pt x="4633" y="3629"/>
                  </a:lnTo>
                  <a:lnTo>
                    <a:pt x="4618" y="3600"/>
                  </a:lnTo>
                  <a:lnTo>
                    <a:pt x="4602" y="3571"/>
                  </a:lnTo>
                  <a:lnTo>
                    <a:pt x="4585" y="3540"/>
                  </a:lnTo>
                  <a:lnTo>
                    <a:pt x="4567" y="3503"/>
                  </a:lnTo>
                  <a:lnTo>
                    <a:pt x="4552" y="3484"/>
                  </a:lnTo>
                  <a:lnTo>
                    <a:pt x="4532" y="3457"/>
                  </a:lnTo>
                  <a:lnTo>
                    <a:pt x="4509" y="3424"/>
                  </a:lnTo>
                  <a:lnTo>
                    <a:pt x="4484" y="3389"/>
                  </a:lnTo>
                  <a:lnTo>
                    <a:pt x="4453" y="3346"/>
                  </a:lnTo>
                  <a:lnTo>
                    <a:pt x="4424" y="3305"/>
                  </a:lnTo>
                  <a:lnTo>
                    <a:pt x="4393" y="3261"/>
                  </a:lnTo>
                  <a:lnTo>
                    <a:pt x="4362" y="3222"/>
                  </a:lnTo>
                  <a:lnTo>
                    <a:pt x="4350" y="3210"/>
                  </a:lnTo>
                  <a:lnTo>
                    <a:pt x="4340" y="3199"/>
                  </a:lnTo>
                  <a:lnTo>
                    <a:pt x="4331" y="3187"/>
                  </a:lnTo>
                  <a:lnTo>
                    <a:pt x="4321" y="3177"/>
                  </a:lnTo>
                  <a:lnTo>
                    <a:pt x="4302" y="3156"/>
                  </a:lnTo>
                  <a:lnTo>
                    <a:pt x="4282" y="3139"/>
                  </a:lnTo>
                  <a:lnTo>
                    <a:pt x="4265" y="3133"/>
                  </a:lnTo>
                  <a:lnTo>
                    <a:pt x="4247" y="3131"/>
                  </a:lnTo>
                  <a:lnTo>
                    <a:pt x="4230" y="3127"/>
                  </a:lnTo>
                  <a:lnTo>
                    <a:pt x="4214" y="3125"/>
                  </a:lnTo>
                  <a:lnTo>
                    <a:pt x="4197" y="3121"/>
                  </a:lnTo>
                  <a:lnTo>
                    <a:pt x="4181" y="3119"/>
                  </a:lnTo>
                  <a:lnTo>
                    <a:pt x="4166" y="3117"/>
                  </a:lnTo>
                  <a:lnTo>
                    <a:pt x="4150" y="3117"/>
                  </a:lnTo>
                  <a:lnTo>
                    <a:pt x="4139" y="3108"/>
                  </a:lnTo>
                  <a:lnTo>
                    <a:pt x="4129" y="3100"/>
                  </a:lnTo>
                  <a:lnTo>
                    <a:pt x="4121" y="3096"/>
                  </a:lnTo>
                  <a:lnTo>
                    <a:pt x="4113" y="3092"/>
                  </a:lnTo>
                  <a:lnTo>
                    <a:pt x="4100" y="3088"/>
                  </a:lnTo>
                  <a:lnTo>
                    <a:pt x="4086" y="3084"/>
                  </a:lnTo>
                  <a:lnTo>
                    <a:pt x="4071" y="3075"/>
                  </a:lnTo>
                  <a:lnTo>
                    <a:pt x="4057" y="3065"/>
                  </a:lnTo>
                  <a:lnTo>
                    <a:pt x="4044" y="3055"/>
                  </a:lnTo>
                  <a:lnTo>
                    <a:pt x="4030" y="3047"/>
                  </a:lnTo>
                  <a:lnTo>
                    <a:pt x="4018" y="3036"/>
                  </a:lnTo>
                  <a:lnTo>
                    <a:pt x="4013" y="3026"/>
                  </a:lnTo>
                  <a:lnTo>
                    <a:pt x="4005" y="3016"/>
                  </a:lnTo>
                  <a:lnTo>
                    <a:pt x="3997" y="3005"/>
                  </a:lnTo>
                  <a:lnTo>
                    <a:pt x="3985" y="2987"/>
                  </a:lnTo>
                  <a:lnTo>
                    <a:pt x="3974" y="2968"/>
                  </a:lnTo>
                  <a:lnTo>
                    <a:pt x="3958" y="2941"/>
                  </a:lnTo>
                  <a:lnTo>
                    <a:pt x="3939" y="2906"/>
                  </a:lnTo>
                  <a:lnTo>
                    <a:pt x="3931" y="2885"/>
                  </a:lnTo>
                  <a:lnTo>
                    <a:pt x="3925" y="2865"/>
                  </a:lnTo>
                  <a:lnTo>
                    <a:pt x="3921" y="2846"/>
                  </a:lnTo>
                  <a:lnTo>
                    <a:pt x="3918" y="2826"/>
                  </a:lnTo>
                  <a:lnTo>
                    <a:pt x="3902" y="2811"/>
                  </a:lnTo>
                  <a:lnTo>
                    <a:pt x="3890" y="2801"/>
                  </a:lnTo>
                  <a:lnTo>
                    <a:pt x="3881" y="2793"/>
                  </a:lnTo>
                  <a:lnTo>
                    <a:pt x="3869" y="2786"/>
                  </a:lnTo>
                  <a:lnTo>
                    <a:pt x="3854" y="2772"/>
                  </a:lnTo>
                  <a:lnTo>
                    <a:pt x="3834" y="2758"/>
                  </a:lnTo>
                  <a:lnTo>
                    <a:pt x="3807" y="2745"/>
                  </a:lnTo>
                  <a:lnTo>
                    <a:pt x="3788" y="2733"/>
                  </a:lnTo>
                  <a:lnTo>
                    <a:pt x="3768" y="2724"/>
                  </a:lnTo>
                  <a:lnTo>
                    <a:pt x="3751" y="2714"/>
                  </a:lnTo>
                  <a:lnTo>
                    <a:pt x="3726" y="2700"/>
                  </a:lnTo>
                  <a:lnTo>
                    <a:pt x="3696" y="2683"/>
                  </a:lnTo>
                  <a:lnTo>
                    <a:pt x="3660" y="2660"/>
                  </a:lnTo>
                  <a:lnTo>
                    <a:pt x="3611" y="2630"/>
                  </a:lnTo>
                  <a:lnTo>
                    <a:pt x="3596" y="2621"/>
                  </a:lnTo>
                  <a:lnTo>
                    <a:pt x="3582" y="2613"/>
                  </a:lnTo>
                  <a:lnTo>
                    <a:pt x="3568" y="2607"/>
                  </a:lnTo>
                  <a:lnTo>
                    <a:pt x="3555" y="2601"/>
                  </a:lnTo>
                  <a:lnTo>
                    <a:pt x="3539" y="2596"/>
                  </a:lnTo>
                  <a:lnTo>
                    <a:pt x="3528" y="2590"/>
                  </a:lnTo>
                  <a:lnTo>
                    <a:pt x="3512" y="2584"/>
                  </a:lnTo>
                  <a:lnTo>
                    <a:pt x="3501" y="2578"/>
                  </a:lnTo>
                  <a:lnTo>
                    <a:pt x="3489" y="2574"/>
                  </a:lnTo>
                  <a:lnTo>
                    <a:pt x="3481" y="2572"/>
                  </a:lnTo>
                  <a:lnTo>
                    <a:pt x="3473" y="2570"/>
                  </a:lnTo>
                  <a:lnTo>
                    <a:pt x="3466" y="2570"/>
                  </a:lnTo>
                  <a:lnTo>
                    <a:pt x="3456" y="2566"/>
                  </a:lnTo>
                  <a:lnTo>
                    <a:pt x="3448" y="2563"/>
                  </a:lnTo>
                  <a:lnTo>
                    <a:pt x="3435" y="2557"/>
                  </a:lnTo>
                  <a:lnTo>
                    <a:pt x="3421" y="2553"/>
                  </a:lnTo>
                  <a:lnTo>
                    <a:pt x="3409" y="2549"/>
                  </a:lnTo>
                  <a:lnTo>
                    <a:pt x="3398" y="2547"/>
                  </a:lnTo>
                  <a:lnTo>
                    <a:pt x="3386" y="2545"/>
                  </a:lnTo>
                  <a:lnTo>
                    <a:pt x="3376" y="2543"/>
                  </a:lnTo>
                  <a:lnTo>
                    <a:pt x="3355" y="2539"/>
                  </a:lnTo>
                  <a:lnTo>
                    <a:pt x="3338" y="2535"/>
                  </a:lnTo>
                  <a:lnTo>
                    <a:pt x="3318" y="2535"/>
                  </a:lnTo>
                  <a:lnTo>
                    <a:pt x="3301" y="2535"/>
                  </a:lnTo>
                  <a:lnTo>
                    <a:pt x="3283" y="2535"/>
                  </a:lnTo>
                  <a:lnTo>
                    <a:pt x="3266" y="2537"/>
                  </a:lnTo>
                  <a:lnTo>
                    <a:pt x="3246" y="2537"/>
                  </a:lnTo>
                  <a:lnTo>
                    <a:pt x="3229" y="2539"/>
                  </a:lnTo>
                  <a:lnTo>
                    <a:pt x="3212" y="2539"/>
                  </a:lnTo>
                  <a:lnTo>
                    <a:pt x="3194" y="2541"/>
                  </a:lnTo>
                  <a:lnTo>
                    <a:pt x="3182" y="2557"/>
                  </a:lnTo>
                  <a:lnTo>
                    <a:pt x="3169" y="2572"/>
                  </a:lnTo>
                  <a:lnTo>
                    <a:pt x="3150" y="2576"/>
                  </a:lnTo>
                  <a:lnTo>
                    <a:pt x="3138" y="2582"/>
                  </a:lnTo>
                  <a:lnTo>
                    <a:pt x="3126" y="2588"/>
                  </a:lnTo>
                  <a:lnTo>
                    <a:pt x="3118" y="2594"/>
                  </a:lnTo>
                  <a:lnTo>
                    <a:pt x="3103" y="2601"/>
                  </a:lnTo>
                  <a:lnTo>
                    <a:pt x="3089" y="2609"/>
                  </a:lnTo>
                  <a:lnTo>
                    <a:pt x="3068" y="2625"/>
                  </a:lnTo>
                  <a:lnTo>
                    <a:pt x="3051" y="2640"/>
                  </a:lnTo>
                  <a:lnTo>
                    <a:pt x="3035" y="2654"/>
                  </a:lnTo>
                  <a:lnTo>
                    <a:pt x="3020" y="2667"/>
                  </a:lnTo>
                  <a:lnTo>
                    <a:pt x="3012" y="2677"/>
                  </a:lnTo>
                  <a:lnTo>
                    <a:pt x="3006" y="2689"/>
                  </a:lnTo>
                  <a:lnTo>
                    <a:pt x="3000" y="2700"/>
                  </a:lnTo>
                  <a:lnTo>
                    <a:pt x="2994" y="2712"/>
                  </a:lnTo>
                  <a:lnTo>
                    <a:pt x="2987" y="2722"/>
                  </a:lnTo>
                  <a:lnTo>
                    <a:pt x="2981" y="2733"/>
                  </a:lnTo>
                  <a:lnTo>
                    <a:pt x="2973" y="2745"/>
                  </a:lnTo>
                  <a:lnTo>
                    <a:pt x="2967" y="2758"/>
                  </a:lnTo>
                  <a:lnTo>
                    <a:pt x="2961" y="2768"/>
                  </a:lnTo>
                  <a:lnTo>
                    <a:pt x="2958" y="2780"/>
                  </a:lnTo>
                  <a:lnTo>
                    <a:pt x="2954" y="2791"/>
                  </a:lnTo>
                  <a:lnTo>
                    <a:pt x="2952" y="2803"/>
                  </a:lnTo>
                  <a:lnTo>
                    <a:pt x="2948" y="2813"/>
                  </a:lnTo>
                  <a:lnTo>
                    <a:pt x="2946" y="2824"/>
                  </a:lnTo>
                  <a:lnTo>
                    <a:pt x="2942" y="2836"/>
                  </a:lnTo>
                  <a:lnTo>
                    <a:pt x="2942" y="2848"/>
                  </a:lnTo>
                  <a:lnTo>
                    <a:pt x="2936" y="2886"/>
                  </a:lnTo>
                  <a:lnTo>
                    <a:pt x="2932" y="2919"/>
                  </a:lnTo>
                  <a:lnTo>
                    <a:pt x="2928" y="2945"/>
                  </a:lnTo>
                  <a:lnTo>
                    <a:pt x="2928" y="2970"/>
                  </a:lnTo>
                  <a:lnTo>
                    <a:pt x="2925" y="2989"/>
                  </a:lnTo>
                  <a:lnTo>
                    <a:pt x="2923" y="3014"/>
                  </a:lnTo>
                  <a:lnTo>
                    <a:pt x="2921" y="3044"/>
                  </a:lnTo>
                  <a:lnTo>
                    <a:pt x="2921" y="3080"/>
                  </a:lnTo>
                  <a:lnTo>
                    <a:pt x="2923" y="3110"/>
                  </a:lnTo>
                  <a:lnTo>
                    <a:pt x="2926" y="3139"/>
                  </a:lnTo>
                  <a:lnTo>
                    <a:pt x="2930" y="3168"/>
                  </a:lnTo>
                  <a:lnTo>
                    <a:pt x="2936" y="3199"/>
                  </a:lnTo>
                  <a:lnTo>
                    <a:pt x="2938" y="3228"/>
                  </a:lnTo>
                  <a:lnTo>
                    <a:pt x="2942" y="3257"/>
                  </a:lnTo>
                  <a:lnTo>
                    <a:pt x="2946" y="3286"/>
                  </a:lnTo>
                  <a:lnTo>
                    <a:pt x="2952" y="3317"/>
                  </a:lnTo>
                  <a:lnTo>
                    <a:pt x="2958" y="3329"/>
                  </a:lnTo>
                  <a:lnTo>
                    <a:pt x="2965" y="3340"/>
                  </a:lnTo>
                  <a:lnTo>
                    <a:pt x="2971" y="3352"/>
                  </a:lnTo>
                  <a:lnTo>
                    <a:pt x="2979" y="3366"/>
                  </a:lnTo>
                  <a:lnTo>
                    <a:pt x="2981" y="3383"/>
                  </a:lnTo>
                  <a:lnTo>
                    <a:pt x="2985" y="3400"/>
                  </a:lnTo>
                  <a:lnTo>
                    <a:pt x="2987" y="3418"/>
                  </a:lnTo>
                  <a:lnTo>
                    <a:pt x="2989" y="3439"/>
                  </a:lnTo>
                  <a:lnTo>
                    <a:pt x="2998" y="3466"/>
                  </a:lnTo>
                  <a:lnTo>
                    <a:pt x="3010" y="3494"/>
                  </a:lnTo>
                  <a:lnTo>
                    <a:pt x="3020" y="3521"/>
                  </a:lnTo>
                  <a:lnTo>
                    <a:pt x="3031" y="3550"/>
                  </a:lnTo>
                  <a:lnTo>
                    <a:pt x="3041" y="3577"/>
                  </a:lnTo>
                  <a:lnTo>
                    <a:pt x="3053" y="3606"/>
                  </a:lnTo>
                  <a:lnTo>
                    <a:pt x="3062" y="3635"/>
                  </a:lnTo>
                  <a:lnTo>
                    <a:pt x="3074" y="3666"/>
                  </a:lnTo>
                  <a:lnTo>
                    <a:pt x="3084" y="3691"/>
                  </a:lnTo>
                  <a:lnTo>
                    <a:pt x="3093" y="3711"/>
                  </a:lnTo>
                  <a:lnTo>
                    <a:pt x="3099" y="3724"/>
                  </a:lnTo>
                  <a:lnTo>
                    <a:pt x="3107" y="3738"/>
                  </a:lnTo>
                  <a:lnTo>
                    <a:pt x="3109" y="3748"/>
                  </a:lnTo>
                  <a:lnTo>
                    <a:pt x="3113" y="3757"/>
                  </a:lnTo>
                  <a:lnTo>
                    <a:pt x="3115" y="3765"/>
                  </a:lnTo>
                  <a:lnTo>
                    <a:pt x="3120" y="3777"/>
                  </a:lnTo>
                  <a:lnTo>
                    <a:pt x="3130" y="3796"/>
                  </a:lnTo>
                  <a:lnTo>
                    <a:pt x="3142" y="3814"/>
                  </a:lnTo>
                  <a:lnTo>
                    <a:pt x="3150" y="3829"/>
                  </a:lnTo>
                  <a:lnTo>
                    <a:pt x="3161" y="3847"/>
                  </a:lnTo>
                  <a:lnTo>
                    <a:pt x="3173" y="3864"/>
                  </a:lnTo>
                  <a:lnTo>
                    <a:pt x="3188" y="3887"/>
                  </a:lnTo>
                  <a:lnTo>
                    <a:pt x="3208" y="3916"/>
                  </a:lnTo>
                  <a:lnTo>
                    <a:pt x="3237" y="3957"/>
                  </a:lnTo>
                  <a:lnTo>
                    <a:pt x="3243" y="3969"/>
                  </a:lnTo>
                  <a:lnTo>
                    <a:pt x="3248" y="3980"/>
                  </a:lnTo>
                  <a:lnTo>
                    <a:pt x="3252" y="3992"/>
                  </a:lnTo>
                  <a:lnTo>
                    <a:pt x="3258" y="4004"/>
                  </a:lnTo>
                  <a:lnTo>
                    <a:pt x="3270" y="4021"/>
                  </a:lnTo>
                  <a:lnTo>
                    <a:pt x="3285" y="4039"/>
                  </a:lnTo>
                  <a:lnTo>
                    <a:pt x="3297" y="4056"/>
                  </a:lnTo>
                  <a:lnTo>
                    <a:pt x="3312" y="4075"/>
                  </a:lnTo>
                  <a:lnTo>
                    <a:pt x="3324" y="4093"/>
                  </a:lnTo>
                  <a:lnTo>
                    <a:pt x="3338" y="4110"/>
                  </a:lnTo>
                  <a:lnTo>
                    <a:pt x="3349" y="4128"/>
                  </a:lnTo>
                  <a:lnTo>
                    <a:pt x="3363" y="4147"/>
                  </a:lnTo>
                  <a:lnTo>
                    <a:pt x="3367" y="4147"/>
                  </a:lnTo>
                  <a:lnTo>
                    <a:pt x="3373" y="4149"/>
                  </a:lnTo>
                  <a:lnTo>
                    <a:pt x="3378" y="4155"/>
                  </a:lnTo>
                  <a:lnTo>
                    <a:pt x="3392" y="4165"/>
                  </a:lnTo>
                  <a:lnTo>
                    <a:pt x="3406" y="4178"/>
                  </a:lnTo>
                  <a:lnTo>
                    <a:pt x="3429" y="4200"/>
                  </a:lnTo>
                  <a:lnTo>
                    <a:pt x="3456" y="4227"/>
                  </a:lnTo>
                  <a:lnTo>
                    <a:pt x="3497" y="4267"/>
                  </a:lnTo>
                  <a:lnTo>
                    <a:pt x="3522" y="4289"/>
                  </a:lnTo>
                  <a:lnTo>
                    <a:pt x="3543" y="4308"/>
                  </a:lnTo>
                  <a:lnTo>
                    <a:pt x="3563" y="4326"/>
                  </a:lnTo>
                  <a:lnTo>
                    <a:pt x="3588" y="4345"/>
                  </a:lnTo>
                  <a:lnTo>
                    <a:pt x="3613" y="4364"/>
                  </a:lnTo>
                  <a:lnTo>
                    <a:pt x="3650" y="4392"/>
                  </a:lnTo>
                  <a:lnTo>
                    <a:pt x="3698" y="4425"/>
                  </a:lnTo>
                  <a:lnTo>
                    <a:pt x="3760" y="4469"/>
                  </a:lnTo>
                  <a:lnTo>
                    <a:pt x="3786" y="4479"/>
                  </a:lnTo>
                  <a:lnTo>
                    <a:pt x="3807" y="4491"/>
                  </a:lnTo>
                  <a:lnTo>
                    <a:pt x="3824" y="4500"/>
                  </a:lnTo>
                  <a:lnTo>
                    <a:pt x="3844" y="4510"/>
                  </a:lnTo>
                  <a:lnTo>
                    <a:pt x="3859" y="4520"/>
                  </a:lnTo>
                  <a:lnTo>
                    <a:pt x="3879" y="4531"/>
                  </a:lnTo>
                  <a:lnTo>
                    <a:pt x="3900" y="4543"/>
                  </a:lnTo>
                  <a:lnTo>
                    <a:pt x="3929" y="4558"/>
                  </a:lnTo>
                  <a:lnTo>
                    <a:pt x="3968" y="4570"/>
                  </a:lnTo>
                  <a:lnTo>
                    <a:pt x="4007" y="4586"/>
                  </a:lnTo>
                  <a:lnTo>
                    <a:pt x="4044" y="4599"/>
                  </a:lnTo>
                  <a:lnTo>
                    <a:pt x="4080" y="4615"/>
                  </a:lnTo>
                  <a:lnTo>
                    <a:pt x="4111" y="4626"/>
                  </a:lnTo>
                  <a:lnTo>
                    <a:pt x="4144" y="4638"/>
                  </a:lnTo>
                  <a:lnTo>
                    <a:pt x="4175" y="4648"/>
                  </a:lnTo>
                  <a:lnTo>
                    <a:pt x="4208" y="4659"/>
                  </a:lnTo>
                  <a:lnTo>
                    <a:pt x="4220" y="4659"/>
                  </a:lnTo>
                  <a:lnTo>
                    <a:pt x="4232" y="4661"/>
                  </a:lnTo>
                  <a:lnTo>
                    <a:pt x="4243" y="4663"/>
                  </a:lnTo>
                  <a:lnTo>
                    <a:pt x="4255" y="4665"/>
                  </a:lnTo>
                  <a:lnTo>
                    <a:pt x="4267" y="4665"/>
                  </a:lnTo>
                  <a:lnTo>
                    <a:pt x="4278" y="4667"/>
                  </a:lnTo>
                  <a:lnTo>
                    <a:pt x="4290" y="4667"/>
                  </a:lnTo>
                  <a:lnTo>
                    <a:pt x="4303" y="4669"/>
                  </a:lnTo>
                  <a:close/>
                  <a:moveTo>
                    <a:pt x="5781" y="4099"/>
                  </a:moveTo>
                  <a:lnTo>
                    <a:pt x="5791" y="4097"/>
                  </a:lnTo>
                  <a:lnTo>
                    <a:pt x="5799" y="4097"/>
                  </a:lnTo>
                  <a:lnTo>
                    <a:pt x="5805" y="4097"/>
                  </a:lnTo>
                  <a:lnTo>
                    <a:pt x="5810" y="4097"/>
                  </a:lnTo>
                  <a:lnTo>
                    <a:pt x="5814" y="4093"/>
                  </a:lnTo>
                  <a:lnTo>
                    <a:pt x="5818" y="4089"/>
                  </a:lnTo>
                  <a:lnTo>
                    <a:pt x="5818" y="4077"/>
                  </a:lnTo>
                  <a:lnTo>
                    <a:pt x="5818" y="4068"/>
                  </a:lnTo>
                  <a:lnTo>
                    <a:pt x="5806" y="4062"/>
                  </a:lnTo>
                  <a:lnTo>
                    <a:pt x="5799" y="4062"/>
                  </a:lnTo>
                  <a:lnTo>
                    <a:pt x="5791" y="4058"/>
                  </a:lnTo>
                  <a:lnTo>
                    <a:pt x="5787" y="4056"/>
                  </a:lnTo>
                  <a:lnTo>
                    <a:pt x="5777" y="4052"/>
                  </a:lnTo>
                  <a:lnTo>
                    <a:pt x="5764" y="4050"/>
                  </a:lnTo>
                  <a:lnTo>
                    <a:pt x="5744" y="4048"/>
                  </a:lnTo>
                  <a:lnTo>
                    <a:pt x="5723" y="4046"/>
                  </a:lnTo>
                  <a:lnTo>
                    <a:pt x="5700" y="4042"/>
                  </a:lnTo>
                  <a:lnTo>
                    <a:pt x="5680" y="4041"/>
                  </a:lnTo>
                  <a:lnTo>
                    <a:pt x="5665" y="4037"/>
                  </a:lnTo>
                  <a:lnTo>
                    <a:pt x="5661" y="4037"/>
                  </a:lnTo>
                  <a:lnTo>
                    <a:pt x="5632" y="4033"/>
                  </a:lnTo>
                  <a:lnTo>
                    <a:pt x="5609" y="4031"/>
                  </a:lnTo>
                  <a:lnTo>
                    <a:pt x="5580" y="4031"/>
                  </a:lnTo>
                  <a:lnTo>
                    <a:pt x="5547" y="4031"/>
                  </a:lnTo>
                  <a:lnTo>
                    <a:pt x="5498" y="4031"/>
                  </a:lnTo>
                  <a:lnTo>
                    <a:pt x="5434" y="4031"/>
                  </a:lnTo>
                  <a:lnTo>
                    <a:pt x="5347" y="4033"/>
                  </a:lnTo>
                  <a:lnTo>
                    <a:pt x="5232" y="4037"/>
                  </a:lnTo>
                  <a:lnTo>
                    <a:pt x="5225" y="4041"/>
                  </a:lnTo>
                  <a:lnTo>
                    <a:pt x="5223" y="4046"/>
                  </a:lnTo>
                  <a:lnTo>
                    <a:pt x="5223" y="4062"/>
                  </a:lnTo>
                  <a:lnTo>
                    <a:pt x="5223" y="4077"/>
                  </a:lnTo>
                  <a:lnTo>
                    <a:pt x="5230" y="4077"/>
                  </a:lnTo>
                  <a:lnTo>
                    <a:pt x="5238" y="4083"/>
                  </a:lnTo>
                  <a:lnTo>
                    <a:pt x="5254" y="4079"/>
                  </a:lnTo>
                  <a:lnTo>
                    <a:pt x="5269" y="4077"/>
                  </a:lnTo>
                  <a:lnTo>
                    <a:pt x="5285" y="4075"/>
                  </a:lnTo>
                  <a:lnTo>
                    <a:pt x="5300" y="4075"/>
                  </a:lnTo>
                  <a:lnTo>
                    <a:pt x="5316" y="4072"/>
                  </a:lnTo>
                  <a:lnTo>
                    <a:pt x="5331" y="4070"/>
                  </a:lnTo>
                  <a:lnTo>
                    <a:pt x="5347" y="4068"/>
                  </a:lnTo>
                  <a:lnTo>
                    <a:pt x="5364" y="4068"/>
                  </a:lnTo>
                  <a:lnTo>
                    <a:pt x="5380" y="4068"/>
                  </a:lnTo>
                  <a:lnTo>
                    <a:pt x="5395" y="4068"/>
                  </a:lnTo>
                  <a:lnTo>
                    <a:pt x="5411" y="4068"/>
                  </a:lnTo>
                  <a:lnTo>
                    <a:pt x="5428" y="4068"/>
                  </a:lnTo>
                  <a:lnTo>
                    <a:pt x="5444" y="4068"/>
                  </a:lnTo>
                  <a:lnTo>
                    <a:pt x="5459" y="4068"/>
                  </a:lnTo>
                  <a:lnTo>
                    <a:pt x="5475" y="4068"/>
                  </a:lnTo>
                  <a:lnTo>
                    <a:pt x="5492" y="4068"/>
                  </a:lnTo>
                  <a:lnTo>
                    <a:pt x="5574" y="4074"/>
                  </a:lnTo>
                  <a:lnTo>
                    <a:pt x="5636" y="4079"/>
                  </a:lnTo>
                  <a:lnTo>
                    <a:pt x="5680" y="4083"/>
                  </a:lnTo>
                  <a:lnTo>
                    <a:pt x="5713" y="4087"/>
                  </a:lnTo>
                  <a:lnTo>
                    <a:pt x="5735" y="4089"/>
                  </a:lnTo>
                  <a:lnTo>
                    <a:pt x="5752" y="4091"/>
                  </a:lnTo>
                  <a:lnTo>
                    <a:pt x="5766" y="4093"/>
                  </a:lnTo>
                  <a:lnTo>
                    <a:pt x="5781" y="4099"/>
                  </a:lnTo>
                  <a:close/>
                  <a:moveTo>
                    <a:pt x="5133" y="3810"/>
                  </a:moveTo>
                  <a:lnTo>
                    <a:pt x="5135" y="3808"/>
                  </a:lnTo>
                  <a:lnTo>
                    <a:pt x="5137" y="3808"/>
                  </a:lnTo>
                  <a:lnTo>
                    <a:pt x="5143" y="3804"/>
                  </a:lnTo>
                  <a:lnTo>
                    <a:pt x="5153" y="3798"/>
                  </a:lnTo>
                  <a:lnTo>
                    <a:pt x="5159" y="3779"/>
                  </a:lnTo>
                  <a:lnTo>
                    <a:pt x="5166" y="3761"/>
                  </a:lnTo>
                  <a:lnTo>
                    <a:pt x="5170" y="3744"/>
                  </a:lnTo>
                  <a:lnTo>
                    <a:pt x="5174" y="3730"/>
                  </a:lnTo>
                  <a:lnTo>
                    <a:pt x="5174" y="3711"/>
                  </a:lnTo>
                  <a:lnTo>
                    <a:pt x="5176" y="3691"/>
                  </a:lnTo>
                  <a:lnTo>
                    <a:pt x="5176" y="3672"/>
                  </a:lnTo>
                  <a:lnTo>
                    <a:pt x="5178" y="3655"/>
                  </a:lnTo>
                  <a:lnTo>
                    <a:pt x="5178" y="3635"/>
                  </a:lnTo>
                  <a:lnTo>
                    <a:pt x="5178" y="3616"/>
                  </a:lnTo>
                  <a:lnTo>
                    <a:pt x="5178" y="3598"/>
                  </a:lnTo>
                  <a:lnTo>
                    <a:pt x="5180" y="3581"/>
                  </a:lnTo>
                  <a:lnTo>
                    <a:pt x="5174" y="3554"/>
                  </a:lnTo>
                  <a:lnTo>
                    <a:pt x="5172" y="3534"/>
                  </a:lnTo>
                  <a:lnTo>
                    <a:pt x="5168" y="3515"/>
                  </a:lnTo>
                  <a:lnTo>
                    <a:pt x="5165" y="3496"/>
                  </a:lnTo>
                  <a:lnTo>
                    <a:pt x="5157" y="3470"/>
                  </a:lnTo>
                  <a:lnTo>
                    <a:pt x="5151" y="3439"/>
                  </a:lnTo>
                  <a:lnTo>
                    <a:pt x="5139" y="3400"/>
                  </a:lnTo>
                  <a:lnTo>
                    <a:pt x="5128" y="3350"/>
                  </a:lnTo>
                  <a:lnTo>
                    <a:pt x="5114" y="3309"/>
                  </a:lnTo>
                  <a:lnTo>
                    <a:pt x="5104" y="3280"/>
                  </a:lnTo>
                  <a:lnTo>
                    <a:pt x="5097" y="3257"/>
                  </a:lnTo>
                  <a:lnTo>
                    <a:pt x="5093" y="3241"/>
                  </a:lnTo>
                  <a:lnTo>
                    <a:pt x="5087" y="3228"/>
                  </a:lnTo>
                  <a:lnTo>
                    <a:pt x="5081" y="3216"/>
                  </a:lnTo>
                  <a:lnTo>
                    <a:pt x="5075" y="3203"/>
                  </a:lnTo>
                  <a:lnTo>
                    <a:pt x="5069" y="3191"/>
                  </a:lnTo>
                  <a:lnTo>
                    <a:pt x="5064" y="3175"/>
                  </a:lnTo>
                  <a:lnTo>
                    <a:pt x="5058" y="3166"/>
                  </a:lnTo>
                  <a:lnTo>
                    <a:pt x="5050" y="3152"/>
                  </a:lnTo>
                  <a:lnTo>
                    <a:pt x="5042" y="3139"/>
                  </a:lnTo>
                  <a:lnTo>
                    <a:pt x="5027" y="3113"/>
                  </a:lnTo>
                  <a:lnTo>
                    <a:pt x="5015" y="3094"/>
                  </a:lnTo>
                  <a:lnTo>
                    <a:pt x="5004" y="3079"/>
                  </a:lnTo>
                  <a:lnTo>
                    <a:pt x="4996" y="3069"/>
                  </a:lnTo>
                  <a:lnTo>
                    <a:pt x="4986" y="3057"/>
                  </a:lnTo>
                  <a:lnTo>
                    <a:pt x="4978" y="3047"/>
                  </a:lnTo>
                  <a:lnTo>
                    <a:pt x="4971" y="3038"/>
                  </a:lnTo>
                  <a:lnTo>
                    <a:pt x="4963" y="3028"/>
                  </a:lnTo>
                  <a:lnTo>
                    <a:pt x="4949" y="3028"/>
                  </a:lnTo>
                  <a:lnTo>
                    <a:pt x="4943" y="3028"/>
                  </a:lnTo>
                  <a:lnTo>
                    <a:pt x="4934" y="3030"/>
                  </a:lnTo>
                  <a:lnTo>
                    <a:pt x="4926" y="3038"/>
                  </a:lnTo>
                  <a:lnTo>
                    <a:pt x="4916" y="3047"/>
                  </a:lnTo>
                  <a:lnTo>
                    <a:pt x="4910" y="3065"/>
                  </a:lnTo>
                  <a:lnTo>
                    <a:pt x="4905" y="3080"/>
                  </a:lnTo>
                  <a:lnTo>
                    <a:pt x="4901" y="3090"/>
                  </a:lnTo>
                  <a:lnTo>
                    <a:pt x="4897" y="3115"/>
                  </a:lnTo>
                  <a:lnTo>
                    <a:pt x="4895" y="3135"/>
                  </a:lnTo>
                  <a:lnTo>
                    <a:pt x="4895" y="3152"/>
                  </a:lnTo>
                  <a:lnTo>
                    <a:pt x="4895" y="3170"/>
                  </a:lnTo>
                  <a:lnTo>
                    <a:pt x="4895" y="3183"/>
                  </a:lnTo>
                  <a:lnTo>
                    <a:pt x="4895" y="3201"/>
                  </a:lnTo>
                  <a:lnTo>
                    <a:pt x="4897" y="3220"/>
                  </a:lnTo>
                  <a:lnTo>
                    <a:pt x="4901" y="3249"/>
                  </a:lnTo>
                  <a:lnTo>
                    <a:pt x="4883" y="3253"/>
                  </a:lnTo>
                  <a:lnTo>
                    <a:pt x="4874" y="3255"/>
                  </a:lnTo>
                  <a:lnTo>
                    <a:pt x="4866" y="3247"/>
                  </a:lnTo>
                  <a:lnTo>
                    <a:pt x="4862" y="3241"/>
                  </a:lnTo>
                  <a:lnTo>
                    <a:pt x="4858" y="3232"/>
                  </a:lnTo>
                  <a:lnTo>
                    <a:pt x="4852" y="3218"/>
                  </a:lnTo>
                  <a:lnTo>
                    <a:pt x="4846" y="3218"/>
                  </a:lnTo>
                  <a:lnTo>
                    <a:pt x="4843" y="3218"/>
                  </a:lnTo>
                  <a:lnTo>
                    <a:pt x="4829" y="3224"/>
                  </a:lnTo>
                  <a:lnTo>
                    <a:pt x="4817" y="3232"/>
                  </a:lnTo>
                  <a:lnTo>
                    <a:pt x="4806" y="3239"/>
                  </a:lnTo>
                  <a:lnTo>
                    <a:pt x="4794" y="3249"/>
                  </a:lnTo>
                  <a:lnTo>
                    <a:pt x="4777" y="3255"/>
                  </a:lnTo>
                  <a:lnTo>
                    <a:pt x="4763" y="3263"/>
                  </a:lnTo>
                  <a:lnTo>
                    <a:pt x="4746" y="3269"/>
                  </a:lnTo>
                  <a:lnTo>
                    <a:pt x="4732" y="3276"/>
                  </a:lnTo>
                  <a:lnTo>
                    <a:pt x="4726" y="3276"/>
                  </a:lnTo>
                  <a:lnTo>
                    <a:pt x="4717" y="3276"/>
                  </a:lnTo>
                  <a:lnTo>
                    <a:pt x="4705" y="3276"/>
                  </a:lnTo>
                  <a:lnTo>
                    <a:pt x="4691" y="3278"/>
                  </a:lnTo>
                  <a:lnTo>
                    <a:pt x="4674" y="3276"/>
                  </a:lnTo>
                  <a:lnTo>
                    <a:pt x="4658" y="3276"/>
                  </a:lnTo>
                  <a:lnTo>
                    <a:pt x="4641" y="3276"/>
                  </a:lnTo>
                  <a:lnTo>
                    <a:pt x="4625" y="3276"/>
                  </a:lnTo>
                  <a:lnTo>
                    <a:pt x="4608" y="3263"/>
                  </a:lnTo>
                  <a:lnTo>
                    <a:pt x="4590" y="3253"/>
                  </a:lnTo>
                  <a:lnTo>
                    <a:pt x="4573" y="3243"/>
                  </a:lnTo>
                  <a:lnTo>
                    <a:pt x="4557" y="3234"/>
                  </a:lnTo>
                  <a:lnTo>
                    <a:pt x="4538" y="3214"/>
                  </a:lnTo>
                  <a:lnTo>
                    <a:pt x="4525" y="3203"/>
                  </a:lnTo>
                  <a:lnTo>
                    <a:pt x="4513" y="3193"/>
                  </a:lnTo>
                  <a:lnTo>
                    <a:pt x="4505" y="3185"/>
                  </a:lnTo>
                  <a:lnTo>
                    <a:pt x="4495" y="3175"/>
                  </a:lnTo>
                  <a:lnTo>
                    <a:pt x="4486" y="3166"/>
                  </a:lnTo>
                  <a:lnTo>
                    <a:pt x="4474" y="3152"/>
                  </a:lnTo>
                  <a:lnTo>
                    <a:pt x="4462" y="3139"/>
                  </a:lnTo>
                  <a:lnTo>
                    <a:pt x="4447" y="3133"/>
                  </a:lnTo>
                  <a:lnTo>
                    <a:pt x="4439" y="3133"/>
                  </a:lnTo>
                  <a:lnTo>
                    <a:pt x="4433" y="3133"/>
                  </a:lnTo>
                  <a:lnTo>
                    <a:pt x="4428" y="3133"/>
                  </a:lnTo>
                  <a:lnTo>
                    <a:pt x="4420" y="3135"/>
                  </a:lnTo>
                  <a:lnTo>
                    <a:pt x="4410" y="3139"/>
                  </a:lnTo>
                  <a:lnTo>
                    <a:pt x="4406" y="3146"/>
                  </a:lnTo>
                  <a:lnTo>
                    <a:pt x="4404" y="3160"/>
                  </a:lnTo>
                  <a:lnTo>
                    <a:pt x="4410" y="3172"/>
                  </a:lnTo>
                  <a:lnTo>
                    <a:pt x="4418" y="3183"/>
                  </a:lnTo>
                  <a:lnTo>
                    <a:pt x="4424" y="3195"/>
                  </a:lnTo>
                  <a:lnTo>
                    <a:pt x="4430" y="3207"/>
                  </a:lnTo>
                  <a:lnTo>
                    <a:pt x="4441" y="3218"/>
                  </a:lnTo>
                  <a:lnTo>
                    <a:pt x="4455" y="3234"/>
                  </a:lnTo>
                  <a:lnTo>
                    <a:pt x="4468" y="3245"/>
                  </a:lnTo>
                  <a:lnTo>
                    <a:pt x="4482" y="3261"/>
                  </a:lnTo>
                  <a:lnTo>
                    <a:pt x="4493" y="3274"/>
                  </a:lnTo>
                  <a:lnTo>
                    <a:pt x="4507" y="3288"/>
                  </a:lnTo>
                  <a:lnTo>
                    <a:pt x="4521" y="3302"/>
                  </a:lnTo>
                  <a:lnTo>
                    <a:pt x="4536" y="3317"/>
                  </a:lnTo>
                  <a:lnTo>
                    <a:pt x="4565" y="3344"/>
                  </a:lnTo>
                  <a:lnTo>
                    <a:pt x="4590" y="3368"/>
                  </a:lnTo>
                  <a:lnTo>
                    <a:pt x="4612" y="3385"/>
                  </a:lnTo>
                  <a:lnTo>
                    <a:pt x="4633" y="3402"/>
                  </a:lnTo>
                  <a:lnTo>
                    <a:pt x="4653" y="3420"/>
                  </a:lnTo>
                  <a:lnTo>
                    <a:pt x="4678" y="3439"/>
                  </a:lnTo>
                  <a:lnTo>
                    <a:pt x="4707" y="3464"/>
                  </a:lnTo>
                  <a:lnTo>
                    <a:pt x="4748" y="3497"/>
                  </a:lnTo>
                  <a:lnTo>
                    <a:pt x="4765" y="3503"/>
                  </a:lnTo>
                  <a:lnTo>
                    <a:pt x="4782" y="3515"/>
                  </a:lnTo>
                  <a:lnTo>
                    <a:pt x="4800" y="3525"/>
                  </a:lnTo>
                  <a:lnTo>
                    <a:pt x="4821" y="3534"/>
                  </a:lnTo>
                  <a:lnTo>
                    <a:pt x="4833" y="3538"/>
                  </a:lnTo>
                  <a:lnTo>
                    <a:pt x="4848" y="3544"/>
                  </a:lnTo>
                  <a:lnTo>
                    <a:pt x="4860" y="3548"/>
                  </a:lnTo>
                  <a:lnTo>
                    <a:pt x="4876" y="3554"/>
                  </a:lnTo>
                  <a:lnTo>
                    <a:pt x="4889" y="3558"/>
                  </a:lnTo>
                  <a:lnTo>
                    <a:pt x="4903" y="3561"/>
                  </a:lnTo>
                  <a:lnTo>
                    <a:pt x="4916" y="3565"/>
                  </a:lnTo>
                  <a:lnTo>
                    <a:pt x="4932" y="3571"/>
                  </a:lnTo>
                  <a:lnTo>
                    <a:pt x="4932" y="3567"/>
                  </a:lnTo>
                  <a:lnTo>
                    <a:pt x="4932" y="3561"/>
                  </a:lnTo>
                  <a:lnTo>
                    <a:pt x="4924" y="3546"/>
                  </a:lnTo>
                  <a:lnTo>
                    <a:pt x="4920" y="3536"/>
                  </a:lnTo>
                  <a:lnTo>
                    <a:pt x="4916" y="3525"/>
                  </a:lnTo>
                  <a:lnTo>
                    <a:pt x="4916" y="3513"/>
                  </a:lnTo>
                  <a:lnTo>
                    <a:pt x="4924" y="3505"/>
                  </a:lnTo>
                  <a:lnTo>
                    <a:pt x="4932" y="3497"/>
                  </a:lnTo>
                  <a:lnTo>
                    <a:pt x="4947" y="3509"/>
                  </a:lnTo>
                  <a:lnTo>
                    <a:pt x="4963" y="3523"/>
                  </a:lnTo>
                  <a:lnTo>
                    <a:pt x="4971" y="3552"/>
                  </a:lnTo>
                  <a:lnTo>
                    <a:pt x="4976" y="3575"/>
                  </a:lnTo>
                  <a:lnTo>
                    <a:pt x="4980" y="3593"/>
                  </a:lnTo>
                  <a:lnTo>
                    <a:pt x="4986" y="3606"/>
                  </a:lnTo>
                  <a:lnTo>
                    <a:pt x="4992" y="3618"/>
                  </a:lnTo>
                  <a:lnTo>
                    <a:pt x="5000" y="3624"/>
                  </a:lnTo>
                  <a:lnTo>
                    <a:pt x="5000" y="3639"/>
                  </a:lnTo>
                  <a:lnTo>
                    <a:pt x="5005" y="3655"/>
                  </a:lnTo>
                  <a:lnTo>
                    <a:pt x="5011" y="3666"/>
                  </a:lnTo>
                  <a:lnTo>
                    <a:pt x="5017" y="3682"/>
                  </a:lnTo>
                  <a:lnTo>
                    <a:pt x="5023" y="3691"/>
                  </a:lnTo>
                  <a:lnTo>
                    <a:pt x="5031" y="3701"/>
                  </a:lnTo>
                  <a:lnTo>
                    <a:pt x="5038" y="3713"/>
                  </a:lnTo>
                  <a:lnTo>
                    <a:pt x="5046" y="3724"/>
                  </a:lnTo>
                  <a:lnTo>
                    <a:pt x="5052" y="3736"/>
                  </a:lnTo>
                  <a:lnTo>
                    <a:pt x="5060" y="3748"/>
                  </a:lnTo>
                  <a:lnTo>
                    <a:pt x="5068" y="3759"/>
                  </a:lnTo>
                  <a:lnTo>
                    <a:pt x="5075" y="3771"/>
                  </a:lnTo>
                  <a:lnTo>
                    <a:pt x="5085" y="3779"/>
                  </a:lnTo>
                  <a:lnTo>
                    <a:pt x="5093" y="3786"/>
                  </a:lnTo>
                  <a:lnTo>
                    <a:pt x="5099" y="3790"/>
                  </a:lnTo>
                  <a:lnTo>
                    <a:pt x="5104" y="3796"/>
                  </a:lnTo>
                  <a:lnTo>
                    <a:pt x="5116" y="3802"/>
                  </a:lnTo>
                  <a:lnTo>
                    <a:pt x="5133" y="3810"/>
                  </a:lnTo>
                  <a:close/>
                  <a:moveTo>
                    <a:pt x="5095" y="3713"/>
                  </a:moveTo>
                  <a:lnTo>
                    <a:pt x="5108" y="3707"/>
                  </a:lnTo>
                  <a:lnTo>
                    <a:pt x="5122" y="3703"/>
                  </a:lnTo>
                  <a:lnTo>
                    <a:pt x="5122" y="3688"/>
                  </a:lnTo>
                  <a:lnTo>
                    <a:pt x="5122" y="3672"/>
                  </a:lnTo>
                  <a:lnTo>
                    <a:pt x="5110" y="3647"/>
                  </a:lnTo>
                  <a:lnTo>
                    <a:pt x="5104" y="3627"/>
                  </a:lnTo>
                  <a:lnTo>
                    <a:pt x="5097" y="3606"/>
                  </a:lnTo>
                  <a:lnTo>
                    <a:pt x="5089" y="3585"/>
                  </a:lnTo>
                  <a:lnTo>
                    <a:pt x="5075" y="3554"/>
                  </a:lnTo>
                  <a:lnTo>
                    <a:pt x="5064" y="3517"/>
                  </a:lnTo>
                  <a:lnTo>
                    <a:pt x="5044" y="3466"/>
                  </a:lnTo>
                  <a:lnTo>
                    <a:pt x="5021" y="3402"/>
                  </a:lnTo>
                  <a:lnTo>
                    <a:pt x="5015" y="3379"/>
                  </a:lnTo>
                  <a:lnTo>
                    <a:pt x="5013" y="3358"/>
                  </a:lnTo>
                  <a:lnTo>
                    <a:pt x="5009" y="3336"/>
                  </a:lnTo>
                  <a:lnTo>
                    <a:pt x="5007" y="3315"/>
                  </a:lnTo>
                  <a:lnTo>
                    <a:pt x="5004" y="3292"/>
                  </a:lnTo>
                  <a:lnTo>
                    <a:pt x="5002" y="3271"/>
                  </a:lnTo>
                  <a:lnTo>
                    <a:pt x="4998" y="3249"/>
                  </a:lnTo>
                  <a:lnTo>
                    <a:pt x="4996" y="3228"/>
                  </a:lnTo>
                  <a:lnTo>
                    <a:pt x="5002" y="3218"/>
                  </a:lnTo>
                  <a:lnTo>
                    <a:pt x="5005" y="3207"/>
                  </a:lnTo>
                  <a:lnTo>
                    <a:pt x="5015" y="3214"/>
                  </a:lnTo>
                  <a:lnTo>
                    <a:pt x="5027" y="3218"/>
                  </a:lnTo>
                  <a:lnTo>
                    <a:pt x="5035" y="3214"/>
                  </a:lnTo>
                  <a:lnTo>
                    <a:pt x="5042" y="3207"/>
                  </a:lnTo>
                  <a:lnTo>
                    <a:pt x="5042" y="3197"/>
                  </a:lnTo>
                  <a:lnTo>
                    <a:pt x="5042" y="3189"/>
                  </a:lnTo>
                  <a:lnTo>
                    <a:pt x="5042" y="3179"/>
                  </a:lnTo>
                  <a:lnTo>
                    <a:pt x="5042" y="3170"/>
                  </a:lnTo>
                  <a:lnTo>
                    <a:pt x="5027" y="3150"/>
                  </a:lnTo>
                  <a:lnTo>
                    <a:pt x="5015" y="3137"/>
                  </a:lnTo>
                  <a:lnTo>
                    <a:pt x="5007" y="3127"/>
                  </a:lnTo>
                  <a:lnTo>
                    <a:pt x="5002" y="3121"/>
                  </a:lnTo>
                  <a:lnTo>
                    <a:pt x="4992" y="3111"/>
                  </a:lnTo>
                  <a:lnTo>
                    <a:pt x="4984" y="3106"/>
                  </a:lnTo>
                  <a:lnTo>
                    <a:pt x="4969" y="3110"/>
                  </a:lnTo>
                  <a:lnTo>
                    <a:pt x="4953" y="3111"/>
                  </a:lnTo>
                  <a:lnTo>
                    <a:pt x="4945" y="3121"/>
                  </a:lnTo>
                  <a:lnTo>
                    <a:pt x="4943" y="3133"/>
                  </a:lnTo>
                  <a:lnTo>
                    <a:pt x="4945" y="3164"/>
                  </a:lnTo>
                  <a:lnTo>
                    <a:pt x="4949" y="3199"/>
                  </a:lnTo>
                  <a:lnTo>
                    <a:pt x="4955" y="3230"/>
                  </a:lnTo>
                  <a:lnTo>
                    <a:pt x="4961" y="3265"/>
                  </a:lnTo>
                  <a:lnTo>
                    <a:pt x="4965" y="3296"/>
                  </a:lnTo>
                  <a:lnTo>
                    <a:pt x="4971" y="3329"/>
                  </a:lnTo>
                  <a:lnTo>
                    <a:pt x="4974" y="3362"/>
                  </a:lnTo>
                  <a:lnTo>
                    <a:pt x="4980" y="3397"/>
                  </a:lnTo>
                  <a:lnTo>
                    <a:pt x="4982" y="3414"/>
                  </a:lnTo>
                  <a:lnTo>
                    <a:pt x="4986" y="3433"/>
                  </a:lnTo>
                  <a:lnTo>
                    <a:pt x="4992" y="3453"/>
                  </a:lnTo>
                  <a:lnTo>
                    <a:pt x="4998" y="3472"/>
                  </a:lnTo>
                  <a:lnTo>
                    <a:pt x="5002" y="3490"/>
                  </a:lnTo>
                  <a:lnTo>
                    <a:pt x="5007" y="3509"/>
                  </a:lnTo>
                  <a:lnTo>
                    <a:pt x="5011" y="3528"/>
                  </a:lnTo>
                  <a:lnTo>
                    <a:pt x="5017" y="3550"/>
                  </a:lnTo>
                  <a:lnTo>
                    <a:pt x="5021" y="3561"/>
                  </a:lnTo>
                  <a:lnTo>
                    <a:pt x="5027" y="3573"/>
                  </a:lnTo>
                  <a:lnTo>
                    <a:pt x="5031" y="3585"/>
                  </a:lnTo>
                  <a:lnTo>
                    <a:pt x="5037" y="3596"/>
                  </a:lnTo>
                  <a:lnTo>
                    <a:pt x="5040" y="3608"/>
                  </a:lnTo>
                  <a:lnTo>
                    <a:pt x="5046" y="3620"/>
                  </a:lnTo>
                  <a:lnTo>
                    <a:pt x="5052" y="3631"/>
                  </a:lnTo>
                  <a:lnTo>
                    <a:pt x="5058" y="3645"/>
                  </a:lnTo>
                  <a:lnTo>
                    <a:pt x="5066" y="3660"/>
                  </a:lnTo>
                  <a:lnTo>
                    <a:pt x="5075" y="3676"/>
                  </a:lnTo>
                  <a:lnTo>
                    <a:pt x="5085" y="3693"/>
                  </a:lnTo>
                  <a:lnTo>
                    <a:pt x="5095" y="3713"/>
                  </a:lnTo>
                  <a:close/>
                  <a:moveTo>
                    <a:pt x="1738" y="3666"/>
                  </a:moveTo>
                  <a:lnTo>
                    <a:pt x="1751" y="3666"/>
                  </a:lnTo>
                  <a:lnTo>
                    <a:pt x="1765" y="3666"/>
                  </a:lnTo>
                  <a:lnTo>
                    <a:pt x="1776" y="3666"/>
                  </a:lnTo>
                  <a:lnTo>
                    <a:pt x="1790" y="3666"/>
                  </a:lnTo>
                  <a:lnTo>
                    <a:pt x="1798" y="3660"/>
                  </a:lnTo>
                  <a:lnTo>
                    <a:pt x="1809" y="3658"/>
                  </a:lnTo>
                  <a:lnTo>
                    <a:pt x="1821" y="3653"/>
                  </a:lnTo>
                  <a:lnTo>
                    <a:pt x="1833" y="3651"/>
                  </a:lnTo>
                  <a:lnTo>
                    <a:pt x="1848" y="3635"/>
                  </a:lnTo>
                  <a:lnTo>
                    <a:pt x="1860" y="3627"/>
                  </a:lnTo>
                  <a:lnTo>
                    <a:pt x="1866" y="3622"/>
                  </a:lnTo>
                  <a:lnTo>
                    <a:pt x="1871" y="3616"/>
                  </a:lnTo>
                  <a:lnTo>
                    <a:pt x="1879" y="3608"/>
                  </a:lnTo>
                  <a:lnTo>
                    <a:pt x="1891" y="3598"/>
                  </a:lnTo>
                  <a:lnTo>
                    <a:pt x="1897" y="3577"/>
                  </a:lnTo>
                  <a:lnTo>
                    <a:pt x="1904" y="3558"/>
                  </a:lnTo>
                  <a:lnTo>
                    <a:pt x="1910" y="3538"/>
                  </a:lnTo>
                  <a:lnTo>
                    <a:pt x="1916" y="3523"/>
                  </a:lnTo>
                  <a:lnTo>
                    <a:pt x="1914" y="3509"/>
                  </a:lnTo>
                  <a:lnTo>
                    <a:pt x="1914" y="3497"/>
                  </a:lnTo>
                  <a:lnTo>
                    <a:pt x="1914" y="3486"/>
                  </a:lnTo>
                  <a:lnTo>
                    <a:pt x="1914" y="3474"/>
                  </a:lnTo>
                  <a:lnTo>
                    <a:pt x="1912" y="3463"/>
                  </a:lnTo>
                  <a:lnTo>
                    <a:pt x="1912" y="3451"/>
                  </a:lnTo>
                  <a:lnTo>
                    <a:pt x="1912" y="3439"/>
                  </a:lnTo>
                  <a:lnTo>
                    <a:pt x="1912" y="3428"/>
                  </a:lnTo>
                  <a:lnTo>
                    <a:pt x="1906" y="3414"/>
                  </a:lnTo>
                  <a:lnTo>
                    <a:pt x="1901" y="3402"/>
                  </a:lnTo>
                  <a:lnTo>
                    <a:pt x="1895" y="3389"/>
                  </a:lnTo>
                  <a:lnTo>
                    <a:pt x="1891" y="3377"/>
                  </a:lnTo>
                  <a:lnTo>
                    <a:pt x="1885" y="3366"/>
                  </a:lnTo>
                  <a:lnTo>
                    <a:pt x="1879" y="3354"/>
                  </a:lnTo>
                  <a:lnTo>
                    <a:pt x="1873" y="3342"/>
                  </a:lnTo>
                  <a:lnTo>
                    <a:pt x="1870" y="3333"/>
                  </a:lnTo>
                  <a:lnTo>
                    <a:pt x="1856" y="3311"/>
                  </a:lnTo>
                  <a:lnTo>
                    <a:pt x="1844" y="3298"/>
                  </a:lnTo>
                  <a:lnTo>
                    <a:pt x="1835" y="3282"/>
                  </a:lnTo>
                  <a:lnTo>
                    <a:pt x="1825" y="3269"/>
                  </a:lnTo>
                  <a:lnTo>
                    <a:pt x="1809" y="3251"/>
                  </a:lnTo>
                  <a:lnTo>
                    <a:pt x="1792" y="3230"/>
                  </a:lnTo>
                  <a:lnTo>
                    <a:pt x="1767" y="3203"/>
                  </a:lnTo>
                  <a:lnTo>
                    <a:pt x="1738" y="3170"/>
                  </a:lnTo>
                  <a:lnTo>
                    <a:pt x="1722" y="3160"/>
                  </a:lnTo>
                  <a:lnTo>
                    <a:pt x="1709" y="3152"/>
                  </a:lnTo>
                  <a:lnTo>
                    <a:pt x="1695" y="3144"/>
                  </a:lnTo>
                  <a:lnTo>
                    <a:pt x="1683" y="3137"/>
                  </a:lnTo>
                  <a:lnTo>
                    <a:pt x="1672" y="3127"/>
                  </a:lnTo>
                  <a:lnTo>
                    <a:pt x="1660" y="3119"/>
                  </a:lnTo>
                  <a:lnTo>
                    <a:pt x="1648" y="3110"/>
                  </a:lnTo>
                  <a:lnTo>
                    <a:pt x="1637" y="3102"/>
                  </a:lnTo>
                  <a:lnTo>
                    <a:pt x="1625" y="3096"/>
                  </a:lnTo>
                  <a:lnTo>
                    <a:pt x="1614" y="3092"/>
                  </a:lnTo>
                  <a:lnTo>
                    <a:pt x="1602" y="3088"/>
                  </a:lnTo>
                  <a:lnTo>
                    <a:pt x="1590" y="3084"/>
                  </a:lnTo>
                  <a:lnTo>
                    <a:pt x="1569" y="3080"/>
                  </a:lnTo>
                  <a:lnTo>
                    <a:pt x="1551" y="3077"/>
                  </a:lnTo>
                  <a:lnTo>
                    <a:pt x="1536" y="3075"/>
                  </a:lnTo>
                  <a:lnTo>
                    <a:pt x="1520" y="3075"/>
                  </a:lnTo>
                  <a:lnTo>
                    <a:pt x="1511" y="3075"/>
                  </a:lnTo>
                  <a:lnTo>
                    <a:pt x="1501" y="3075"/>
                  </a:lnTo>
                  <a:lnTo>
                    <a:pt x="1489" y="3075"/>
                  </a:lnTo>
                  <a:lnTo>
                    <a:pt x="1478" y="3080"/>
                  </a:lnTo>
                  <a:lnTo>
                    <a:pt x="1466" y="3084"/>
                  </a:lnTo>
                  <a:lnTo>
                    <a:pt x="1458" y="3088"/>
                  </a:lnTo>
                  <a:lnTo>
                    <a:pt x="1453" y="3092"/>
                  </a:lnTo>
                  <a:lnTo>
                    <a:pt x="1447" y="3096"/>
                  </a:lnTo>
                  <a:lnTo>
                    <a:pt x="1435" y="3106"/>
                  </a:lnTo>
                  <a:lnTo>
                    <a:pt x="1422" y="3123"/>
                  </a:lnTo>
                  <a:lnTo>
                    <a:pt x="1416" y="3133"/>
                  </a:lnTo>
                  <a:lnTo>
                    <a:pt x="1412" y="3143"/>
                  </a:lnTo>
                  <a:lnTo>
                    <a:pt x="1406" y="3152"/>
                  </a:lnTo>
                  <a:lnTo>
                    <a:pt x="1400" y="3164"/>
                  </a:lnTo>
                  <a:lnTo>
                    <a:pt x="1400" y="3175"/>
                  </a:lnTo>
                  <a:lnTo>
                    <a:pt x="1400" y="3187"/>
                  </a:lnTo>
                  <a:lnTo>
                    <a:pt x="1400" y="3199"/>
                  </a:lnTo>
                  <a:lnTo>
                    <a:pt x="1400" y="3212"/>
                  </a:lnTo>
                  <a:lnTo>
                    <a:pt x="1400" y="3224"/>
                  </a:lnTo>
                  <a:lnTo>
                    <a:pt x="1400" y="3236"/>
                  </a:lnTo>
                  <a:lnTo>
                    <a:pt x="1400" y="3249"/>
                  </a:lnTo>
                  <a:lnTo>
                    <a:pt x="1400" y="3265"/>
                  </a:lnTo>
                  <a:lnTo>
                    <a:pt x="1402" y="3280"/>
                  </a:lnTo>
                  <a:lnTo>
                    <a:pt x="1406" y="3296"/>
                  </a:lnTo>
                  <a:lnTo>
                    <a:pt x="1410" y="3313"/>
                  </a:lnTo>
                  <a:lnTo>
                    <a:pt x="1414" y="3331"/>
                  </a:lnTo>
                  <a:lnTo>
                    <a:pt x="1416" y="3348"/>
                  </a:lnTo>
                  <a:lnTo>
                    <a:pt x="1420" y="3366"/>
                  </a:lnTo>
                  <a:lnTo>
                    <a:pt x="1422" y="3383"/>
                  </a:lnTo>
                  <a:lnTo>
                    <a:pt x="1425" y="3402"/>
                  </a:lnTo>
                  <a:lnTo>
                    <a:pt x="1466" y="3453"/>
                  </a:lnTo>
                  <a:lnTo>
                    <a:pt x="1499" y="3494"/>
                  </a:lnTo>
                  <a:lnTo>
                    <a:pt x="1520" y="3521"/>
                  </a:lnTo>
                  <a:lnTo>
                    <a:pt x="1538" y="3542"/>
                  </a:lnTo>
                  <a:lnTo>
                    <a:pt x="1550" y="3552"/>
                  </a:lnTo>
                  <a:lnTo>
                    <a:pt x="1557" y="3560"/>
                  </a:lnTo>
                  <a:lnTo>
                    <a:pt x="1563" y="3561"/>
                  </a:lnTo>
                  <a:lnTo>
                    <a:pt x="1569" y="3565"/>
                  </a:lnTo>
                  <a:lnTo>
                    <a:pt x="1571" y="3573"/>
                  </a:lnTo>
                  <a:lnTo>
                    <a:pt x="1573" y="3581"/>
                  </a:lnTo>
                  <a:lnTo>
                    <a:pt x="1584" y="3587"/>
                  </a:lnTo>
                  <a:lnTo>
                    <a:pt x="1602" y="3600"/>
                  </a:lnTo>
                  <a:lnTo>
                    <a:pt x="1614" y="3608"/>
                  </a:lnTo>
                  <a:lnTo>
                    <a:pt x="1629" y="3620"/>
                  </a:lnTo>
                  <a:lnTo>
                    <a:pt x="1645" y="3629"/>
                  </a:lnTo>
                  <a:lnTo>
                    <a:pt x="1668" y="3645"/>
                  </a:lnTo>
                  <a:lnTo>
                    <a:pt x="1683" y="3651"/>
                  </a:lnTo>
                  <a:lnTo>
                    <a:pt x="1703" y="3657"/>
                  </a:lnTo>
                  <a:lnTo>
                    <a:pt x="1720" y="3660"/>
                  </a:lnTo>
                  <a:lnTo>
                    <a:pt x="1738" y="3666"/>
                  </a:lnTo>
                  <a:close/>
                  <a:moveTo>
                    <a:pt x="5514" y="3666"/>
                  </a:moveTo>
                  <a:lnTo>
                    <a:pt x="5527" y="3664"/>
                  </a:lnTo>
                  <a:lnTo>
                    <a:pt x="5543" y="3662"/>
                  </a:lnTo>
                  <a:lnTo>
                    <a:pt x="5556" y="3660"/>
                  </a:lnTo>
                  <a:lnTo>
                    <a:pt x="5572" y="3660"/>
                  </a:lnTo>
                  <a:lnTo>
                    <a:pt x="5581" y="3651"/>
                  </a:lnTo>
                  <a:lnTo>
                    <a:pt x="5591" y="3645"/>
                  </a:lnTo>
                  <a:lnTo>
                    <a:pt x="5599" y="3635"/>
                  </a:lnTo>
                  <a:lnTo>
                    <a:pt x="5609" y="3629"/>
                  </a:lnTo>
                  <a:lnTo>
                    <a:pt x="5611" y="3618"/>
                  </a:lnTo>
                  <a:lnTo>
                    <a:pt x="5614" y="3608"/>
                  </a:lnTo>
                  <a:lnTo>
                    <a:pt x="5620" y="3596"/>
                  </a:lnTo>
                  <a:lnTo>
                    <a:pt x="5628" y="3587"/>
                  </a:lnTo>
                  <a:lnTo>
                    <a:pt x="5624" y="3567"/>
                  </a:lnTo>
                  <a:lnTo>
                    <a:pt x="5622" y="3550"/>
                  </a:lnTo>
                  <a:lnTo>
                    <a:pt x="5620" y="3532"/>
                  </a:lnTo>
                  <a:lnTo>
                    <a:pt x="5618" y="3519"/>
                  </a:lnTo>
                  <a:lnTo>
                    <a:pt x="5614" y="3503"/>
                  </a:lnTo>
                  <a:lnTo>
                    <a:pt x="5613" y="3492"/>
                  </a:lnTo>
                  <a:lnTo>
                    <a:pt x="5613" y="3482"/>
                  </a:lnTo>
                  <a:lnTo>
                    <a:pt x="5613" y="3476"/>
                  </a:lnTo>
                  <a:lnTo>
                    <a:pt x="5630" y="3463"/>
                  </a:lnTo>
                  <a:lnTo>
                    <a:pt x="5649" y="3449"/>
                  </a:lnTo>
                  <a:lnTo>
                    <a:pt x="5665" y="3435"/>
                  </a:lnTo>
                  <a:lnTo>
                    <a:pt x="5682" y="3424"/>
                  </a:lnTo>
                  <a:lnTo>
                    <a:pt x="5686" y="3406"/>
                  </a:lnTo>
                  <a:lnTo>
                    <a:pt x="5692" y="3399"/>
                  </a:lnTo>
                  <a:lnTo>
                    <a:pt x="5696" y="3391"/>
                  </a:lnTo>
                  <a:lnTo>
                    <a:pt x="5704" y="3387"/>
                  </a:lnTo>
                  <a:lnTo>
                    <a:pt x="5704" y="3369"/>
                  </a:lnTo>
                  <a:lnTo>
                    <a:pt x="5708" y="3354"/>
                  </a:lnTo>
                  <a:lnTo>
                    <a:pt x="5702" y="3336"/>
                  </a:lnTo>
                  <a:lnTo>
                    <a:pt x="5698" y="3323"/>
                  </a:lnTo>
                  <a:lnTo>
                    <a:pt x="5692" y="3305"/>
                  </a:lnTo>
                  <a:lnTo>
                    <a:pt x="5692" y="3292"/>
                  </a:lnTo>
                  <a:lnTo>
                    <a:pt x="5678" y="3278"/>
                  </a:lnTo>
                  <a:lnTo>
                    <a:pt x="5671" y="3265"/>
                  </a:lnTo>
                  <a:lnTo>
                    <a:pt x="5653" y="3263"/>
                  </a:lnTo>
                  <a:lnTo>
                    <a:pt x="5642" y="3261"/>
                  </a:lnTo>
                  <a:lnTo>
                    <a:pt x="5630" y="3259"/>
                  </a:lnTo>
                  <a:lnTo>
                    <a:pt x="5618" y="3259"/>
                  </a:lnTo>
                  <a:lnTo>
                    <a:pt x="5614" y="3247"/>
                  </a:lnTo>
                  <a:lnTo>
                    <a:pt x="5613" y="3236"/>
                  </a:lnTo>
                  <a:lnTo>
                    <a:pt x="5613" y="3224"/>
                  </a:lnTo>
                  <a:lnTo>
                    <a:pt x="5613" y="3212"/>
                  </a:lnTo>
                  <a:lnTo>
                    <a:pt x="5613" y="3201"/>
                  </a:lnTo>
                  <a:lnTo>
                    <a:pt x="5613" y="3189"/>
                  </a:lnTo>
                  <a:lnTo>
                    <a:pt x="5613" y="3179"/>
                  </a:lnTo>
                  <a:lnTo>
                    <a:pt x="5613" y="3170"/>
                  </a:lnTo>
                  <a:lnTo>
                    <a:pt x="5599" y="3154"/>
                  </a:lnTo>
                  <a:lnTo>
                    <a:pt x="5591" y="3139"/>
                  </a:lnTo>
                  <a:lnTo>
                    <a:pt x="5581" y="3129"/>
                  </a:lnTo>
                  <a:lnTo>
                    <a:pt x="5572" y="3119"/>
                  </a:lnTo>
                  <a:lnTo>
                    <a:pt x="5560" y="3108"/>
                  </a:lnTo>
                  <a:lnTo>
                    <a:pt x="5550" y="3102"/>
                  </a:lnTo>
                  <a:lnTo>
                    <a:pt x="5533" y="3096"/>
                  </a:lnTo>
                  <a:lnTo>
                    <a:pt x="5517" y="3096"/>
                  </a:lnTo>
                  <a:lnTo>
                    <a:pt x="5502" y="3092"/>
                  </a:lnTo>
                  <a:lnTo>
                    <a:pt x="5486" y="3090"/>
                  </a:lnTo>
                  <a:lnTo>
                    <a:pt x="5469" y="3096"/>
                  </a:lnTo>
                  <a:lnTo>
                    <a:pt x="5453" y="3102"/>
                  </a:lnTo>
                  <a:lnTo>
                    <a:pt x="5438" y="3106"/>
                  </a:lnTo>
                  <a:lnTo>
                    <a:pt x="5422" y="3111"/>
                  </a:lnTo>
                  <a:lnTo>
                    <a:pt x="5407" y="3121"/>
                  </a:lnTo>
                  <a:lnTo>
                    <a:pt x="5397" y="3133"/>
                  </a:lnTo>
                  <a:lnTo>
                    <a:pt x="5388" y="3125"/>
                  </a:lnTo>
                  <a:lnTo>
                    <a:pt x="5382" y="3119"/>
                  </a:lnTo>
                  <a:lnTo>
                    <a:pt x="5376" y="3110"/>
                  </a:lnTo>
                  <a:lnTo>
                    <a:pt x="5370" y="3096"/>
                  </a:lnTo>
                  <a:lnTo>
                    <a:pt x="5353" y="3075"/>
                  </a:lnTo>
                  <a:lnTo>
                    <a:pt x="5337" y="3059"/>
                  </a:lnTo>
                  <a:lnTo>
                    <a:pt x="5322" y="3044"/>
                  </a:lnTo>
                  <a:lnTo>
                    <a:pt x="5312" y="3032"/>
                  </a:lnTo>
                  <a:lnTo>
                    <a:pt x="5294" y="3028"/>
                  </a:lnTo>
                  <a:lnTo>
                    <a:pt x="5279" y="3026"/>
                  </a:lnTo>
                  <a:lnTo>
                    <a:pt x="5263" y="3024"/>
                  </a:lnTo>
                  <a:lnTo>
                    <a:pt x="5248" y="3022"/>
                  </a:lnTo>
                  <a:lnTo>
                    <a:pt x="5236" y="3026"/>
                  </a:lnTo>
                  <a:lnTo>
                    <a:pt x="5227" y="3032"/>
                  </a:lnTo>
                  <a:lnTo>
                    <a:pt x="5219" y="3038"/>
                  </a:lnTo>
                  <a:lnTo>
                    <a:pt x="5211" y="3044"/>
                  </a:lnTo>
                  <a:lnTo>
                    <a:pt x="5203" y="3049"/>
                  </a:lnTo>
                  <a:lnTo>
                    <a:pt x="5201" y="3059"/>
                  </a:lnTo>
                  <a:lnTo>
                    <a:pt x="5201" y="3075"/>
                  </a:lnTo>
                  <a:lnTo>
                    <a:pt x="5201" y="3090"/>
                  </a:lnTo>
                  <a:lnTo>
                    <a:pt x="5201" y="3106"/>
                  </a:lnTo>
                  <a:lnTo>
                    <a:pt x="5201" y="3123"/>
                  </a:lnTo>
                  <a:lnTo>
                    <a:pt x="5203" y="3137"/>
                  </a:lnTo>
                  <a:lnTo>
                    <a:pt x="5209" y="3152"/>
                  </a:lnTo>
                  <a:lnTo>
                    <a:pt x="5215" y="3166"/>
                  </a:lnTo>
                  <a:lnTo>
                    <a:pt x="5223" y="3181"/>
                  </a:lnTo>
                  <a:lnTo>
                    <a:pt x="5229" y="3195"/>
                  </a:lnTo>
                  <a:lnTo>
                    <a:pt x="5240" y="3210"/>
                  </a:lnTo>
                  <a:lnTo>
                    <a:pt x="5250" y="3224"/>
                  </a:lnTo>
                  <a:lnTo>
                    <a:pt x="5260" y="3238"/>
                  </a:lnTo>
                  <a:lnTo>
                    <a:pt x="5258" y="3245"/>
                  </a:lnTo>
                  <a:lnTo>
                    <a:pt x="5256" y="3255"/>
                  </a:lnTo>
                  <a:lnTo>
                    <a:pt x="5246" y="3265"/>
                  </a:lnTo>
                  <a:lnTo>
                    <a:pt x="5232" y="3280"/>
                  </a:lnTo>
                  <a:lnTo>
                    <a:pt x="5229" y="3288"/>
                  </a:lnTo>
                  <a:lnTo>
                    <a:pt x="5225" y="3298"/>
                  </a:lnTo>
                  <a:lnTo>
                    <a:pt x="5221" y="3307"/>
                  </a:lnTo>
                  <a:lnTo>
                    <a:pt x="5217" y="3317"/>
                  </a:lnTo>
                  <a:lnTo>
                    <a:pt x="5213" y="3329"/>
                  </a:lnTo>
                  <a:lnTo>
                    <a:pt x="5211" y="3342"/>
                  </a:lnTo>
                  <a:lnTo>
                    <a:pt x="5209" y="3356"/>
                  </a:lnTo>
                  <a:lnTo>
                    <a:pt x="5209" y="3369"/>
                  </a:lnTo>
                  <a:lnTo>
                    <a:pt x="5207" y="3381"/>
                  </a:lnTo>
                  <a:lnTo>
                    <a:pt x="5207" y="3395"/>
                  </a:lnTo>
                  <a:lnTo>
                    <a:pt x="5207" y="3408"/>
                  </a:lnTo>
                  <a:lnTo>
                    <a:pt x="5207" y="3424"/>
                  </a:lnTo>
                  <a:lnTo>
                    <a:pt x="5209" y="3439"/>
                  </a:lnTo>
                  <a:lnTo>
                    <a:pt x="5211" y="3455"/>
                  </a:lnTo>
                  <a:lnTo>
                    <a:pt x="5227" y="3470"/>
                  </a:lnTo>
                  <a:lnTo>
                    <a:pt x="5244" y="3486"/>
                  </a:lnTo>
                  <a:lnTo>
                    <a:pt x="5256" y="3492"/>
                  </a:lnTo>
                  <a:lnTo>
                    <a:pt x="5269" y="3499"/>
                  </a:lnTo>
                  <a:lnTo>
                    <a:pt x="5283" y="3503"/>
                  </a:lnTo>
                  <a:lnTo>
                    <a:pt x="5296" y="3507"/>
                  </a:lnTo>
                  <a:lnTo>
                    <a:pt x="5312" y="3509"/>
                  </a:lnTo>
                  <a:lnTo>
                    <a:pt x="5329" y="3511"/>
                  </a:lnTo>
                  <a:lnTo>
                    <a:pt x="5349" y="3511"/>
                  </a:lnTo>
                  <a:lnTo>
                    <a:pt x="5370" y="3513"/>
                  </a:lnTo>
                  <a:lnTo>
                    <a:pt x="5378" y="3532"/>
                  </a:lnTo>
                  <a:lnTo>
                    <a:pt x="5386" y="3552"/>
                  </a:lnTo>
                  <a:lnTo>
                    <a:pt x="5389" y="3561"/>
                  </a:lnTo>
                  <a:lnTo>
                    <a:pt x="5395" y="3573"/>
                  </a:lnTo>
                  <a:lnTo>
                    <a:pt x="5401" y="3585"/>
                  </a:lnTo>
                  <a:lnTo>
                    <a:pt x="5407" y="3598"/>
                  </a:lnTo>
                  <a:lnTo>
                    <a:pt x="5422" y="3612"/>
                  </a:lnTo>
                  <a:lnTo>
                    <a:pt x="5442" y="3625"/>
                  </a:lnTo>
                  <a:lnTo>
                    <a:pt x="5459" y="3639"/>
                  </a:lnTo>
                  <a:lnTo>
                    <a:pt x="5477" y="3657"/>
                  </a:lnTo>
                  <a:lnTo>
                    <a:pt x="5486" y="3658"/>
                  </a:lnTo>
                  <a:lnTo>
                    <a:pt x="5496" y="3660"/>
                  </a:lnTo>
                  <a:lnTo>
                    <a:pt x="5504" y="3660"/>
                  </a:lnTo>
                  <a:lnTo>
                    <a:pt x="5514" y="3666"/>
                  </a:lnTo>
                  <a:close/>
                  <a:moveTo>
                    <a:pt x="5523" y="3624"/>
                  </a:moveTo>
                  <a:lnTo>
                    <a:pt x="5512" y="3618"/>
                  </a:lnTo>
                  <a:lnTo>
                    <a:pt x="5502" y="3612"/>
                  </a:lnTo>
                  <a:lnTo>
                    <a:pt x="5490" y="3606"/>
                  </a:lnTo>
                  <a:lnTo>
                    <a:pt x="5481" y="3602"/>
                  </a:lnTo>
                  <a:lnTo>
                    <a:pt x="5471" y="3589"/>
                  </a:lnTo>
                  <a:lnTo>
                    <a:pt x="5463" y="3575"/>
                  </a:lnTo>
                  <a:lnTo>
                    <a:pt x="5453" y="3561"/>
                  </a:lnTo>
                  <a:lnTo>
                    <a:pt x="5444" y="3550"/>
                  </a:lnTo>
                  <a:lnTo>
                    <a:pt x="5438" y="3534"/>
                  </a:lnTo>
                  <a:lnTo>
                    <a:pt x="5432" y="3521"/>
                  </a:lnTo>
                  <a:lnTo>
                    <a:pt x="5426" y="3509"/>
                  </a:lnTo>
                  <a:lnTo>
                    <a:pt x="5422" y="3497"/>
                  </a:lnTo>
                  <a:lnTo>
                    <a:pt x="5417" y="3484"/>
                  </a:lnTo>
                  <a:lnTo>
                    <a:pt x="5411" y="3470"/>
                  </a:lnTo>
                  <a:lnTo>
                    <a:pt x="5405" y="3457"/>
                  </a:lnTo>
                  <a:lnTo>
                    <a:pt x="5401" y="3445"/>
                  </a:lnTo>
                  <a:lnTo>
                    <a:pt x="5393" y="3437"/>
                  </a:lnTo>
                  <a:lnTo>
                    <a:pt x="5386" y="3428"/>
                  </a:lnTo>
                  <a:lnTo>
                    <a:pt x="5372" y="3433"/>
                  </a:lnTo>
                  <a:lnTo>
                    <a:pt x="5362" y="3439"/>
                  </a:lnTo>
                  <a:lnTo>
                    <a:pt x="5355" y="3443"/>
                  </a:lnTo>
                  <a:lnTo>
                    <a:pt x="5351" y="3447"/>
                  </a:lnTo>
                  <a:lnTo>
                    <a:pt x="5343" y="3455"/>
                  </a:lnTo>
                  <a:lnTo>
                    <a:pt x="5339" y="3466"/>
                  </a:lnTo>
                  <a:lnTo>
                    <a:pt x="5322" y="3466"/>
                  </a:lnTo>
                  <a:lnTo>
                    <a:pt x="5306" y="3470"/>
                  </a:lnTo>
                  <a:lnTo>
                    <a:pt x="5296" y="3459"/>
                  </a:lnTo>
                  <a:lnTo>
                    <a:pt x="5291" y="3451"/>
                  </a:lnTo>
                  <a:lnTo>
                    <a:pt x="5285" y="3445"/>
                  </a:lnTo>
                  <a:lnTo>
                    <a:pt x="5281" y="3439"/>
                  </a:lnTo>
                  <a:lnTo>
                    <a:pt x="5273" y="3430"/>
                  </a:lnTo>
                  <a:lnTo>
                    <a:pt x="5265" y="3418"/>
                  </a:lnTo>
                  <a:lnTo>
                    <a:pt x="5263" y="3406"/>
                  </a:lnTo>
                  <a:lnTo>
                    <a:pt x="5261" y="3397"/>
                  </a:lnTo>
                  <a:lnTo>
                    <a:pt x="5260" y="3385"/>
                  </a:lnTo>
                  <a:lnTo>
                    <a:pt x="5260" y="3375"/>
                  </a:lnTo>
                  <a:lnTo>
                    <a:pt x="5260" y="3364"/>
                  </a:lnTo>
                  <a:lnTo>
                    <a:pt x="5261" y="3352"/>
                  </a:lnTo>
                  <a:lnTo>
                    <a:pt x="5263" y="3340"/>
                  </a:lnTo>
                  <a:lnTo>
                    <a:pt x="5265" y="3329"/>
                  </a:lnTo>
                  <a:lnTo>
                    <a:pt x="5277" y="3317"/>
                  </a:lnTo>
                  <a:lnTo>
                    <a:pt x="5289" y="3307"/>
                  </a:lnTo>
                  <a:lnTo>
                    <a:pt x="5300" y="3296"/>
                  </a:lnTo>
                  <a:lnTo>
                    <a:pt x="5312" y="3286"/>
                  </a:lnTo>
                  <a:lnTo>
                    <a:pt x="5322" y="3278"/>
                  </a:lnTo>
                  <a:lnTo>
                    <a:pt x="5339" y="3271"/>
                  </a:lnTo>
                  <a:lnTo>
                    <a:pt x="5337" y="3259"/>
                  </a:lnTo>
                  <a:lnTo>
                    <a:pt x="5337" y="3249"/>
                  </a:lnTo>
                  <a:lnTo>
                    <a:pt x="5335" y="3238"/>
                  </a:lnTo>
                  <a:lnTo>
                    <a:pt x="5333" y="3228"/>
                  </a:lnTo>
                  <a:lnTo>
                    <a:pt x="5322" y="3224"/>
                  </a:lnTo>
                  <a:lnTo>
                    <a:pt x="5312" y="3222"/>
                  </a:lnTo>
                  <a:lnTo>
                    <a:pt x="5296" y="3205"/>
                  </a:lnTo>
                  <a:lnTo>
                    <a:pt x="5289" y="3195"/>
                  </a:lnTo>
                  <a:lnTo>
                    <a:pt x="5283" y="3187"/>
                  </a:lnTo>
                  <a:lnTo>
                    <a:pt x="5279" y="3179"/>
                  </a:lnTo>
                  <a:lnTo>
                    <a:pt x="5271" y="3170"/>
                  </a:lnTo>
                  <a:lnTo>
                    <a:pt x="5265" y="3160"/>
                  </a:lnTo>
                  <a:lnTo>
                    <a:pt x="5261" y="3146"/>
                  </a:lnTo>
                  <a:lnTo>
                    <a:pt x="5260" y="3139"/>
                  </a:lnTo>
                  <a:lnTo>
                    <a:pt x="5256" y="3129"/>
                  </a:lnTo>
                  <a:lnTo>
                    <a:pt x="5254" y="3123"/>
                  </a:lnTo>
                  <a:lnTo>
                    <a:pt x="5250" y="3113"/>
                  </a:lnTo>
                  <a:lnTo>
                    <a:pt x="5248" y="3106"/>
                  </a:lnTo>
                  <a:lnTo>
                    <a:pt x="5248" y="3096"/>
                  </a:lnTo>
                  <a:lnTo>
                    <a:pt x="5248" y="3084"/>
                  </a:lnTo>
                  <a:lnTo>
                    <a:pt x="5248" y="3079"/>
                  </a:lnTo>
                  <a:lnTo>
                    <a:pt x="5254" y="3075"/>
                  </a:lnTo>
                  <a:lnTo>
                    <a:pt x="5261" y="3075"/>
                  </a:lnTo>
                  <a:lnTo>
                    <a:pt x="5271" y="3075"/>
                  </a:lnTo>
                  <a:lnTo>
                    <a:pt x="5281" y="3075"/>
                  </a:lnTo>
                  <a:lnTo>
                    <a:pt x="5291" y="3080"/>
                  </a:lnTo>
                  <a:lnTo>
                    <a:pt x="5306" y="3096"/>
                  </a:lnTo>
                  <a:lnTo>
                    <a:pt x="5322" y="3113"/>
                  </a:lnTo>
                  <a:lnTo>
                    <a:pt x="5337" y="3133"/>
                  </a:lnTo>
                  <a:lnTo>
                    <a:pt x="5355" y="3154"/>
                  </a:lnTo>
                  <a:lnTo>
                    <a:pt x="5355" y="3164"/>
                  </a:lnTo>
                  <a:lnTo>
                    <a:pt x="5357" y="3172"/>
                  </a:lnTo>
                  <a:lnTo>
                    <a:pt x="5357" y="3175"/>
                  </a:lnTo>
                  <a:lnTo>
                    <a:pt x="5358" y="3181"/>
                  </a:lnTo>
                  <a:lnTo>
                    <a:pt x="5360" y="3189"/>
                  </a:lnTo>
                  <a:lnTo>
                    <a:pt x="5364" y="3197"/>
                  </a:lnTo>
                  <a:lnTo>
                    <a:pt x="5372" y="3197"/>
                  </a:lnTo>
                  <a:lnTo>
                    <a:pt x="5382" y="3197"/>
                  </a:lnTo>
                  <a:lnTo>
                    <a:pt x="5391" y="3197"/>
                  </a:lnTo>
                  <a:lnTo>
                    <a:pt x="5401" y="3197"/>
                  </a:lnTo>
                  <a:lnTo>
                    <a:pt x="5413" y="3183"/>
                  </a:lnTo>
                  <a:lnTo>
                    <a:pt x="5424" y="3172"/>
                  </a:lnTo>
                  <a:lnTo>
                    <a:pt x="5436" y="3160"/>
                  </a:lnTo>
                  <a:lnTo>
                    <a:pt x="5450" y="3148"/>
                  </a:lnTo>
                  <a:lnTo>
                    <a:pt x="5461" y="3143"/>
                  </a:lnTo>
                  <a:lnTo>
                    <a:pt x="5475" y="3141"/>
                  </a:lnTo>
                  <a:lnTo>
                    <a:pt x="5490" y="3135"/>
                  </a:lnTo>
                  <a:lnTo>
                    <a:pt x="5508" y="3133"/>
                  </a:lnTo>
                  <a:lnTo>
                    <a:pt x="5517" y="3137"/>
                  </a:lnTo>
                  <a:lnTo>
                    <a:pt x="5533" y="3139"/>
                  </a:lnTo>
                  <a:lnTo>
                    <a:pt x="5545" y="3150"/>
                  </a:lnTo>
                  <a:lnTo>
                    <a:pt x="5560" y="3164"/>
                  </a:lnTo>
                  <a:lnTo>
                    <a:pt x="5562" y="3179"/>
                  </a:lnTo>
                  <a:lnTo>
                    <a:pt x="5572" y="3197"/>
                  </a:lnTo>
                  <a:lnTo>
                    <a:pt x="5572" y="3208"/>
                  </a:lnTo>
                  <a:lnTo>
                    <a:pt x="5572" y="3220"/>
                  </a:lnTo>
                  <a:lnTo>
                    <a:pt x="5572" y="3232"/>
                  </a:lnTo>
                  <a:lnTo>
                    <a:pt x="5572" y="3243"/>
                  </a:lnTo>
                  <a:lnTo>
                    <a:pt x="5554" y="3259"/>
                  </a:lnTo>
                  <a:lnTo>
                    <a:pt x="5543" y="3272"/>
                  </a:lnTo>
                  <a:lnTo>
                    <a:pt x="5531" y="3282"/>
                  </a:lnTo>
                  <a:lnTo>
                    <a:pt x="5523" y="3292"/>
                  </a:lnTo>
                  <a:lnTo>
                    <a:pt x="5523" y="3304"/>
                  </a:lnTo>
                  <a:lnTo>
                    <a:pt x="5523" y="3317"/>
                  </a:lnTo>
                  <a:lnTo>
                    <a:pt x="5533" y="3319"/>
                  </a:lnTo>
                  <a:lnTo>
                    <a:pt x="5543" y="3321"/>
                  </a:lnTo>
                  <a:lnTo>
                    <a:pt x="5549" y="3319"/>
                  </a:lnTo>
                  <a:lnTo>
                    <a:pt x="5558" y="3319"/>
                  </a:lnTo>
                  <a:lnTo>
                    <a:pt x="5570" y="3317"/>
                  </a:lnTo>
                  <a:lnTo>
                    <a:pt x="5587" y="3317"/>
                  </a:lnTo>
                  <a:lnTo>
                    <a:pt x="5597" y="3311"/>
                  </a:lnTo>
                  <a:lnTo>
                    <a:pt x="5609" y="3307"/>
                  </a:lnTo>
                  <a:lnTo>
                    <a:pt x="5618" y="3307"/>
                  </a:lnTo>
                  <a:lnTo>
                    <a:pt x="5628" y="3307"/>
                  </a:lnTo>
                  <a:lnTo>
                    <a:pt x="5638" y="3307"/>
                  </a:lnTo>
                  <a:lnTo>
                    <a:pt x="5649" y="3307"/>
                  </a:lnTo>
                  <a:lnTo>
                    <a:pt x="5651" y="3317"/>
                  </a:lnTo>
                  <a:lnTo>
                    <a:pt x="5655" y="3327"/>
                  </a:lnTo>
                  <a:lnTo>
                    <a:pt x="5655" y="3333"/>
                  </a:lnTo>
                  <a:lnTo>
                    <a:pt x="5655" y="3342"/>
                  </a:lnTo>
                  <a:lnTo>
                    <a:pt x="5657" y="3354"/>
                  </a:lnTo>
                  <a:lnTo>
                    <a:pt x="5661" y="3371"/>
                  </a:lnTo>
                  <a:lnTo>
                    <a:pt x="5655" y="3377"/>
                  </a:lnTo>
                  <a:lnTo>
                    <a:pt x="5649" y="3389"/>
                  </a:lnTo>
                  <a:lnTo>
                    <a:pt x="5644" y="3400"/>
                  </a:lnTo>
                  <a:lnTo>
                    <a:pt x="5640" y="3412"/>
                  </a:lnTo>
                  <a:lnTo>
                    <a:pt x="5622" y="3420"/>
                  </a:lnTo>
                  <a:lnTo>
                    <a:pt x="5609" y="3428"/>
                  </a:lnTo>
                  <a:lnTo>
                    <a:pt x="5593" y="3430"/>
                  </a:lnTo>
                  <a:lnTo>
                    <a:pt x="5581" y="3433"/>
                  </a:lnTo>
                  <a:lnTo>
                    <a:pt x="5572" y="3426"/>
                  </a:lnTo>
                  <a:lnTo>
                    <a:pt x="5562" y="3424"/>
                  </a:lnTo>
                  <a:lnTo>
                    <a:pt x="5556" y="3422"/>
                  </a:lnTo>
                  <a:lnTo>
                    <a:pt x="5550" y="3420"/>
                  </a:lnTo>
                  <a:lnTo>
                    <a:pt x="5543" y="3418"/>
                  </a:lnTo>
                  <a:lnTo>
                    <a:pt x="5533" y="3418"/>
                  </a:lnTo>
                  <a:lnTo>
                    <a:pt x="5527" y="3420"/>
                  </a:lnTo>
                  <a:lnTo>
                    <a:pt x="5523" y="3428"/>
                  </a:lnTo>
                  <a:lnTo>
                    <a:pt x="5523" y="3439"/>
                  </a:lnTo>
                  <a:lnTo>
                    <a:pt x="5523" y="3455"/>
                  </a:lnTo>
                  <a:lnTo>
                    <a:pt x="5531" y="3466"/>
                  </a:lnTo>
                  <a:lnTo>
                    <a:pt x="5539" y="3476"/>
                  </a:lnTo>
                  <a:lnTo>
                    <a:pt x="5549" y="3484"/>
                  </a:lnTo>
                  <a:lnTo>
                    <a:pt x="5566" y="3497"/>
                  </a:lnTo>
                  <a:lnTo>
                    <a:pt x="5568" y="3507"/>
                  </a:lnTo>
                  <a:lnTo>
                    <a:pt x="5570" y="3515"/>
                  </a:lnTo>
                  <a:lnTo>
                    <a:pt x="5572" y="3523"/>
                  </a:lnTo>
                  <a:lnTo>
                    <a:pt x="5574" y="3530"/>
                  </a:lnTo>
                  <a:lnTo>
                    <a:pt x="5574" y="3536"/>
                  </a:lnTo>
                  <a:lnTo>
                    <a:pt x="5576" y="3548"/>
                  </a:lnTo>
                  <a:lnTo>
                    <a:pt x="5578" y="3561"/>
                  </a:lnTo>
                  <a:lnTo>
                    <a:pt x="5581" y="3581"/>
                  </a:lnTo>
                  <a:lnTo>
                    <a:pt x="5572" y="3591"/>
                  </a:lnTo>
                  <a:lnTo>
                    <a:pt x="5566" y="3602"/>
                  </a:lnTo>
                  <a:lnTo>
                    <a:pt x="5556" y="3612"/>
                  </a:lnTo>
                  <a:lnTo>
                    <a:pt x="5550" y="3624"/>
                  </a:lnTo>
                  <a:lnTo>
                    <a:pt x="5535" y="3624"/>
                  </a:lnTo>
                  <a:lnTo>
                    <a:pt x="5523" y="3624"/>
                  </a:lnTo>
                  <a:close/>
                  <a:moveTo>
                    <a:pt x="1780" y="3618"/>
                  </a:moveTo>
                  <a:lnTo>
                    <a:pt x="1792" y="3614"/>
                  </a:lnTo>
                  <a:lnTo>
                    <a:pt x="1804" y="3610"/>
                  </a:lnTo>
                  <a:lnTo>
                    <a:pt x="1815" y="3604"/>
                  </a:lnTo>
                  <a:lnTo>
                    <a:pt x="1833" y="3598"/>
                  </a:lnTo>
                  <a:lnTo>
                    <a:pt x="1833" y="3594"/>
                  </a:lnTo>
                  <a:lnTo>
                    <a:pt x="1833" y="3587"/>
                  </a:lnTo>
                  <a:lnTo>
                    <a:pt x="1819" y="3573"/>
                  </a:lnTo>
                  <a:lnTo>
                    <a:pt x="1807" y="3561"/>
                  </a:lnTo>
                  <a:lnTo>
                    <a:pt x="1796" y="3550"/>
                  </a:lnTo>
                  <a:lnTo>
                    <a:pt x="1784" y="3538"/>
                  </a:lnTo>
                  <a:lnTo>
                    <a:pt x="1773" y="3527"/>
                  </a:lnTo>
                  <a:lnTo>
                    <a:pt x="1761" y="3517"/>
                  </a:lnTo>
                  <a:lnTo>
                    <a:pt x="1749" y="3505"/>
                  </a:lnTo>
                  <a:lnTo>
                    <a:pt x="1738" y="3497"/>
                  </a:lnTo>
                  <a:lnTo>
                    <a:pt x="1724" y="3497"/>
                  </a:lnTo>
                  <a:lnTo>
                    <a:pt x="1722" y="3497"/>
                  </a:lnTo>
                  <a:lnTo>
                    <a:pt x="1716" y="3505"/>
                  </a:lnTo>
                  <a:lnTo>
                    <a:pt x="1716" y="3519"/>
                  </a:lnTo>
                  <a:lnTo>
                    <a:pt x="1722" y="3528"/>
                  </a:lnTo>
                  <a:lnTo>
                    <a:pt x="1728" y="3536"/>
                  </a:lnTo>
                  <a:lnTo>
                    <a:pt x="1732" y="3544"/>
                  </a:lnTo>
                  <a:lnTo>
                    <a:pt x="1736" y="3552"/>
                  </a:lnTo>
                  <a:lnTo>
                    <a:pt x="1738" y="3558"/>
                  </a:lnTo>
                  <a:lnTo>
                    <a:pt x="1743" y="3569"/>
                  </a:lnTo>
                  <a:lnTo>
                    <a:pt x="1747" y="3583"/>
                  </a:lnTo>
                  <a:lnTo>
                    <a:pt x="1753" y="3602"/>
                  </a:lnTo>
                  <a:lnTo>
                    <a:pt x="1751" y="3608"/>
                  </a:lnTo>
                  <a:lnTo>
                    <a:pt x="1747" y="3614"/>
                  </a:lnTo>
                  <a:lnTo>
                    <a:pt x="1763" y="3616"/>
                  </a:lnTo>
                  <a:lnTo>
                    <a:pt x="1780" y="36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51320" y="2743200"/>
              <a:ext cx="2351880" cy="2650320"/>
            </a:xfrm>
            <a:custGeom>
              <a:avLst/>
              <a:gdLst/>
              <a:ahLst/>
              <a:rect l="l" t="t" r="r" b="b"/>
              <a:pathLst>
                <a:path w="5615" h="5117">
                  <a:moveTo>
                    <a:pt x="1627" y="3972"/>
                  </a:moveTo>
                  <a:lnTo>
                    <a:pt x="1639" y="3967"/>
                  </a:lnTo>
                  <a:lnTo>
                    <a:pt x="1655" y="3967"/>
                  </a:lnTo>
                  <a:lnTo>
                    <a:pt x="1645" y="3955"/>
                  </a:lnTo>
                  <a:lnTo>
                    <a:pt x="1639" y="3943"/>
                  </a:lnTo>
                  <a:lnTo>
                    <a:pt x="1629" y="3928"/>
                  </a:lnTo>
                  <a:lnTo>
                    <a:pt x="1622" y="3914"/>
                  </a:lnTo>
                  <a:lnTo>
                    <a:pt x="1616" y="3895"/>
                  </a:lnTo>
                  <a:lnTo>
                    <a:pt x="1610" y="3883"/>
                  </a:lnTo>
                  <a:lnTo>
                    <a:pt x="1604" y="3871"/>
                  </a:lnTo>
                  <a:lnTo>
                    <a:pt x="1598" y="3864"/>
                  </a:lnTo>
                  <a:lnTo>
                    <a:pt x="1589" y="3850"/>
                  </a:lnTo>
                  <a:lnTo>
                    <a:pt x="1585" y="3840"/>
                  </a:lnTo>
                  <a:lnTo>
                    <a:pt x="1577" y="3842"/>
                  </a:lnTo>
                  <a:lnTo>
                    <a:pt x="1569" y="3844"/>
                  </a:lnTo>
                  <a:lnTo>
                    <a:pt x="1563" y="3864"/>
                  </a:lnTo>
                  <a:lnTo>
                    <a:pt x="1562" y="3883"/>
                  </a:lnTo>
                  <a:lnTo>
                    <a:pt x="1560" y="3902"/>
                  </a:lnTo>
                  <a:lnTo>
                    <a:pt x="1560" y="3924"/>
                  </a:lnTo>
                  <a:lnTo>
                    <a:pt x="1575" y="3935"/>
                  </a:lnTo>
                  <a:lnTo>
                    <a:pt x="1593" y="3947"/>
                  </a:lnTo>
                  <a:lnTo>
                    <a:pt x="1610" y="3959"/>
                  </a:lnTo>
                  <a:lnTo>
                    <a:pt x="1627" y="3972"/>
                  </a:lnTo>
                  <a:close/>
                  <a:moveTo>
                    <a:pt x="1796" y="3914"/>
                  </a:moveTo>
                  <a:lnTo>
                    <a:pt x="1798" y="3914"/>
                  </a:lnTo>
                  <a:lnTo>
                    <a:pt x="1802" y="3910"/>
                  </a:lnTo>
                  <a:lnTo>
                    <a:pt x="1804" y="3904"/>
                  </a:lnTo>
                  <a:lnTo>
                    <a:pt x="1808" y="3897"/>
                  </a:lnTo>
                  <a:lnTo>
                    <a:pt x="1812" y="3885"/>
                  </a:lnTo>
                  <a:lnTo>
                    <a:pt x="1818" y="3871"/>
                  </a:lnTo>
                  <a:lnTo>
                    <a:pt x="1814" y="3852"/>
                  </a:lnTo>
                  <a:lnTo>
                    <a:pt x="1812" y="3838"/>
                  </a:lnTo>
                  <a:lnTo>
                    <a:pt x="1812" y="3827"/>
                  </a:lnTo>
                  <a:lnTo>
                    <a:pt x="1812" y="3819"/>
                  </a:lnTo>
                  <a:lnTo>
                    <a:pt x="1810" y="3807"/>
                  </a:lnTo>
                  <a:lnTo>
                    <a:pt x="1808" y="3802"/>
                  </a:lnTo>
                  <a:lnTo>
                    <a:pt x="1786" y="3796"/>
                  </a:lnTo>
                  <a:lnTo>
                    <a:pt x="1769" y="3790"/>
                  </a:lnTo>
                  <a:lnTo>
                    <a:pt x="1755" y="3784"/>
                  </a:lnTo>
                  <a:lnTo>
                    <a:pt x="1744" y="3782"/>
                  </a:lnTo>
                  <a:lnTo>
                    <a:pt x="1724" y="3778"/>
                  </a:lnTo>
                  <a:lnTo>
                    <a:pt x="1711" y="3782"/>
                  </a:lnTo>
                  <a:lnTo>
                    <a:pt x="1721" y="3788"/>
                  </a:lnTo>
                  <a:lnTo>
                    <a:pt x="1728" y="3798"/>
                  </a:lnTo>
                  <a:lnTo>
                    <a:pt x="1728" y="3811"/>
                  </a:lnTo>
                  <a:lnTo>
                    <a:pt x="1728" y="3823"/>
                  </a:lnTo>
                  <a:lnTo>
                    <a:pt x="1728" y="3829"/>
                  </a:lnTo>
                  <a:lnTo>
                    <a:pt x="1728" y="3835"/>
                  </a:lnTo>
                  <a:lnTo>
                    <a:pt x="1728" y="3842"/>
                  </a:lnTo>
                  <a:lnTo>
                    <a:pt x="1728" y="3856"/>
                  </a:lnTo>
                  <a:lnTo>
                    <a:pt x="1746" y="3870"/>
                  </a:lnTo>
                  <a:lnTo>
                    <a:pt x="1763" y="3885"/>
                  </a:lnTo>
                  <a:lnTo>
                    <a:pt x="1779" y="3899"/>
                  </a:lnTo>
                  <a:lnTo>
                    <a:pt x="1796" y="3914"/>
                  </a:lnTo>
                  <a:close/>
                  <a:moveTo>
                    <a:pt x="1511" y="3871"/>
                  </a:moveTo>
                  <a:lnTo>
                    <a:pt x="1513" y="3871"/>
                  </a:lnTo>
                  <a:lnTo>
                    <a:pt x="1517" y="3866"/>
                  </a:lnTo>
                  <a:lnTo>
                    <a:pt x="1517" y="3856"/>
                  </a:lnTo>
                  <a:lnTo>
                    <a:pt x="1519" y="3844"/>
                  </a:lnTo>
                  <a:lnTo>
                    <a:pt x="1521" y="3825"/>
                  </a:lnTo>
                  <a:lnTo>
                    <a:pt x="1527" y="3802"/>
                  </a:lnTo>
                  <a:lnTo>
                    <a:pt x="1521" y="3794"/>
                  </a:lnTo>
                  <a:lnTo>
                    <a:pt x="1517" y="3790"/>
                  </a:lnTo>
                  <a:lnTo>
                    <a:pt x="1509" y="3786"/>
                  </a:lnTo>
                  <a:lnTo>
                    <a:pt x="1503" y="3782"/>
                  </a:lnTo>
                  <a:lnTo>
                    <a:pt x="1494" y="3776"/>
                  </a:lnTo>
                  <a:lnTo>
                    <a:pt x="1484" y="3771"/>
                  </a:lnTo>
                  <a:lnTo>
                    <a:pt x="1472" y="3769"/>
                  </a:lnTo>
                  <a:lnTo>
                    <a:pt x="1461" y="3767"/>
                  </a:lnTo>
                  <a:lnTo>
                    <a:pt x="1449" y="3765"/>
                  </a:lnTo>
                  <a:lnTo>
                    <a:pt x="1437" y="3765"/>
                  </a:lnTo>
                  <a:lnTo>
                    <a:pt x="1437" y="3774"/>
                  </a:lnTo>
                  <a:lnTo>
                    <a:pt x="1437" y="3786"/>
                  </a:lnTo>
                  <a:lnTo>
                    <a:pt x="1445" y="3796"/>
                  </a:lnTo>
                  <a:lnTo>
                    <a:pt x="1455" y="3806"/>
                  </a:lnTo>
                  <a:lnTo>
                    <a:pt x="1465" y="3817"/>
                  </a:lnTo>
                  <a:lnTo>
                    <a:pt x="1474" y="3829"/>
                  </a:lnTo>
                  <a:lnTo>
                    <a:pt x="1482" y="3838"/>
                  </a:lnTo>
                  <a:lnTo>
                    <a:pt x="1492" y="3850"/>
                  </a:lnTo>
                  <a:lnTo>
                    <a:pt x="1499" y="3860"/>
                  </a:lnTo>
                  <a:lnTo>
                    <a:pt x="1511" y="3871"/>
                  </a:lnTo>
                  <a:close/>
                  <a:moveTo>
                    <a:pt x="3617" y="3835"/>
                  </a:moveTo>
                  <a:lnTo>
                    <a:pt x="3629" y="3829"/>
                  </a:lnTo>
                  <a:lnTo>
                    <a:pt x="3641" y="3825"/>
                  </a:lnTo>
                  <a:lnTo>
                    <a:pt x="3650" y="3821"/>
                  </a:lnTo>
                  <a:lnTo>
                    <a:pt x="3660" y="3819"/>
                  </a:lnTo>
                  <a:lnTo>
                    <a:pt x="3675" y="3807"/>
                  </a:lnTo>
                  <a:lnTo>
                    <a:pt x="3687" y="3798"/>
                  </a:lnTo>
                  <a:lnTo>
                    <a:pt x="3693" y="3790"/>
                  </a:lnTo>
                  <a:lnTo>
                    <a:pt x="3699" y="3784"/>
                  </a:lnTo>
                  <a:lnTo>
                    <a:pt x="3706" y="3774"/>
                  </a:lnTo>
                  <a:lnTo>
                    <a:pt x="3718" y="3765"/>
                  </a:lnTo>
                  <a:lnTo>
                    <a:pt x="3722" y="3749"/>
                  </a:lnTo>
                  <a:lnTo>
                    <a:pt x="3726" y="3736"/>
                  </a:lnTo>
                  <a:lnTo>
                    <a:pt x="3730" y="3724"/>
                  </a:lnTo>
                  <a:lnTo>
                    <a:pt x="3734" y="3712"/>
                  </a:lnTo>
                  <a:lnTo>
                    <a:pt x="3734" y="3701"/>
                  </a:lnTo>
                  <a:lnTo>
                    <a:pt x="3734" y="3691"/>
                  </a:lnTo>
                  <a:lnTo>
                    <a:pt x="3734" y="3679"/>
                  </a:lnTo>
                  <a:lnTo>
                    <a:pt x="3734" y="3670"/>
                  </a:lnTo>
                  <a:lnTo>
                    <a:pt x="3734" y="3658"/>
                  </a:lnTo>
                  <a:lnTo>
                    <a:pt x="3734" y="3648"/>
                  </a:lnTo>
                  <a:lnTo>
                    <a:pt x="3734" y="3637"/>
                  </a:lnTo>
                  <a:lnTo>
                    <a:pt x="3734" y="3629"/>
                  </a:lnTo>
                  <a:lnTo>
                    <a:pt x="3716" y="3584"/>
                  </a:lnTo>
                  <a:lnTo>
                    <a:pt x="3706" y="3551"/>
                  </a:lnTo>
                  <a:lnTo>
                    <a:pt x="3697" y="3526"/>
                  </a:lnTo>
                  <a:lnTo>
                    <a:pt x="3691" y="3511"/>
                  </a:lnTo>
                  <a:lnTo>
                    <a:pt x="3685" y="3499"/>
                  </a:lnTo>
                  <a:lnTo>
                    <a:pt x="3681" y="3493"/>
                  </a:lnTo>
                  <a:lnTo>
                    <a:pt x="3677" y="3487"/>
                  </a:lnTo>
                  <a:lnTo>
                    <a:pt x="3675" y="3485"/>
                  </a:lnTo>
                  <a:lnTo>
                    <a:pt x="3660" y="3456"/>
                  </a:lnTo>
                  <a:lnTo>
                    <a:pt x="3648" y="3437"/>
                  </a:lnTo>
                  <a:lnTo>
                    <a:pt x="3637" y="3420"/>
                  </a:lnTo>
                  <a:lnTo>
                    <a:pt x="3629" y="3408"/>
                  </a:lnTo>
                  <a:lnTo>
                    <a:pt x="3621" y="3396"/>
                  </a:lnTo>
                  <a:lnTo>
                    <a:pt x="3615" y="3388"/>
                  </a:lnTo>
                  <a:lnTo>
                    <a:pt x="3610" y="3381"/>
                  </a:lnTo>
                  <a:lnTo>
                    <a:pt x="3608" y="3375"/>
                  </a:lnTo>
                  <a:lnTo>
                    <a:pt x="3596" y="3363"/>
                  </a:lnTo>
                  <a:lnTo>
                    <a:pt x="3584" y="3354"/>
                  </a:lnTo>
                  <a:lnTo>
                    <a:pt x="3573" y="3344"/>
                  </a:lnTo>
                  <a:lnTo>
                    <a:pt x="3563" y="3334"/>
                  </a:lnTo>
                  <a:lnTo>
                    <a:pt x="3551" y="3323"/>
                  </a:lnTo>
                  <a:lnTo>
                    <a:pt x="3540" y="3315"/>
                  </a:lnTo>
                  <a:lnTo>
                    <a:pt x="3528" y="3303"/>
                  </a:lnTo>
                  <a:lnTo>
                    <a:pt x="3518" y="3295"/>
                  </a:lnTo>
                  <a:lnTo>
                    <a:pt x="3501" y="3282"/>
                  </a:lnTo>
                  <a:lnTo>
                    <a:pt x="3485" y="3274"/>
                  </a:lnTo>
                  <a:lnTo>
                    <a:pt x="3478" y="3266"/>
                  </a:lnTo>
                  <a:lnTo>
                    <a:pt x="3470" y="3262"/>
                  </a:lnTo>
                  <a:lnTo>
                    <a:pt x="3462" y="3260"/>
                  </a:lnTo>
                  <a:lnTo>
                    <a:pt x="3456" y="3259"/>
                  </a:lnTo>
                  <a:lnTo>
                    <a:pt x="3445" y="3255"/>
                  </a:lnTo>
                  <a:lnTo>
                    <a:pt x="3433" y="3253"/>
                  </a:lnTo>
                  <a:lnTo>
                    <a:pt x="3416" y="3257"/>
                  </a:lnTo>
                  <a:lnTo>
                    <a:pt x="3400" y="3260"/>
                  </a:lnTo>
                  <a:lnTo>
                    <a:pt x="3385" y="3264"/>
                  </a:lnTo>
                  <a:lnTo>
                    <a:pt x="3369" y="3268"/>
                  </a:lnTo>
                  <a:lnTo>
                    <a:pt x="3357" y="3276"/>
                  </a:lnTo>
                  <a:lnTo>
                    <a:pt x="3348" y="3284"/>
                  </a:lnTo>
                  <a:lnTo>
                    <a:pt x="3340" y="3292"/>
                  </a:lnTo>
                  <a:lnTo>
                    <a:pt x="3332" y="3301"/>
                  </a:lnTo>
                  <a:lnTo>
                    <a:pt x="3322" y="3321"/>
                  </a:lnTo>
                  <a:lnTo>
                    <a:pt x="3317" y="3336"/>
                  </a:lnTo>
                  <a:lnTo>
                    <a:pt x="3311" y="3348"/>
                  </a:lnTo>
                  <a:lnTo>
                    <a:pt x="3307" y="3357"/>
                  </a:lnTo>
                  <a:lnTo>
                    <a:pt x="3301" y="3369"/>
                  </a:lnTo>
                  <a:lnTo>
                    <a:pt x="3295" y="3381"/>
                  </a:lnTo>
                  <a:lnTo>
                    <a:pt x="3295" y="3396"/>
                  </a:lnTo>
                  <a:lnTo>
                    <a:pt x="3295" y="3414"/>
                  </a:lnTo>
                  <a:lnTo>
                    <a:pt x="3295" y="3431"/>
                  </a:lnTo>
                  <a:lnTo>
                    <a:pt x="3295" y="3449"/>
                  </a:lnTo>
                  <a:lnTo>
                    <a:pt x="3299" y="3460"/>
                  </a:lnTo>
                  <a:lnTo>
                    <a:pt x="3303" y="3474"/>
                  </a:lnTo>
                  <a:lnTo>
                    <a:pt x="3305" y="3487"/>
                  </a:lnTo>
                  <a:lnTo>
                    <a:pt x="3307" y="3501"/>
                  </a:lnTo>
                  <a:lnTo>
                    <a:pt x="3319" y="3520"/>
                  </a:lnTo>
                  <a:lnTo>
                    <a:pt x="3330" y="3542"/>
                  </a:lnTo>
                  <a:lnTo>
                    <a:pt x="3342" y="3561"/>
                  </a:lnTo>
                  <a:lnTo>
                    <a:pt x="3354" y="3582"/>
                  </a:lnTo>
                  <a:lnTo>
                    <a:pt x="3365" y="3602"/>
                  </a:lnTo>
                  <a:lnTo>
                    <a:pt x="3377" y="3623"/>
                  </a:lnTo>
                  <a:lnTo>
                    <a:pt x="3388" y="3645"/>
                  </a:lnTo>
                  <a:lnTo>
                    <a:pt x="3402" y="3666"/>
                  </a:lnTo>
                  <a:lnTo>
                    <a:pt x="3414" y="3678"/>
                  </a:lnTo>
                  <a:lnTo>
                    <a:pt x="3425" y="3691"/>
                  </a:lnTo>
                  <a:lnTo>
                    <a:pt x="3437" y="3703"/>
                  </a:lnTo>
                  <a:lnTo>
                    <a:pt x="3449" y="3716"/>
                  </a:lnTo>
                  <a:lnTo>
                    <a:pt x="3460" y="3728"/>
                  </a:lnTo>
                  <a:lnTo>
                    <a:pt x="3472" y="3740"/>
                  </a:lnTo>
                  <a:lnTo>
                    <a:pt x="3483" y="3751"/>
                  </a:lnTo>
                  <a:lnTo>
                    <a:pt x="3497" y="3765"/>
                  </a:lnTo>
                  <a:lnTo>
                    <a:pt x="3514" y="3776"/>
                  </a:lnTo>
                  <a:lnTo>
                    <a:pt x="3534" y="3788"/>
                  </a:lnTo>
                  <a:lnTo>
                    <a:pt x="3551" y="3800"/>
                  </a:lnTo>
                  <a:lnTo>
                    <a:pt x="3571" y="3813"/>
                  </a:lnTo>
                  <a:lnTo>
                    <a:pt x="3582" y="3815"/>
                  </a:lnTo>
                  <a:lnTo>
                    <a:pt x="3594" y="3821"/>
                  </a:lnTo>
                  <a:lnTo>
                    <a:pt x="3606" y="3827"/>
                  </a:lnTo>
                  <a:lnTo>
                    <a:pt x="3617" y="3835"/>
                  </a:lnTo>
                  <a:close/>
                  <a:moveTo>
                    <a:pt x="1627" y="3823"/>
                  </a:moveTo>
                  <a:lnTo>
                    <a:pt x="1643" y="3823"/>
                  </a:lnTo>
                  <a:lnTo>
                    <a:pt x="1658" y="3823"/>
                  </a:lnTo>
                  <a:lnTo>
                    <a:pt x="1666" y="3815"/>
                  </a:lnTo>
                  <a:lnTo>
                    <a:pt x="1670" y="3813"/>
                  </a:lnTo>
                  <a:lnTo>
                    <a:pt x="1668" y="3796"/>
                  </a:lnTo>
                  <a:lnTo>
                    <a:pt x="1666" y="3780"/>
                  </a:lnTo>
                  <a:lnTo>
                    <a:pt x="1664" y="3767"/>
                  </a:lnTo>
                  <a:lnTo>
                    <a:pt x="1664" y="3755"/>
                  </a:lnTo>
                  <a:lnTo>
                    <a:pt x="1657" y="3742"/>
                  </a:lnTo>
                  <a:lnTo>
                    <a:pt x="1651" y="3730"/>
                  </a:lnTo>
                  <a:lnTo>
                    <a:pt x="1643" y="3718"/>
                  </a:lnTo>
                  <a:lnTo>
                    <a:pt x="1637" y="3707"/>
                  </a:lnTo>
                  <a:lnTo>
                    <a:pt x="1626" y="3697"/>
                  </a:lnTo>
                  <a:lnTo>
                    <a:pt x="1618" y="3689"/>
                  </a:lnTo>
                  <a:lnTo>
                    <a:pt x="1610" y="3683"/>
                  </a:lnTo>
                  <a:lnTo>
                    <a:pt x="1602" y="3679"/>
                  </a:lnTo>
                  <a:lnTo>
                    <a:pt x="1591" y="3672"/>
                  </a:lnTo>
                  <a:lnTo>
                    <a:pt x="1581" y="3664"/>
                  </a:lnTo>
                  <a:lnTo>
                    <a:pt x="1565" y="3654"/>
                  </a:lnTo>
                  <a:lnTo>
                    <a:pt x="1548" y="3645"/>
                  </a:lnTo>
                  <a:lnTo>
                    <a:pt x="1536" y="3643"/>
                  </a:lnTo>
                  <a:lnTo>
                    <a:pt x="1527" y="3643"/>
                  </a:lnTo>
                  <a:lnTo>
                    <a:pt x="1517" y="3641"/>
                  </a:lnTo>
                  <a:lnTo>
                    <a:pt x="1511" y="3639"/>
                  </a:lnTo>
                  <a:lnTo>
                    <a:pt x="1505" y="3645"/>
                  </a:lnTo>
                  <a:lnTo>
                    <a:pt x="1501" y="3650"/>
                  </a:lnTo>
                  <a:lnTo>
                    <a:pt x="1501" y="3656"/>
                  </a:lnTo>
                  <a:lnTo>
                    <a:pt x="1501" y="3668"/>
                  </a:lnTo>
                  <a:lnTo>
                    <a:pt x="1501" y="3679"/>
                  </a:lnTo>
                  <a:lnTo>
                    <a:pt x="1501" y="3691"/>
                  </a:lnTo>
                  <a:lnTo>
                    <a:pt x="1511" y="3709"/>
                  </a:lnTo>
                  <a:lnTo>
                    <a:pt x="1523" y="3724"/>
                  </a:lnTo>
                  <a:lnTo>
                    <a:pt x="1530" y="3736"/>
                  </a:lnTo>
                  <a:lnTo>
                    <a:pt x="1538" y="3747"/>
                  </a:lnTo>
                  <a:lnTo>
                    <a:pt x="1544" y="3755"/>
                  </a:lnTo>
                  <a:lnTo>
                    <a:pt x="1554" y="3767"/>
                  </a:lnTo>
                  <a:lnTo>
                    <a:pt x="1563" y="3778"/>
                  </a:lnTo>
                  <a:lnTo>
                    <a:pt x="1579" y="3798"/>
                  </a:lnTo>
                  <a:lnTo>
                    <a:pt x="1591" y="3804"/>
                  </a:lnTo>
                  <a:lnTo>
                    <a:pt x="1602" y="3809"/>
                  </a:lnTo>
                  <a:lnTo>
                    <a:pt x="1614" y="3815"/>
                  </a:lnTo>
                  <a:lnTo>
                    <a:pt x="1627" y="3823"/>
                  </a:lnTo>
                  <a:close/>
                  <a:moveTo>
                    <a:pt x="4542" y="3813"/>
                  </a:moveTo>
                  <a:lnTo>
                    <a:pt x="4546" y="3809"/>
                  </a:lnTo>
                  <a:lnTo>
                    <a:pt x="4552" y="3802"/>
                  </a:lnTo>
                  <a:lnTo>
                    <a:pt x="4544" y="3802"/>
                  </a:lnTo>
                  <a:lnTo>
                    <a:pt x="4537" y="3802"/>
                  </a:lnTo>
                  <a:lnTo>
                    <a:pt x="4540" y="3809"/>
                  </a:lnTo>
                  <a:lnTo>
                    <a:pt x="4542" y="3813"/>
                  </a:lnTo>
                  <a:close/>
                  <a:moveTo>
                    <a:pt x="3639" y="3765"/>
                  </a:moveTo>
                  <a:lnTo>
                    <a:pt x="3650" y="3765"/>
                  </a:lnTo>
                  <a:lnTo>
                    <a:pt x="3660" y="3765"/>
                  </a:lnTo>
                  <a:lnTo>
                    <a:pt x="3668" y="3755"/>
                  </a:lnTo>
                  <a:lnTo>
                    <a:pt x="3674" y="3747"/>
                  </a:lnTo>
                  <a:lnTo>
                    <a:pt x="3679" y="3740"/>
                  </a:lnTo>
                  <a:lnTo>
                    <a:pt x="3687" y="3728"/>
                  </a:lnTo>
                  <a:lnTo>
                    <a:pt x="3681" y="3716"/>
                  </a:lnTo>
                  <a:lnTo>
                    <a:pt x="3681" y="3707"/>
                  </a:lnTo>
                  <a:lnTo>
                    <a:pt x="3668" y="3697"/>
                  </a:lnTo>
                  <a:lnTo>
                    <a:pt x="3656" y="3683"/>
                  </a:lnTo>
                  <a:lnTo>
                    <a:pt x="3644" y="3672"/>
                  </a:lnTo>
                  <a:lnTo>
                    <a:pt x="3635" y="3660"/>
                  </a:lnTo>
                  <a:lnTo>
                    <a:pt x="3621" y="3645"/>
                  </a:lnTo>
                  <a:lnTo>
                    <a:pt x="3608" y="3629"/>
                  </a:lnTo>
                  <a:lnTo>
                    <a:pt x="3590" y="3619"/>
                  </a:lnTo>
                  <a:lnTo>
                    <a:pt x="3580" y="3612"/>
                  </a:lnTo>
                  <a:lnTo>
                    <a:pt x="3577" y="3627"/>
                  </a:lnTo>
                  <a:lnTo>
                    <a:pt x="3577" y="3645"/>
                  </a:lnTo>
                  <a:lnTo>
                    <a:pt x="3582" y="3660"/>
                  </a:lnTo>
                  <a:lnTo>
                    <a:pt x="3590" y="3674"/>
                  </a:lnTo>
                  <a:lnTo>
                    <a:pt x="3596" y="3685"/>
                  </a:lnTo>
                  <a:lnTo>
                    <a:pt x="3602" y="3699"/>
                  </a:lnTo>
                  <a:lnTo>
                    <a:pt x="3608" y="3709"/>
                  </a:lnTo>
                  <a:lnTo>
                    <a:pt x="3615" y="3722"/>
                  </a:lnTo>
                  <a:lnTo>
                    <a:pt x="3625" y="3740"/>
                  </a:lnTo>
                  <a:lnTo>
                    <a:pt x="3639" y="3765"/>
                  </a:lnTo>
                  <a:close/>
                  <a:moveTo>
                    <a:pt x="3577" y="3761"/>
                  </a:moveTo>
                  <a:lnTo>
                    <a:pt x="3578" y="3761"/>
                  </a:lnTo>
                  <a:lnTo>
                    <a:pt x="3578" y="3757"/>
                  </a:lnTo>
                  <a:lnTo>
                    <a:pt x="3580" y="3749"/>
                  </a:lnTo>
                  <a:lnTo>
                    <a:pt x="3575" y="3738"/>
                  </a:lnTo>
                  <a:lnTo>
                    <a:pt x="3571" y="3728"/>
                  </a:lnTo>
                  <a:lnTo>
                    <a:pt x="3565" y="3716"/>
                  </a:lnTo>
                  <a:lnTo>
                    <a:pt x="3561" y="3707"/>
                  </a:lnTo>
                  <a:lnTo>
                    <a:pt x="3555" y="3695"/>
                  </a:lnTo>
                  <a:lnTo>
                    <a:pt x="3549" y="3685"/>
                  </a:lnTo>
                  <a:lnTo>
                    <a:pt x="3544" y="3674"/>
                  </a:lnTo>
                  <a:lnTo>
                    <a:pt x="3540" y="3666"/>
                  </a:lnTo>
                  <a:lnTo>
                    <a:pt x="3530" y="3648"/>
                  </a:lnTo>
                  <a:lnTo>
                    <a:pt x="3518" y="3639"/>
                  </a:lnTo>
                  <a:lnTo>
                    <a:pt x="3513" y="3648"/>
                  </a:lnTo>
                  <a:lnTo>
                    <a:pt x="3511" y="3658"/>
                  </a:lnTo>
                  <a:lnTo>
                    <a:pt x="3507" y="3666"/>
                  </a:lnTo>
                  <a:lnTo>
                    <a:pt x="3507" y="3674"/>
                  </a:lnTo>
                  <a:lnTo>
                    <a:pt x="3505" y="3679"/>
                  </a:lnTo>
                  <a:lnTo>
                    <a:pt x="3503" y="3687"/>
                  </a:lnTo>
                  <a:lnTo>
                    <a:pt x="3501" y="3695"/>
                  </a:lnTo>
                  <a:lnTo>
                    <a:pt x="3501" y="3707"/>
                  </a:lnTo>
                  <a:lnTo>
                    <a:pt x="3513" y="3716"/>
                  </a:lnTo>
                  <a:lnTo>
                    <a:pt x="3522" y="3724"/>
                  </a:lnTo>
                  <a:lnTo>
                    <a:pt x="3530" y="3730"/>
                  </a:lnTo>
                  <a:lnTo>
                    <a:pt x="3538" y="3738"/>
                  </a:lnTo>
                  <a:lnTo>
                    <a:pt x="3544" y="3742"/>
                  </a:lnTo>
                  <a:lnTo>
                    <a:pt x="3553" y="3745"/>
                  </a:lnTo>
                  <a:lnTo>
                    <a:pt x="3563" y="3751"/>
                  </a:lnTo>
                  <a:lnTo>
                    <a:pt x="3577" y="3761"/>
                  </a:lnTo>
                  <a:close/>
                  <a:moveTo>
                    <a:pt x="1750" y="3734"/>
                  </a:moveTo>
                  <a:lnTo>
                    <a:pt x="1761" y="3734"/>
                  </a:lnTo>
                  <a:lnTo>
                    <a:pt x="1775" y="3734"/>
                  </a:lnTo>
                  <a:lnTo>
                    <a:pt x="1771" y="3722"/>
                  </a:lnTo>
                  <a:lnTo>
                    <a:pt x="1769" y="3712"/>
                  </a:lnTo>
                  <a:lnTo>
                    <a:pt x="1748" y="3689"/>
                  </a:lnTo>
                  <a:lnTo>
                    <a:pt x="1734" y="3672"/>
                  </a:lnTo>
                  <a:lnTo>
                    <a:pt x="1722" y="3658"/>
                  </a:lnTo>
                  <a:lnTo>
                    <a:pt x="1717" y="3650"/>
                  </a:lnTo>
                  <a:lnTo>
                    <a:pt x="1705" y="3635"/>
                  </a:lnTo>
                  <a:lnTo>
                    <a:pt x="1701" y="3623"/>
                  </a:lnTo>
                  <a:lnTo>
                    <a:pt x="1688" y="3619"/>
                  </a:lnTo>
                  <a:lnTo>
                    <a:pt x="1674" y="3617"/>
                  </a:lnTo>
                  <a:lnTo>
                    <a:pt x="1674" y="3633"/>
                  </a:lnTo>
                  <a:lnTo>
                    <a:pt x="1674" y="3648"/>
                  </a:lnTo>
                  <a:lnTo>
                    <a:pt x="1674" y="3664"/>
                  </a:lnTo>
                  <a:lnTo>
                    <a:pt x="1674" y="3681"/>
                  </a:lnTo>
                  <a:lnTo>
                    <a:pt x="1682" y="3687"/>
                  </a:lnTo>
                  <a:lnTo>
                    <a:pt x="1690" y="3699"/>
                  </a:lnTo>
                  <a:lnTo>
                    <a:pt x="1697" y="3710"/>
                  </a:lnTo>
                  <a:lnTo>
                    <a:pt x="1707" y="3724"/>
                  </a:lnTo>
                  <a:lnTo>
                    <a:pt x="1717" y="3724"/>
                  </a:lnTo>
                  <a:lnTo>
                    <a:pt x="1726" y="3724"/>
                  </a:lnTo>
                  <a:lnTo>
                    <a:pt x="1732" y="3724"/>
                  </a:lnTo>
                  <a:lnTo>
                    <a:pt x="1740" y="3724"/>
                  </a:lnTo>
                  <a:lnTo>
                    <a:pt x="1744" y="3726"/>
                  </a:lnTo>
                  <a:lnTo>
                    <a:pt x="1750" y="3734"/>
                  </a:lnTo>
                  <a:close/>
                  <a:moveTo>
                    <a:pt x="1426" y="3707"/>
                  </a:moveTo>
                  <a:lnTo>
                    <a:pt x="1441" y="3707"/>
                  </a:lnTo>
                  <a:lnTo>
                    <a:pt x="1459" y="3707"/>
                  </a:lnTo>
                  <a:lnTo>
                    <a:pt x="1453" y="3691"/>
                  </a:lnTo>
                  <a:lnTo>
                    <a:pt x="1449" y="3676"/>
                  </a:lnTo>
                  <a:lnTo>
                    <a:pt x="1445" y="3662"/>
                  </a:lnTo>
                  <a:lnTo>
                    <a:pt x="1443" y="3650"/>
                  </a:lnTo>
                  <a:lnTo>
                    <a:pt x="1434" y="3641"/>
                  </a:lnTo>
                  <a:lnTo>
                    <a:pt x="1424" y="3633"/>
                  </a:lnTo>
                  <a:lnTo>
                    <a:pt x="1412" y="3625"/>
                  </a:lnTo>
                  <a:lnTo>
                    <a:pt x="1406" y="3617"/>
                  </a:lnTo>
                  <a:lnTo>
                    <a:pt x="1401" y="3633"/>
                  </a:lnTo>
                  <a:lnTo>
                    <a:pt x="1401" y="3650"/>
                  </a:lnTo>
                  <a:lnTo>
                    <a:pt x="1403" y="3662"/>
                  </a:lnTo>
                  <a:lnTo>
                    <a:pt x="1408" y="3676"/>
                  </a:lnTo>
                  <a:lnTo>
                    <a:pt x="1410" y="3689"/>
                  </a:lnTo>
                  <a:lnTo>
                    <a:pt x="1416" y="3703"/>
                  </a:lnTo>
                  <a:lnTo>
                    <a:pt x="1422" y="3705"/>
                  </a:lnTo>
                  <a:lnTo>
                    <a:pt x="1426" y="3707"/>
                  </a:lnTo>
                  <a:close/>
                  <a:moveTo>
                    <a:pt x="3464" y="3666"/>
                  </a:moveTo>
                  <a:lnTo>
                    <a:pt x="3468" y="3658"/>
                  </a:lnTo>
                  <a:lnTo>
                    <a:pt x="3472" y="3646"/>
                  </a:lnTo>
                  <a:lnTo>
                    <a:pt x="3478" y="3631"/>
                  </a:lnTo>
                  <a:lnTo>
                    <a:pt x="3485" y="3617"/>
                  </a:lnTo>
                  <a:lnTo>
                    <a:pt x="3485" y="3610"/>
                  </a:lnTo>
                  <a:lnTo>
                    <a:pt x="3485" y="3602"/>
                  </a:lnTo>
                  <a:lnTo>
                    <a:pt x="3474" y="3590"/>
                  </a:lnTo>
                  <a:lnTo>
                    <a:pt x="3462" y="3579"/>
                  </a:lnTo>
                  <a:lnTo>
                    <a:pt x="3450" y="3567"/>
                  </a:lnTo>
                  <a:lnTo>
                    <a:pt x="3445" y="3559"/>
                  </a:lnTo>
                  <a:lnTo>
                    <a:pt x="3435" y="3559"/>
                  </a:lnTo>
                  <a:lnTo>
                    <a:pt x="3425" y="3561"/>
                  </a:lnTo>
                  <a:lnTo>
                    <a:pt x="3414" y="3563"/>
                  </a:lnTo>
                  <a:lnTo>
                    <a:pt x="3406" y="3565"/>
                  </a:lnTo>
                  <a:lnTo>
                    <a:pt x="3406" y="3575"/>
                  </a:lnTo>
                  <a:lnTo>
                    <a:pt x="3406" y="3586"/>
                  </a:lnTo>
                  <a:lnTo>
                    <a:pt x="3416" y="3602"/>
                  </a:lnTo>
                  <a:lnTo>
                    <a:pt x="3423" y="3615"/>
                  </a:lnTo>
                  <a:lnTo>
                    <a:pt x="3429" y="3625"/>
                  </a:lnTo>
                  <a:lnTo>
                    <a:pt x="3437" y="3635"/>
                  </a:lnTo>
                  <a:lnTo>
                    <a:pt x="3447" y="3648"/>
                  </a:lnTo>
                  <a:lnTo>
                    <a:pt x="3464" y="3666"/>
                  </a:lnTo>
                  <a:close/>
                  <a:moveTo>
                    <a:pt x="1616" y="3633"/>
                  </a:moveTo>
                  <a:lnTo>
                    <a:pt x="1626" y="3635"/>
                  </a:lnTo>
                  <a:lnTo>
                    <a:pt x="1637" y="3639"/>
                  </a:lnTo>
                  <a:lnTo>
                    <a:pt x="1637" y="3619"/>
                  </a:lnTo>
                  <a:lnTo>
                    <a:pt x="1637" y="3602"/>
                  </a:lnTo>
                  <a:lnTo>
                    <a:pt x="1637" y="3584"/>
                  </a:lnTo>
                  <a:lnTo>
                    <a:pt x="1637" y="3571"/>
                  </a:lnTo>
                  <a:lnTo>
                    <a:pt x="1620" y="3561"/>
                  </a:lnTo>
                  <a:lnTo>
                    <a:pt x="1608" y="3551"/>
                  </a:lnTo>
                  <a:lnTo>
                    <a:pt x="1596" y="3540"/>
                  </a:lnTo>
                  <a:lnTo>
                    <a:pt x="1585" y="3534"/>
                  </a:lnTo>
                  <a:lnTo>
                    <a:pt x="1573" y="3528"/>
                  </a:lnTo>
                  <a:lnTo>
                    <a:pt x="1562" y="3524"/>
                  </a:lnTo>
                  <a:lnTo>
                    <a:pt x="1550" y="3520"/>
                  </a:lnTo>
                  <a:lnTo>
                    <a:pt x="1538" y="3517"/>
                  </a:lnTo>
                  <a:lnTo>
                    <a:pt x="1542" y="3530"/>
                  </a:lnTo>
                  <a:lnTo>
                    <a:pt x="1546" y="3544"/>
                  </a:lnTo>
                  <a:lnTo>
                    <a:pt x="1550" y="3553"/>
                  </a:lnTo>
                  <a:lnTo>
                    <a:pt x="1554" y="3563"/>
                  </a:lnTo>
                  <a:lnTo>
                    <a:pt x="1556" y="3569"/>
                  </a:lnTo>
                  <a:lnTo>
                    <a:pt x="1560" y="3579"/>
                  </a:lnTo>
                  <a:lnTo>
                    <a:pt x="1563" y="3588"/>
                  </a:lnTo>
                  <a:lnTo>
                    <a:pt x="1569" y="3602"/>
                  </a:lnTo>
                  <a:lnTo>
                    <a:pt x="1581" y="3608"/>
                  </a:lnTo>
                  <a:lnTo>
                    <a:pt x="1593" y="3617"/>
                  </a:lnTo>
                  <a:lnTo>
                    <a:pt x="1604" y="3623"/>
                  </a:lnTo>
                  <a:lnTo>
                    <a:pt x="1616" y="3633"/>
                  </a:lnTo>
                  <a:close/>
                  <a:moveTo>
                    <a:pt x="3672" y="3629"/>
                  </a:moveTo>
                  <a:lnTo>
                    <a:pt x="3677" y="3629"/>
                  </a:lnTo>
                  <a:lnTo>
                    <a:pt x="3687" y="3629"/>
                  </a:lnTo>
                  <a:lnTo>
                    <a:pt x="3679" y="3608"/>
                  </a:lnTo>
                  <a:lnTo>
                    <a:pt x="3674" y="3588"/>
                  </a:lnTo>
                  <a:lnTo>
                    <a:pt x="3666" y="3567"/>
                  </a:lnTo>
                  <a:lnTo>
                    <a:pt x="3660" y="3549"/>
                  </a:lnTo>
                  <a:lnTo>
                    <a:pt x="3642" y="3544"/>
                  </a:lnTo>
                  <a:lnTo>
                    <a:pt x="3631" y="3544"/>
                  </a:lnTo>
                  <a:lnTo>
                    <a:pt x="3619" y="3544"/>
                  </a:lnTo>
                  <a:lnTo>
                    <a:pt x="3608" y="3544"/>
                  </a:lnTo>
                  <a:lnTo>
                    <a:pt x="3598" y="3546"/>
                  </a:lnTo>
                  <a:lnTo>
                    <a:pt x="3596" y="3549"/>
                  </a:lnTo>
                  <a:lnTo>
                    <a:pt x="3606" y="3559"/>
                  </a:lnTo>
                  <a:lnTo>
                    <a:pt x="3615" y="3569"/>
                  </a:lnTo>
                  <a:lnTo>
                    <a:pt x="3625" y="3579"/>
                  </a:lnTo>
                  <a:lnTo>
                    <a:pt x="3635" y="3590"/>
                  </a:lnTo>
                  <a:lnTo>
                    <a:pt x="3652" y="3608"/>
                  </a:lnTo>
                  <a:lnTo>
                    <a:pt x="3672" y="3629"/>
                  </a:lnTo>
                  <a:close/>
                  <a:moveTo>
                    <a:pt x="1459" y="3602"/>
                  </a:moveTo>
                  <a:lnTo>
                    <a:pt x="1465" y="3596"/>
                  </a:lnTo>
                  <a:lnTo>
                    <a:pt x="1476" y="3596"/>
                  </a:lnTo>
                  <a:lnTo>
                    <a:pt x="1486" y="3596"/>
                  </a:lnTo>
                  <a:lnTo>
                    <a:pt x="1496" y="3596"/>
                  </a:lnTo>
                  <a:lnTo>
                    <a:pt x="1498" y="3584"/>
                  </a:lnTo>
                  <a:lnTo>
                    <a:pt x="1501" y="3575"/>
                  </a:lnTo>
                  <a:lnTo>
                    <a:pt x="1496" y="3565"/>
                  </a:lnTo>
                  <a:lnTo>
                    <a:pt x="1490" y="3555"/>
                  </a:lnTo>
                  <a:lnTo>
                    <a:pt x="1484" y="3546"/>
                  </a:lnTo>
                  <a:lnTo>
                    <a:pt x="1480" y="3538"/>
                  </a:lnTo>
                  <a:lnTo>
                    <a:pt x="1478" y="3526"/>
                  </a:lnTo>
                  <a:lnTo>
                    <a:pt x="1476" y="3517"/>
                  </a:lnTo>
                  <a:lnTo>
                    <a:pt x="1474" y="3507"/>
                  </a:lnTo>
                  <a:lnTo>
                    <a:pt x="1474" y="3497"/>
                  </a:lnTo>
                  <a:lnTo>
                    <a:pt x="1461" y="3499"/>
                  </a:lnTo>
                  <a:lnTo>
                    <a:pt x="1447" y="3503"/>
                  </a:lnTo>
                  <a:lnTo>
                    <a:pt x="1434" y="3507"/>
                  </a:lnTo>
                  <a:lnTo>
                    <a:pt x="1422" y="3513"/>
                  </a:lnTo>
                  <a:lnTo>
                    <a:pt x="1416" y="3518"/>
                  </a:lnTo>
                  <a:lnTo>
                    <a:pt x="1412" y="3530"/>
                  </a:lnTo>
                  <a:lnTo>
                    <a:pt x="1408" y="3540"/>
                  </a:lnTo>
                  <a:lnTo>
                    <a:pt x="1406" y="3549"/>
                  </a:lnTo>
                  <a:lnTo>
                    <a:pt x="1418" y="3561"/>
                  </a:lnTo>
                  <a:lnTo>
                    <a:pt x="1432" y="3575"/>
                  </a:lnTo>
                  <a:lnTo>
                    <a:pt x="1445" y="3588"/>
                  </a:lnTo>
                  <a:lnTo>
                    <a:pt x="1459" y="3602"/>
                  </a:lnTo>
                  <a:close/>
                  <a:moveTo>
                    <a:pt x="4944" y="3586"/>
                  </a:moveTo>
                  <a:lnTo>
                    <a:pt x="4946" y="3577"/>
                  </a:lnTo>
                  <a:lnTo>
                    <a:pt x="4948" y="3573"/>
                  </a:lnTo>
                  <a:lnTo>
                    <a:pt x="4948" y="3571"/>
                  </a:lnTo>
                  <a:lnTo>
                    <a:pt x="4946" y="3577"/>
                  </a:lnTo>
                  <a:lnTo>
                    <a:pt x="4944" y="3586"/>
                  </a:lnTo>
                  <a:close/>
                  <a:moveTo>
                    <a:pt x="3513" y="3571"/>
                  </a:moveTo>
                  <a:lnTo>
                    <a:pt x="3528" y="3571"/>
                  </a:lnTo>
                  <a:lnTo>
                    <a:pt x="3544" y="3571"/>
                  </a:lnTo>
                  <a:lnTo>
                    <a:pt x="3542" y="3557"/>
                  </a:lnTo>
                  <a:lnTo>
                    <a:pt x="3540" y="3549"/>
                  </a:lnTo>
                  <a:lnTo>
                    <a:pt x="3538" y="3542"/>
                  </a:lnTo>
                  <a:lnTo>
                    <a:pt x="3538" y="3536"/>
                  </a:lnTo>
                  <a:lnTo>
                    <a:pt x="3534" y="3526"/>
                  </a:lnTo>
                  <a:lnTo>
                    <a:pt x="3530" y="3518"/>
                  </a:lnTo>
                  <a:lnTo>
                    <a:pt x="3526" y="3509"/>
                  </a:lnTo>
                  <a:lnTo>
                    <a:pt x="3522" y="3497"/>
                  </a:lnTo>
                  <a:lnTo>
                    <a:pt x="3514" y="3493"/>
                  </a:lnTo>
                  <a:lnTo>
                    <a:pt x="3507" y="3491"/>
                  </a:lnTo>
                  <a:lnTo>
                    <a:pt x="3491" y="3491"/>
                  </a:lnTo>
                  <a:lnTo>
                    <a:pt x="3482" y="3491"/>
                  </a:lnTo>
                  <a:lnTo>
                    <a:pt x="3478" y="3503"/>
                  </a:lnTo>
                  <a:lnTo>
                    <a:pt x="3476" y="3517"/>
                  </a:lnTo>
                  <a:lnTo>
                    <a:pt x="3485" y="3528"/>
                  </a:lnTo>
                  <a:lnTo>
                    <a:pt x="3495" y="3544"/>
                  </a:lnTo>
                  <a:lnTo>
                    <a:pt x="3503" y="3557"/>
                  </a:lnTo>
                  <a:lnTo>
                    <a:pt x="3513" y="3571"/>
                  </a:lnTo>
                  <a:close/>
                  <a:moveTo>
                    <a:pt x="3369" y="3513"/>
                  </a:moveTo>
                  <a:lnTo>
                    <a:pt x="3381" y="3511"/>
                  </a:lnTo>
                  <a:lnTo>
                    <a:pt x="3392" y="3511"/>
                  </a:lnTo>
                  <a:lnTo>
                    <a:pt x="3404" y="3509"/>
                  </a:lnTo>
                  <a:lnTo>
                    <a:pt x="3418" y="3507"/>
                  </a:lnTo>
                  <a:lnTo>
                    <a:pt x="3421" y="3501"/>
                  </a:lnTo>
                  <a:lnTo>
                    <a:pt x="3425" y="3499"/>
                  </a:lnTo>
                  <a:lnTo>
                    <a:pt x="3425" y="3493"/>
                  </a:lnTo>
                  <a:lnTo>
                    <a:pt x="3427" y="3485"/>
                  </a:lnTo>
                  <a:lnTo>
                    <a:pt x="3410" y="3468"/>
                  </a:lnTo>
                  <a:lnTo>
                    <a:pt x="3392" y="3453"/>
                  </a:lnTo>
                  <a:lnTo>
                    <a:pt x="3375" y="3437"/>
                  </a:lnTo>
                  <a:lnTo>
                    <a:pt x="3359" y="3421"/>
                  </a:lnTo>
                  <a:lnTo>
                    <a:pt x="3348" y="3418"/>
                  </a:lnTo>
                  <a:lnTo>
                    <a:pt x="3338" y="3418"/>
                  </a:lnTo>
                  <a:lnTo>
                    <a:pt x="3338" y="3423"/>
                  </a:lnTo>
                  <a:lnTo>
                    <a:pt x="3340" y="3435"/>
                  </a:lnTo>
                  <a:lnTo>
                    <a:pt x="3342" y="3445"/>
                  </a:lnTo>
                  <a:lnTo>
                    <a:pt x="3344" y="3454"/>
                  </a:lnTo>
                  <a:lnTo>
                    <a:pt x="3350" y="3470"/>
                  </a:lnTo>
                  <a:lnTo>
                    <a:pt x="3355" y="3484"/>
                  </a:lnTo>
                  <a:lnTo>
                    <a:pt x="3357" y="3493"/>
                  </a:lnTo>
                  <a:lnTo>
                    <a:pt x="3361" y="3501"/>
                  </a:lnTo>
                  <a:lnTo>
                    <a:pt x="3365" y="3507"/>
                  </a:lnTo>
                  <a:lnTo>
                    <a:pt x="3369" y="3513"/>
                  </a:lnTo>
                  <a:close/>
                  <a:moveTo>
                    <a:pt x="3565" y="3491"/>
                  </a:moveTo>
                  <a:lnTo>
                    <a:pt x="3580" y="3485"/>
                  </a:lnTo>
                  <a:lnTo>
                    <a:pt x="3596" y="3485"/>
                  </a:lnTo>
                  <a:lnTo>
                    <a:pt x="3611" y="3485"/>
                  </a:lnTo>
                  <a:lnTo>
                    <a:pt x="3629" y="3485"/>
                  </a:lnTo>
                  <a:lnTo>
                    <a:pt x="3623" y="3474"/>
                  </a:lnTo>
                  <a:lnTo>
                    <a:pt x="3619" y="3464"/>
                  </a:lnTo>
                  <a:lnTo>
                    <a:pt x="3613" y="3456"/>
                  </a:lnTo>
                  <a:lnTo>
                    <a:pt x="3610" y="3449"/>
                  </a:lnTo>
                  <a:lnTo>
                    <a:pt x="3602" y="3435"/>
                  </a:lnTo>
                  <a:lnTo>
                    <a:pt x="3592" y="3421"/>
                  </a:lnTo>
                  <a:lnTo>
                    <a:pt x="3582" y="3431"/>
                  </a:lnTo>
                  <a:lnTo>
                    <a:pt x="3575" y="3443"/>
                  </a:lnTo>
                  <a:lnTo>
                    <a:pt x="3567" y="3451"/>
                  </a:lnTo>
                  <a:lnTo>
                    <a:pt x="3559" y="3458"/>
                  </a:lnTo>
                  <a:lnTo>
                    <a:pt x="3557" y="3472"/>
                  </a:lnTo>
                  <a:lnTo>
                    <a:pt x="3555" y="3480"/>
                  </a:lnTo>
                  <a:lnTo>
                    <a:pt x="3559" y="3485"/>
                  </a:lnTo>
                  <a:lnTo>
                    <a:pt x="3565" y="3491"/>
                  </a:lnTo>
                  <a:close/>
                  <a:moveTo>
                    <a:pt x="4288" y="3464"/>
                  </a:moveTo>
                  <a:lnTo>
                    <a:pt x="4300" y="3460"/>
                  </a:lnTo>
                  <a:lnTo>
                    <a:pt x="4315" y="3458"/>
                  </a:lnTo>
                  <a:lnTo>
                    <a:pt x="4327" y="3458"/>
                  </a:lnTo>
                  <a:lnTo>
                    <a:pt x="4343" y="3458"/>
                  </a:lnTo>
                  <a:lnTo>
                    <a:pt x="4354" y="3458"/>
                  </a:lnTo>
                  <a:lnTo>
                    <a:pt x="4368" y="3458"/>
                  </a:lnTo>
                  <a:lnTo>
                    <a:pt x="4381" y="3458"/>
                  </a:lnTo>
                  <a:lnTo>
                    <a:pt x="4395" y="3458"/>
                  </a:lnTo>
                  <a:lnTo>
                    <a:pt x="4407" y="3451"/>
                  </a:lnTo>
                  <a:lnTo>
                    <a:pt x="4420" y="3443"/>
                  </a:lnTo>
                  <a:lnTo>
                    <a:pt x="4434" y="3437"/>
                  </a:lnTo>
                  <a:lnTo>
                    <a:pt x="4447" y="3433"/>
                  </a:lnTo>
                  <a:lnTo>
                    <a:pt x="4455" y="3416"/>
                  </a:lnTo>
                  <a:lnTo>
                    <a:pt x="4463" y="3406"/>
                  </a:lnTo>
                  <a:lnTo>
                    <a:pt x="4463" y="3394"/>
                  </a:lnTo>
                  <a:lnTo>
                    <a:pt x="4465" y="3387"/>
                  </a:lnTo>
                  <a:lnTo>
                    <a:pt x="4465" y="3381"/>
                  </a:lnTo>
                  <a:lnTo>
                    <a:pt x="4467" y="3377"/>
                  </a:lnTo>
                  <a:lnTo>
                    <a:pt x="4465" y="3367"/>
                  </a:lnTo>
                  <a:lnTo>
                    <a:pt x="4463" y="3359"/>
                  </a:lnTo>
                  <a:lnTo>
                    <a:pt x="4447" y="3348"/>
                  </a:lnTo>
                  <a:lnTo>
                    <a:pt x="4436" y="3342"/>
                  </a:lnTo>
                  <a:lnTo>
                    <a:pt x="4428" y="3336"/>
                  </a:lnTo>
                  <a:lnTo>
                    <a:pt x="4422" y="3334"/>
                  </a:lnTo>
                  <a:lnTo>
                    <a:pt x="4412" y="3326"/>
                  </a:lnTo>
                  <a:lnTo>
                    <a:pt x="4405" y="3323"/>
                  </a:lnTo>
                  <a:lnTo>
                    <a:pt x="4387" y="3309"/>
                  </a:lnTo>
                  <a:lnTo>
                    <a:pt x="4376" y="3299"/>
                  </a:lnTo>
                  <a:lnTo>
                    <a:pt x="4364" y="3290"/>
                  </a:lnTo>
                  <a:lnTo>
                    <a:pt x="4356" y="3282"/>
                  </a:lnTo>
                  <a:lnTo>
                    <a:pt x="4346" y="3270"/>
                  </a:lnTo>
                  <a:lnTo>
                    <a:pt x="4337" y="3260"/>
                  </a:lnTo>
                  <a:lnTo>
                    <a:pt x="4323" y="3245"/>
                  </a:lnTo>
                  <a:lnTo>
                    <a:pt x="4310" y="3228"/>
                  </a:lnTo>
                  <a:lnTo>
                    <a:pt x="4314" y="3214"/>
                  </a:lnTo>
                  <a:lnTo>
                    <a:pt x="4315" y="3200"/>
                  </a:lnTo>
                  <a:lnTo>
                    <a:pt x="4323" y="3193"/>
                  </a:lnTo>
                  <a:lnTo>
                    <a:pt x="4333" y="3191"/>
                  </a:lnTo>
                  <a:lnTo>
                    <a:pt x="4337" y="3189"/>
                  </a:lnTo>
                  <a:lnTo>
                    <a:pt x="4343" y="3187"/>
                  </a:lnTo>
                  <a:lnTo>
                    <a:pt x="4350" y="3185"/>
                  </a:lnTo>
                  <a:lnTo>
                    <a:pt x="4362" y="3185"/>
                  </a:lnTo>
                  <a:lnTo>
                    <a:pt x="4362" y="3175"/>
                  </a:lnTo>
                  <a:lnTo>
                    <a:pt x="4362" y="3173"/>
                  </a:lnTo>
                  <a:lnTo>
                    <a:pt x="4356" y="3162"/>
                  </a:lnTo>
                  <a:lnTo>
                    <a:pt x="4354" y="3154"/>
                  </a:lnTo>
                  <a:lnTo>
                    <a:pt x="4352" y="3148"/>
                  </a:lnTo>
                  <a:lnTo>
                    <a:pt x="4350" y="3142"/>
                  </a:lnTo>
                  <a:lnTo>
                    <a:pt x="4345" y="3131"/>
                  </a:lnTo>
                  <a:lnTo>
                    <a:pt x="4337" y="3117"/>
                  </a:lnTo>
                  <a:lnTo>
                    <a:pt x="4323" y="3111"/>
                  </a:lnTo>
                  <a:lnTo>
                    <a:pt x="4314" y="3107"/>
                  </a:lnTo>
                  <a:lnTo>
                    <a:pt x="4304" y="3101"/>
                  </a:lnTo>
                  <a:lnTo>
                    <a:pt x="4294" y="3096"/>
                  </a:lnTo>
                  <a:lnTo>
                    <a:pt x="4277" y="3096"/>
                  </a:lnTo>
                  <a:lnTo>
                    <a:pt x="4261" y="3096"/>
                  </a:lnTo>
                  <a:lnTo>
                    <a:pt x="4246" y="3096"/>
                  </a:lnTo>
                  <a:lnTo>
                    <a:pt x="4230" y="3096"/>
                  </a:lnTo>
                  <a:lnTo>
                    <a:pt x="4217" y="3101"/>
                  </a:lnTo>
                  <a:lnTo>
                    <a:pt x="4205" y="3109"/>
                  </a:lnTo>
                  <a:lnTo>
                    <a:pt x="4193" y="3115"/>
                  </a:lnTo>
                  <a:lnTo>
                    <a:pt x="4182" y="3125"/>
                  </a:lnTo>
                  <a:lnTo>
                    <a:pt x="4162" y="3132"/>
                  </a:lnTo>
                  <a:lnTo>
                    <a:pt x="4139" y="3146"/>
                  </a:lnTo>
                  <a:lnTo>
                    <a:pt x="4108" y="3162"/>
                  </a:lnTo>
                  <a:lnTo>
                    <a:pt x="4067" y="3185"/>
                  </a:lnTo>
                  <a:lnTo>
                    <a:pt x="4048" y="3187"/>
                  </a:lnTo>
                  <a:lnTo>
                    <a:pt x="4030" y="3191"/>
                  </a:lnTo>
                  <a:lnTo>
                    <a:pt x="4013" y="3193"/>
                  </a:lnTo>
                  <a:lnTo>
                    <a:pt x="3997" y="3196"/>
                  </a:lnTo>
                  <a:lnTo>
                    <a:pt x="3980" y="3198"/>
                  </a:lnTo>
                  <a:lnTo>
                    <a:pt x="3962" y="3202"/>
                  </a:lnTo>
                  <a:lnTo>
                    <a:pt x="3945" y="3206"/>
                  </a:lnTo>
                  <a:lnTo>
                    <a:pt x="3930" y="3212"/>
                  </a:lnTo>
                  <a:lnTo>
                    <a:pt x="3931" y="3226"/>
                  </a:lnTo>
                  <a:lnTo>
                    <a:pt x="3933" y="3239"/>
                  </a:lnTo>
                  <a:lnTo>
                    <a:pt x="3933" y="3253"/>
                  </a:lnTo>
                  <a:lnTo>
                    <a:pt x="3935" y="3268"/>
                  </a:lnTo>
                  <a:lnTo>
                    <a:pt x="3945" y="3284"/>
                  </a:lnTo>
                  <a:lnTo>
                    <a:pt x="3957" y="3299"/>
                  </a:lnTo>
                  <a:lnTo>
                    <a:pt x="3966" y="3317"/>
                  </a:lnTo>
                  <a:lnTo>
                    <a:pt x="3978" y="3338"/>
                  </a:lnTo>
                  <a:lnTo>
                    <a:pt x="3990" y="3348"/>
                  </a:lnTo>
                  <a:lnTo>
                    <a:pt x="4003" y="3357"/>
                  </a:lnTo>
                  <a:lnTo>
                    <a:pt x="4017" y="3367"/>
                  </a:lnTo>
                  <a:lnTo>
                    <a:pt x="4030" y="3381"/>
                  </a:lnTo>
                  <a:lnTo>
                    <a:pt x="4063" y="3392"/>
                  </a:lnTo>
                  <a:lnTo>
                    <a:pt x="4092" y="3404"/>
                  </a:lnTo>
                  <a:lnTo>
                    <a:pt x="4116" y="3412"/>
                  </a:lnTo>
                  <a:lnTo>
                    <a:pt x="4141" y="3421"/>
                  </a:lnTo>
                  <a:lnTo>
                    <a:pt x="4166" y="3427"/>
                  </a:lnTo>
                  <a:lnTo>
                    <a:pt x="4197" y="3437"/>
                  </a:lnTo>
                  <a:lnTo>
                    <a:pt x="4236" y="3449"/>
                  </a:lnTo>
                  <a:lnTo>
                    <a:pt x="4288" y="3464"/>
                  </a:lnTo>
                  <a:close/>
                  <a:moveTo>
                    <a:pt x="3439" y="3439"/>
                  </a:moveTo>
                  <a:lnTo>
                    <a:pt x="3450" y="3439"/>
                  </a:lnTo>
                  <a:lnTo>
                    <a:pt x="3464" y="3439"/>
                  </a:lnTo>
                  <a:lnTo>
                    <a:pt x="3458" y="3421"/>
                  </a:lnTo>
                  <a:lnTo>
                    <a:pt x="3452" y="3406"/>
                  </a:lnTo>
                  <a:lnTo>
                    <a:pt x="3447" y="3390"/>
                  </a:lnTo>
                  <a:lnTo>
                    <a:pt x="3443" y="3375"/>
                  </a:lnTo>
                  <a:lnTo>
                    <a:pt x="3437" y="3357"/>
                  </a:lnTo>
                  <a:lnTo>
                    <a:pt x="3435" y="3342"/>
                  </a:lnTo>
                  <a:lnTo>
                    <a:pt x="3429" y="3326"/>
                  </a:lnTo>
                  <a:lnTo>
                    <a:pt x="3427" y="3311"/>
                  </a:lnTo>
                  <a:lnTo>
                    <a:pt x="3419" y="3303"/>
                  </a:lnTo>
                  <a:lnTo>
                    <a:pt x="3412" y="3295"/>
                  </a:lnTo>
                  <a:lnTo>
                    <a:pt x="3400" y="3299"/>
                  </a:lnTo>
                  <a:lnTo>
                    <a:pt x="3390" y="3305"/>
                  </a:lnTo>
                  <a:lnTo>
                    <a:pt x="3383" y="3311"/>
                  </a:lnTo>
                  <a:lnTo>
                    <a:pt x="3375" y="3317"/>
                  </a:lnTo>
                  <a:lnTo>
                    <a:pt x="3367" y="3324"/>
                  </a:lnTo>
                  <a:lnTo>
                    <a:pt x="3365" y="3332"/>
                  </a:lnTo>
                  <a:lnTo>
                    <a:pt x="3365" y="3342"/>
                  </a:lnTo>
                  <a:lnTo>
                    <a:pt x="3365" y="3359"/>
                  </a:lnTo>
                  <a:lnTo>
                    <a:pt x="3383" y="3377"/>
                  </a:lnTo>
                  <a:lnTo>
                    <a:pt x="3400" y="3398"/>
                  </a:lnTo>
                  <a:lnTo>
                    <a:pt x="3418" y="3418"/>
                  </a:lnTo>
                  <a:lnTo>
                    <a:pt x="3439" y="3439"/>
                  </a:lnTo>
                  <a:close/>
                  <a:moveTo>
                    <a:pt x="3507" y="3421"/>
                  </a:moveTo>
                  <a:lnTo>
                    <a:pt x="3514" y="3421"/>
                  </a:lnTo>
                  <a:lnTo>
                    <a:pt x="3518" y="3421"/>
                  </a:lnTo>
                  <a:lnTo>
                    <a:pt x="3528" y="3410"/>
                  </a:lnTo>
                  <a:lnTo>
                    <a:pt x="3538" y="3400"/>
                  </a:lnTo>
                  <a:lnTo>
                    <a:pt x="3546" y="3392"/>
                  </a:lnTo>
                  <a:lnTo>
                    <a:pt x="3555" y="3385"/>
                  </a:lnTo>
                  <a:lnTo>
                    <a:pt x="3544" y="3369"/>
                  </a:lnTo>
                  <a:lnTo>
                    <a:pt x="3534" y="3361"/>
                  </a:lnTo>
                  <a:lnTo>
                    <a:pt x="3526" y="3354"/>
                  </a:lnTo>
                  <a:lnTo>
                    <a:pt x="3516" y="3346"/>
                  </a:lnTo>
                  <a:lnTo>
                    <a:pt x="3503" y="3336"/>
                  </a:lnTo>
                  <a:lnTo>
                    <a:pt x="3485" y="3326"/>
                  </a:lnTo>
                  <a:lnTo>
                    <a:pt x="3482" y="3332"/>
                  </a:lnTo>
                  <a:lnTo>
                    <a:pt x="3483" y="3346"/>
                  </a:lnTo>
                  <a:lnTo>
                    <a:pt x="3485" y="3356"/>
                  </a:lnTo>
                  <a:lnTo>
                    <a:pt x="3491" y="3371"/>
                  </a:lnTo>
                  <a:lnTo>
                    <a:pt x="3497" y="3392"/>
                  </a:lnTo>
                  <a:lnTo>
                    <a:pt x="3507" y="3421"/>
                  </a:lnTo>
                  <a:close/>
                  <a:moveTo>
                    <a:pt x="2357" y="3231"/>
                  </a:moveTo>
                  <a:lnTo>
                    <a:pt x="2374" y="3231"/>
                  </a:lnTo>
                  <a:lnTo>
                    <a:pt x="2394" y="3231"/>
                  </a:lnTo>
                  <a:lnTo>
                    <a:pt x="2413" y="3231"/>
                  </a:lnTo>
                  <a:lnTo>
                    <a:pt x="2432" y="3231"/>
                  </a:lnTo>
                  <a:lnTo>
                    <a:pt x="2450" y="3231"/>
                  </a:lnTo>
                  <a:lnTo>
                    <a:pt x="2469" y="3231"/>
                  </a:lnTo>
                  <a:lnTo>
                    <a:pt x="2489" y="3231"/>
                  </a:lnTo>
                  <a:lnTo>
                    <a:pt x="2510" y="3231"/>
                  </a:lnTo>
                  <a:lnTo>
                    <a:pt x="2531" y="3226"/>
                  </a:lnTo>
                  <a:lnTo>
                    <a:pt x="2551" y="3224"/>
                  </a:lnTo>
                  <a:lnTo>
                    <a:pt x="2564" y="3218"/>
                  </a:lnTo>
                  <a:lnTo>
                    <a:pt x="2578" y="3216"/>
                  </a:lnTo>
                  <a:lnTo>
                    <a:pt x="2587" y="3212"/>
                  </a:lnTo>
                  <a:lnTo>
                    <a:pt x="2595" y="3210"/>
                  </a:lnTo>
                  <a:lnTo>
                    <a:pt x="2601" y="3206"/>
                  </a:lnTo>
                  <a:lnTo>
                    <a:pt x="2609" y="3206"/>
                  </a:lnTo>
                  <a:lnTo>
                    <a:pt x="2603" y="3187"/>
                  </a:lnTo>
                  <a:lnTo>
                    <a:pt x="2599" y="3169"/>
                  </a:lnTo>
                  <a:lnTo>
                    <a:pt x="2593" y="3152"/>
                  </a:lnTo>
                  <a:lnTo>
                    <a:pt x="2589" y="3134"/>
                  </a:lnTo>
                  <a:lnTo>
                    <a:pt x="2584" y="3115"/>
                  </a:lnTo>
                  <a:lnTo>
                    <a:pt x="2580" y="3098"/>
                  </a:lnTo>
                  <a:lnTo>
                    <a:pt x="2576" y="3080"/>
                  </a:lnTo>
                  <a:lnTo>
                    <a:pt x="2572" y="3063"/>
                  </a:lnTo>
                  <a:lnTo>
                    <a:pt x="2562" y="3026"/>
                  </a:lnTo>
                  <a:lnTo>
                    <a:pt x="2558" y="2999"/>
                  </a:lnTo>
                  <a:lnTo>
                    <a:pt x="2553" y="2973"/>
                  </a:lnTo>
                  <a:lnTo>
                    <a:pt x="2551" y="2954"/>
                  </a:lnTo>
                  <a:lnTo>
                    <a:pt x="2547" y="2929"/>
                  </a:lnTo>
                  <a:lnTo>
                    <a:pt x="2545" y="2904"/>
                  </a:lnTo>
                  <a:lnTo>
                    <a:pt x="2543" y="2873"/>
                  </a:lnTo>
                  <a:lnTo>
                    <a:pt x="2541" y="2832"/>
                  </a:lnTo>
                  <a:lnTo>
                    <a:pt x="2541" y="2812"/>
                  </a:lnTo>
                  <a:lnTo>
                    <a:pt x="2543" y="2795"/>
                  </a:lnTo>
                  <a:lnTo>
                    <a:pt x="2545" y="2778"/>
                  </a:lnTo>
                  <a:lnTo>
                    <a:pt x="2549" y="2762"/>
                  </a:lnTo>
                  <a:lnTo>
                    <a:pt x="2549" y="2745"/>
                  </a:lnTo>
                  <a:lnTo>
                    <a:pt x="2551" y="2727"/>
                  </a:lnTo>
                  <a:lnTo>
                    <a:pt x="2553" y="2710"/>
                  </a:lnTo>
                  <a:lnTo>
                    <a:pt x="2556" y="2694"/>
                  </a:lnTo>
                  <a:lnTo>
                    <a:pt x="2558" y="2681"/>
                  </a:lnTo>
                  <a:lnTo>
                    <a:pt x="2564" y="2669"/>
                  </a:lnTo>
                  <a:lnTo>
                    <a:pt x="2566" y="2655"/>
                  </a:lnTo>
                  <a:lnTo>
                    <a:pt x="2572" y="2644"/>
                  </a:lnTo>
                  <a:lnTo>
                    <a:pt x="2574" y="2630"/>
                  </a:lnTo>
                  <a:lnTo>
                    <a:pt x="2580" y="2618"/>
                  </a:lnTo>
                  <a:lnTo>
                    <a:pt x="2582" y="2605"/>
                  </a:lnTo>
                  <a:lnTo>
                    <a:pt x="2587" y="2593"/>
                  </a:lnTo>
                  <a:lnTo>
                    <a:pt x="2593" y="2578"/>
                  </a:lnTo>
                  <a:lnTo>
                    <a:pt x="2601" y="2564"/>
                  </a:lnTo>
                  <a:lnTo>
                    <a:pt x="2609" y="2549"/>
                  </a:lnTo>
                  <a:lnTo>
                    <a:pt x="2617" y="2535"/>
                  </a:lnTo>
                  <a:lnTo>
                    <a:pt x="2622" y="2518"/>
                  </a:lnTo>
                  <a:lnTo>
                    <a:pt x="2630" y="2504"/>
                  </a:lnTo>
                  <a:lnTo>
                    <a:pt x="2638" y="2489"/>
                  </a:lnTo>
                  <a:lnTo>
                    <a:pt x="2646" y="2477"/>
                  </a:lnTo>
                  <a:lnTo>
                    <a:pt x="2663" y="2452"/>
                  </a:lnTo>
                  <a:lnTo>
                    <a:pt x="2682" y="2432"/>
                  </a:lnTo>
                  <a:lnTo>
                    <a:pt x="2700" y="2413"/>
                  </a:lnTo>
                  <a:lnTo>
                    <a:pt x="2715" y="2397"/>
                  </a:lnTo>
                  <a:lnTo>
                    <a:pt x="2727" y="2384"/>
                  </a:lnTo>
                  <a:lnTo>
                    <a:pt x="2739" y="2372"/>
                  </a:lnTo>
                  <a:lnTo>
                    <a:pt x="2746" y="2364"/>
                  </a:lnTo>
                  <a:lnTo>
                    <a:pt x="2752" y="2360"/>
                  </a:lnTo>
                  <a:lnTo>
                    <a:pt x="2783" y="2351"/>
                  </a:lnTo>
                  <a:lnTo>
                    <a:pt x="2810" y="2345"/>
                  </a:lnTo>
                  <a:lnTo>
                    <a:pt x="2830" y="2339"/>
                  </a:lnTo>
                  <a:lnTo>
                    <a:pt x="2847" y="2335"/>
                  </a:lnTo>
                  <a:lnTo>
                    <a:pt x="2861" y="2329"/>
                  </a:lnTo>
                  <a:lnTo>
                    <a:pt x="2876" y="2326"/>
                  </a:lnTo>
                  <a:lnTo>
                    <a:pt x="2894" y="2320"/>
                  </a:lnTo>
                  <a:lnTo>
                    <a:pt x="2915" y="2314"/>
                  </a:lnTo>
                  <a:lnTo>
                    <a:pt x="2925" y="2310"/>
                  </a:lnTo>
                  <a:lnTo>
                    <a:pt x="2937" y="2308"/>
                  </a:lnTo>
                  <a:lnTo>
                    <a:pt x="2948" y="2308"/>
                  </a:lnTo>
                  <a:lnTo>
                    <a:pt x="2962" y="2308"/>
                  </a:lnTo>
                  <a:lnTo>
                    <a:pt x="2979" y="2308"/>
                  </a:lnTo>
                  <a:lnTo>
                    <a:pt x="3004" y="2308"/>
                  </a:lnTo>
                  <a:lnTo>
                    <a:pt x="3035" y="2308"/>
                  </a:lnTo>
                  <a:lnTo>
                    <a:pt x="3080" y="2308"/>
                  </a:lnTo>
                  <a:lnTo>
                    <a:pt x="3092" y="2310"/>
                  </a:lnTo>
                  <a:lnTo>
                    <a:pt x="3107" y="2314"/>
                  </a:lnTo>
                  <a:lnTo>
                    <a:pt x="3119" y="2318"/>
                  </a:lnTo>
                  <a:lnTo>
                    <a:pt x="3134" y="2322"/>
                  </a:lnTo>
                  <a:lnTo>
                    <a:pt x="3148" y="2324"/>
                  </a:lnTo>
                  <a:lnTo>
                    <a:pt x="3162" y="2328"/>
                  </a:lnTo>
                  <a:lnTo>
                    <a:pt x="3175" y="2331"/>
                  </a:lnTo>
                  <a:lnTo>
                    <a:pt x="3191" y="2335"/>
                  </a:lnTo>
                  <a:lnTo>
                    <a:pt x="3193" y="2337"/>
                  </a:lnTo>
                  <a:lnTo>
                    <a:pt x="3196" y="2339"/>
                  </a:lnTo>
                  <a:lnTo>
                    <a:pt x="3200" y="2343"/>
                  </a:lnTo>
                  <a:lnTo>
                    <a:pt x="3212" y="2349"/>
                  </a:lnTo>
                  <a:lnTo>
                    <a:pt x="3226" y="2355"/>
                  </a:lnTo>
                  <a:lnTo>
                    <a:pt x="3245" y="2364"/>
                  </a:lnTo>
                  <a:lnTo>
                    <a:pt x="3272" y="2376"/>
                  </a:lnTo>
                  <a:lnTo>
                    <a:pt x="3311" y="2393"/>
                  </a:lnTo>
                  <a:lnTo>
                    <a:pt x="3326" y="2401"/>
                  </a:lnTo>
                  <a:lnTo>
                    <a:pt x="3342" y="2411"/>
                  </a:lnTo>
                  <a:lnTo>
                    <a:pt x="3357" y="2423"/>
                  </a:lnTo>
                  <a:lnTo>
                    <a:pt x="3375" y="2434"/>
                  </a:lnTo>
                  <a:lnTo>
                    <a:pt x="3390" y="2444"/>
                  </a:lnTo>
                  <a:lnTo>
                    <a:pt x="3406" y="2456"/>
                  </a:lnTo>
                  <a:lnTo>
                    <a:pt x="3421" y="2465"/>
                  </a:lnTo>
                  <a:lnTo>
                    <a:pt x="3439" y="2477"/>
                  </a:lnTo>
                  <a:lnTo>
                    <a:pt x="3456" y="2494"/>
                  </a:lnTo>
                  <a:lnTo>
                    <a:pt x="3474" y="2512"/>
                  </a:lnTo>
                  <a:lnTo>
                    <a:pt x="3491" y="2529"/>
                  </a:lnTo>
                  <a:lnTo>
                    <a:pt x="3509" y="2549"/>
                  </a:lnTo>
                  <a:lnTo>
                    <a:pt x="3526" y="2566"/>
                  </a:lnTo>
                  <a:lnTo>
                    <a:pt x="3544" y="2584"/>
                  </a:lnTo>
                  <a:lnTo>
                    <a:pt x="3561" y="2601"/>
                  </a:lnTo>
                  <a:lnTo>
                    <a:pt x="3580" y="2620"/>
                  </a:lnTo>
                  <a:lnTo>
                    <a:pt x="3600" y="2644"/>
                  </a:lnTo>
                  <a:lnTo>
                    <a:pt x="3621" y="2671"/>
                  </a:lnTo>
                  <a:lnTo>
                    <a:pt x="3642" y="2696"/>
                  </a:lnTo>
                  <a:lnTo>
                    <a:pt x="3664" y="2725"/>
                  </a:lnTo>
                  <a:lnTo>
                    <a:pt x="3683" y="2750"/>
                  </a:lnTo>
                  <a:lnTo>
                    <a:pt x="3705" y="2778"/>
                  </a:lnTo>
                  <a:lnTo>
                    <a:pt x="3724" y="2805"/>
                  </a:lnTo>
                  <a:lnTo>
                    <a:pt x="3745" y="2832"/>
                  </a:lnTo>
                  <a:lnTo>
                    <a:pt x="3753" y="2847"/>
                  </a:lnTo>
                  <a:lnTo>
                    <a:pt x="3767" y="2867"/>
                  </a:lnTo>
                  <a:lnTo>
                    <a:pt x="3772" y="2876"/>
                  </a:lnTo>
                  <a:lnTo>
                    <a:pt x="3780" y="2888"/>
                  </a:lnTo>
                  <a:lnTo>
                    <a:pt x="3788" y="2900"/>
                  </a:lnTo>
                  <a:lnTo>
                    <a:pt x="3798" y="2915"/>
                  </a:lnTo>
                  <a:lnTo>
                    <a:pt x="3800" y="2915"/>
                  </a:lnTo>
                  <a:lnTo>
                    <a:pt x="3803" y="2923"/>
                  </a:lnTo>
                  <a:lnTo>
                    <a:pt x="3807" y="2929"/>
                  </a:lnTo>
                  <a:lnTo>
                    <a:pt x="3815" y="2942"/>
                  </a:lnTo>
                  <a:lnTo>
                    <a:pt x="3821" y="2954"/>
                  </a:lnTo>
                  <a:lnTo>
                    <a:pt x="3833" y="2973"/>
                  </a:lnTo>
                  <a:lnTo>
                    <a:pt x="3846" y="2995"/>
                  </a:lnTo>
                  <a:lnTo>
                    <a:pt x="3866" y="3022"/>
                  </a:lnTo>
                  <a:lnTo>
                    <a:pt x="3875" y="3037"/>
                  </a:lnTo>
                  <a:lnTo>
                    <a:pt x="3883" y="3051"/>
                  </a:lnTo>
                  <a:lnTo>
                    <a:pt x="3889" y="3063"/>
                  </a:lnTo>
                  <a:lnTo>
                    <a:pt x="3897" y="3074"/>
                  </a:lnTo>
                  <a:lnTo>
                    <a:pt x="3900" y="3082"/>
                  </a:lnTo>
                  <a:lnTo>
                    <a:pt x="3904" y="3094"/>
                  </a:lnTo>
                  <a:lnTo>
                    <a:pt x="3910" y="3107"/>
                  </a:lnTo>
                  <a:lnTo>
                    <a:pt x="3920" y="3127"/>
                  </a:lnTo>
                  <a:lnTo>
                    <a:pt x="3926" y="3134"/>
                  </a:lnTo>
                  <a:lnTo>
                    <a:pt x="3935" y="3142"/>
                  </a:lnTo>
                  <a:lnTo>
                    <a:pt x="3947" y="3140"/>
                  </a:lnTo>
                  <a:lnTo>
                    <a:pt x="3959" y="3140"/>
                  </a:lnTo>
                  <a:lnTo>
                    <a:pt x="3970" y="3140"/>
                  </a:lnTo>
                  <a:lnTo>
                    <a:pt x="3982" y="3140"/>
                  </a:lnTo>
                  <a:lnTo>
                    <a:pt x="3994" y="3138"/>
                  </a:lnTo>
                  <a:lnTo>
                    <a:pt x="4005" y="3138"/>
                  </a:lnTo>
                  <a:lnTo>
                    <a:pt x="4017" y="3136"/>
                  </a:lnTo>
                  <a:lnTo>
                    <a:pt x="4030" y="3136"/>
                  </a:lnTo>
                  <a:lnTo>
                    <a:pt x="4040" y="3131"/>
                  </a:lnTo>
                  <a:lnTo>
                    <a:pt x="4052" y="3129"/>
                  </a:lnTo>
                  <a:lnTo>
                    <a:pt x="4063" y="3123"/>
                  </a:lnTo>
                  <a:lnTo>
                    <a:pt x="4075" y="3121"/>
                  </a:lnTo>
                  <a:lnTo>
                    <a:pt x="4085" y="3117"/>
                  </a:lnTo>
                  <a:lnTo>
                    <a:pt x="4096" y="3115"/>
                  </a:lnTo>
                  <a:lnTo>
                    <a:pt x="4108" y="3111"/>
                  </a:lnTo>
                  <a:lnTo>
                    <a:pt x="4120" y="3111"/>
                  </a:lnTo>
                  <a:lnTo>
                    <a:pt x="4127" y="3098"/>
                  </a:lnTo>
                  <a:lnTo>
                    <a:pt x="4141" y="3084"/>
                  </a:lnTo>
                  <a:lnTo>
                    <a:pt x="4141" y="3076"/>
                  </a:lnTo>
                  <a:lnTo>
                    <a:pt x="4141" y="3068"/>
                  </a:lnTo>
                  <a:lnTo>
                    <a:pt x="4135" y="3059"/>
                  </a:lnTo>
                  <a:lnTo>
                    <a:pt x="4131" y="3043"/>
                  </a:lnTo>
                  <a:lnTo>
                    <a:pt x="4123" y="3018"/>
                  </a:lnTo>
                  <a:lnTo>
                    <a:pt x="4116" y="2987"/>
                  </a:lnTo>
                  <a:lnTo>
                    <a:pt x="4104" y="2950"/>
                  </a:lnTo>
                  <a:lnTo>
                    <a:pt x="4092" y="2911"/>
                  </a:lnTo>
                  <a:lnTo>
                    <a:pt x="4079" y="2869"/>
                  </a:lnTo>
                  <a:lnTo>
                    <a:pt x="4067" y="2826"/>
                  </a:lnTo>
                  <a:lnTo>
                    <a:pt x="4050" y="2793"/>
                  </a:lnTo>
                  <a:lnTo>
                    <a:pt x="4036" y="2766"/>
                  </a:lnTo>
                  <a:lnTo>
                    <a:pt x="4025" y="2741"/>
                  </a:lnTo>
                  <a:lnTo>
                    <a:pt x="4013" y="2719"/>
                  </a:lnTo>
                  <a:lnTo>
                    <a:pt x="3999" y="2694"/>
                  </a:lnTo>
                  <a:lnTo>
                    <a:pt x="3988" y="2671"/>
                  </a:lnTo>
                  <a:lnTo>
                    <a:pt x="3974" y="2644"/>
                  </a:lnTo>
                  <a:lnTo>
                    <a:pt x="3961" y="2615"/>
                  </a:lnTo>
                  <a:lnTo>
                    <a:pt x="3951" y="2603"/>
                  </a:lnTo>
                  <a:lnTo>
                    <a:pt x="3943" y="2593"/>
                  </a:lnTo>
                  <a:lnTo>
                    <a:pt x="3931" y="2580"/>
                  </a:lnTo>
                  <a:lnTo>
                    <a:pt x="3920" y="2564"/>
                  </a:lnTo>
                  <a:lnTo>
                    <a:pt x="3904" y="2543"/>
                  </a:lnTo>
                  <a:lnTo>
                    <a:pt x="3885" y="2518"/>
                  </a:lnTo>
                  <a:lnTo>
                    <a:pt x="3862" y="2485"/>
                  </a:lnTo>
                  <a:lnTo>
                    <a:pt x="3834" y="2446"/>
                  </a:lnTo>
                  <a:lnTo>
                    <a:pt x="3815" y="2425"/>
                  </a:lnTo>
                  <a:lnTo>
                    <a:pt x="3798" y="2405"/>
                  </a:lnTo>
                  <a:lnTo>
                    <a:pt x="3780" y="2386"/>
                  </a:lnTo>
                  <a:lnTo>
                    <a:pt x="3763" y="2368"/>
                  </a:lnTo>
                  <a:lnTo>
                    <a:pt x="3743" y="2349"/>
                  </a:lnTo>
                  <a:lnTo>
                    <a:pt x="3726" y="2329"/>
                  </a:lnTo>
                  <a:lnTo>
                    <a:pt x="3708" y="2310"/>
                  </a:lnTo>
                  <a:lnTo>
                    <a:pt x="3691" y="2293"/>
                  </a:lnTo>
                  <a:lnTo>
                    <a:pt x="3677" y="2293"/>
                  </a:lnTo>
                  <a:lnTo>
                    <a:pt x="3666" y="2293"/>
                  </a:lnTo>
                  <a:lnTo>
                    <a:pt x="3662" y="2283"/>
                  </a:lnTo>
                  <a:lnTo>
                    <a:pt x="3660" y="2277"/>
                  </a:lnTo>
                  <a:lnTo>
                    <a:pt x="3642" y="2265"/>
                  </a:lnTo>
                  <a:lnTo>
                    <a:pt x="3627" y="2256"/>
                  </a:lnTo>
                  <a:lnTo>
                    <a:pt x="3611" y="2244"/>
                  </a:lnTo>
                  <a:lnTo>
                    <a:pt x="3596" y="2234"/>
                  </a:lnTo>
                  <a:lnTo>
                    <a:pt x="3578" y="2223"/>
                  </a:lnTo>
                  <a:lnTo>
                    <a:pt x="3565" y="2211"/>
                  </a:lnTo>
                  <a:lnTo>
                    <a:pt x="3547" y="2201"/>
                  </a:lnTo>
                  <a:lnTo>
                    <a:pt x="3534" y="2192"/>
                  </a:lnTo>
                  <a:lnTo>
                    <a:pt x="3513" y="2182"/>
                  </a:lnTo>
                  <a:lnTo>
                    <a:pt x="3493" y="2174"/>
                  </a:lnTo>
                  <a:lnTo>
                    <a:pt x="3472" y="2167"/>
                  </a:lnTo>
                  <a:lnTo>
                    <a:pt x="3452" y="2159"/>
                  </a:lnTo>
                  <a:lnTo>
                    <a:pt x="3431" y="2151"/>
                  </a:lnTo>
                  <a:lnTo>
                    <a:pt x="3410" y="2145"/>
                  </a:lnTo>
                  <a:lnTo>
                    <a:pt x="3388" y="2139"/>
                  </a:lnTo>
                  <a:lnTo>
                    <a:pt x="3369" y="2134"/>
                  </a:lnTo>
                  <a:lnTo>
                    <a:pt x="3348" y="2128"/>
                  </a:lnTo>
                  <a:lnTo>
                    <a:pt x="3326" y="2124"/>
                  </a:lnTo>
                  <a:lnTo>
                    <a:pt x="3305" y="2120"/>
                  </a:lnTo>
                  <a:lnTo>
                    <a:pt x="3286" y="2118"/>
                  </a:lnTo>
                  <a:lnTo>
                    <a:pt x="3264" y="2112"/>
                  </a:lnTo>
                  <a:lnTo>
                    <a:pt x="3243" y="2108"/>
                  </a:lnTo>
                  <a:lnTo>
                    <a:pt x="3222" y="2104"/>
                  </a:lnTo>
                  <a:lnTo>
                    <a:pt x="3200" y="2103"/>
                  </a:lnTo>
                  <a:lnTo>
                    <a:pt x="3179" y="2103"/>
                  </a:lnTo>
                  <a:lnTo>
                    <a:pt x="3160" y="2103"/>
                  </a:lnTo>
                  <a:lnTo>
                    <a:pt x="3140" y="2103"/>
                  </a:lnTo>
                  <a:lnTo>
                    <a:pt x="3121" y="2103"/>
                  </a:lnTo>
                  <a:lnTo>
                    <a:pt x="3099" y="2103"/>
                  </a:lnTo>
                  <a:lnTo>
                    <a:pt x="3082" y="2103"/>
                  </a:lnTo>
                  <a:lnTo>
                    <a:pt x="3061" y="2103"/>
                  </a:lnTo>
                  <a:lnTo>
                    <a:pt x="3043" y="2103"/>
                  </a:lnTo>
                  <a:lnTo>
                    <a:pt x="3020" y="2104"/>
                  </a:lnTo>
                  <a:lnTo>
                    <a:pt x="2999" y="2108"/>
                  </a:lnTo>
                  <a:lnTo>
                    <a:pt x="2977" y="2110"/>
                  </a:lnTo>
                  <a:lnTo>
                    <a:pt x="2956" y="2114"/>
                  </a:lnTo>
                  <a:lnTo>
                    <a:pt x="2933" y="2116"/>
                  </a:lnTo>
                  <a:lnTo>
                    <a:pt x="2911" y="2118"/>
                  </a:lnTo>
                  <a:lnTo>
                    <a:pt x="2890" y="2120"/>
                  </a:lnTo>
                  <a:lnTo>
                    <a:pt x="2869" y="2124"/>
                  </a:lnTo>
                  <a:lnTo>
                    <a:pt x="2869" y="2114"/>
                  </a:lnTo>
                  <a:lnTo>
                    <a:pt x="2869" y="2112"/>
                  </a:lnTo>
                  <a:lnTo>
                    <a:pt x="2859" y="2112"/>
                  </a:lnTo>
                  <a:lnTo>
                    <a:pt x="2853" y="2112"/>
                  </a:lnTo>
                  <a:lnTo>
                    <a:pt x="2857" y="2097"/>
                  </a:lnTo>
                  <a:lnTo>
                    <a:pt x="2863" y="2081"/>
                  </a:lnTo>
                  <a:lnTo>
                    <a:pt x="2874" y="2075"/>
                  </a:lnTo>
                  <a:lnTo>
                    <a:pt x="2886" y="2073"/>
                  </a:lnTo>
                  <a:lnTo>
                    <a:pt x="2898" y="2070"/>
                  </a:lnTo>
                  <a:lnTo>
                    <a:pt x="2917" y="2068"/>
                  </a:lnTo>
                  <a:lnTo>
                    <a:pt x="2940" y="2064"/>
                  </a:lnTo>
                  <a:lnTo>
                    <a:pt x="2977" y="2062"/>
                  </a:lnTo>
                  <a:lnTo>
                    <a:pt x="3026" y="2058"/>
                  </a:lnTo>
                  <a:lnTo>
                    <a:pt x="3090" y="2054"/>
                  </a:lnTo>
                  <a:lnTo>
                    <a:pt x="3090" y="2046"/>
                  </a:lnTo>
                  <a:lnTo>
                    <a:pt x="3090" y="2039"/>
                  </a:lnTo>
                  <a:lnTo>
                    <a:pt x="3061" y="2033"/>
                  </a:lnTo>
                  <a:lnTo>
                    <a:pt x="3037" y="2029"/>
                  </a:lnTo>
                  <a:lnTo>
                    <a:pt x="3016" y="2023"/>
                  </a:lnTo>
                  <a:lnTo>
                    <a:pt x="2995" y="2019"/>
                  </a:lnTo>
                  <a:lnTo>
                    <a:pt x="2968" y="2011"/>
                  </a:lnTo>
                  <a:lnTo>
                    <a:pt x="2937" y="2006"/>
                  </a:lnTo>
                  <a:lnTo>
                    <a:pt x="2894" y="1996"/>
                  </a:lnTo>
                  <a:lnTo>
                    <a:pt x="2842" y="1986"/>
                  </a:lnTo>
                  <a:lnTo>
                    <a:pt x="2820" y="1982"/>
                  </a:lnTo>
                  <a:lnTo>
                    <a:pt x="2801" y="1980"/>
                  </a:lnTo>
                  <a:lnTo>
                    <a:pt x="2781" y="1978"/>
                  </a:lnTo>
                  <a:lnTo>
                    <a:pt x="2762" y="1976"/>
                  </a:lnTo>
                  <a:lnTo>
                    <a:pt x="2741" y="1975"/>
                  </a:lnTo>
                  <a:lnTo>
                    <a:pt x="2721" y="1973"/>
                  </a:lnTo>
                  <a:lnTo>
                    <a:pt x="2702" y="1971"/>
                  </a:lnTo>
                  <a:lnTo>
                    <a:pt x="2682" y="1971"/>
                  </a:lnTo>
                  <a:lnTo>
                    <a:pt x="2675" y="1963"/>
                  </a:lnTo>
                  <a:lnTo>
                    <a:pt x="2673" y="1955"/>
                  </a:lnTo>
                  <a:lnTo>
                    <a:pt x="2669" y="1949"/>
                  </a:lnTo>
                  <a:lnTo>
                    <a:pt x="2667" y="1945"/>
                  </a:lnTo>
                  <a:lnTo>
                    <a:pt x="2665" y="1938"/>
                  </a:lnTo>
                  <a:lnTo>
                    <a:pt x="2663" y="1928"/>
                  </a:lnTo>
                  <a:lnTo>
                    <a:pt x="2663" y="1899"/>
                  </a:lnTo>
                  <a:lnTo>
                    <a:pt x="2663" y="1872"/>
                  </a:lnTo>
                  <a:lnTo>
                    <a:pt x="2663" y="1845"/>
                  </a:lnTo>
                  <a:lnTo>
                    <a:pt x="2665" y="1817"/>
                  </a:lnTo>
                  <a:lnTo>
                    <a:pt x="2665" y="1788"/>
                  </a:lnTo>
                  <a:lnTo>
                    <a:pt x="2665" y="1763"/>
                  </a:lnTo>
                  <a:lnTo>
                    <a:pt x="2665" y="1736"/>
                  </a:lnTo>
                  <a:lnTo>
                    <a:pt x="2667" y="1711"/>
                  </a:lnTo>
                  <a:lnTo>
                    <a:pt x="2669" y="1691"/>
                  </a:lnTo>
                  <a:lnTo>
                    <a:pt x="2673" y="1674"/>
                  </a:lnTo>
                  <a:lnTo>
                    <a:pt x="2675" y="1656"/>
                  </a:lnTo>
                  <a:lnTo>
                    <a:pt x="2679" y="1639"/>
                  </a:lnTo>
                  <a:lnTo>
                    <a:pt x="2681" y="1622"/>
                  </a:lnTo>
                  <a:lnTo>
                    <a:pt x="2682" y="1606"/>
                  </a:lnTo>
                  <a:lnTo>
                    <a:pt x="2684" y="1589"/>
                  </a:lnTo>
                  <a:lnTo>
                    <a:pt x="2688" y="1575"/>
                  </a:lnTo>
                  <a:lnTo>
                    <a:pt x="2700" y="1519"/>
                  </a:lnTo>
                  <a:lnTo>
                    <a:pt x="2712" y="1476"/>
                  </a:lnTo>
                  <a:lnTo>
                    <a:pt x="2719" y="1443"/>
                  </a:lnTo>
                  <a:lnTo>
                    <a:pt x="2727" y="1418"/>
                  </a:lnTo>
                  <a:lnTo>
                    <a:pt x="2731" y="1393"/>
                  </a:lnTo>
                  <a:lnTo>
                    <a:pt x="2737" y="1369"/>
                  </a:lnTo>
                  <a:lnTo>
                    <a:pt x="2741" y="1342"/>
                  </a:lnTo>
                  <a:lnTo>
                    <a:pt x="2746" y="1309"/>
                  </a:lnTo>
                  <a:lnTo>
                    <a:pt x="2758" y="1307"/>
                  </a:lnTo>
                  <a:lnTo>
                    <a:pt x="2770" y="1307"/>
                  </a:lnTo>
                  <a:lnTo>
                    <a:pt x="2781" y="1305"/>
                  </a:lnTo>
                  <a:lnTo>
                    <a:pt x="2795" y="1305"/>
                  </a:lnTo>
                  <a:lnTo>
                    <a:pt x="2807" y="1307"/>
                  </a:lnTo>
                  <a:lnTo>
                    <a:pt x="2822" y="1311"/>
                  </a:lnTo>
                  <a:lnTo>
                    <a:pt x="2840" y="1317"/>
                  </a:lnTo>
                  <a:lnTo>
                    <a:pt x="2865" y="1323"/>
                  </a:lnTo>
                  <a:lnTo>
                    <a:pt x="2888" y="1327"/>
                  </a:lnTo>
                  <a:lnTo>
                    <a:pt x="2919" y="1334"/>
                  </a:lnTo>
                  <a:lnTo>
                    <a:pt x="2954" y="1340"/>
                  </a:lnTo>
                  <a:lnTo>
                    <a:pt x="2995" y="1352"/>
                  </a:lnTo>
                  <a:lnTo>
                    <a:pt x="3034" y="1364"/>
                  </a:lnTo>
                  <a:lnTo>
                    <a:pt x="3065" y="1375"/>
                  </a:lnTo>
                  <a:lnTo>
                    <a:pt x="3086" y="1381"/>
                  </a:lnTo>
                  <a:lnTo>
                    <a:pt x="3101" y="1389"/>
                  </a:lnTo>
                  <a:lnTo>
                    <a:pt x="3111" y="1391"/>
                  </a:lnTo>
                  <a:lnTo>
                    <a:pt x="3117" y="1395"/>
                  </a:lnTo>
                  <a:lnTo>
                    <a:pt x="3121" y="1397"/>
                  </a:lnTo>
                  <a:lnTo>
                    <a:pt x="3127" y="1400"/>
                  </a:lnTo>
                  <a:lnTo>
                    <a:pt x="3140" y="1449"/>
                  </a:lnTo>
                  <a:lnTo>
                    <a:pt x="3154" y="1490"/>
                  </a:lnTo>
                  <a:lnTo>
                    <a:pt x="3163" y="1521"/>
                  </a:lnTo>
                  <a:lnTo>
                    <a:pt x="3175" y="1546"/>
                  </a:lnTo>
                  <a:lnTo>
                    <a:pt x="3181" y="1565"/>
                  </a:lnTo>
                  <a:lnTo>
                    <a:pt x="3191" y="1587"/>
                  </a:lnTo>
                  <a:lnTo>
                    <a:pt x="3198" y="1608"/>
                  </a:lnTo>
                  <a:lnTo>
                    <a:pt x="3212" y="1637"/>
                  </a:lnTo>
                  <a:lnTo>
                    <a:pt x="3231" y="1709"/>
                  </a:lnTo>
                  <a:lnTo>
                    <a:pt x="3247" y="1765"/>
                  </a:lnTo>
                  <a:lnTo>
                    <a:pt x="3258" y="1808"/>
                  </a:lnTo>
                  <a:lnTo>
                    <a:pt x="3270" y="1846"/>
                  </a:lnTo>
                  <a:lnTo>
                    <a:pt x="3278" y="1881"/>
                  </a:lnTo>
                  <a:lnTo>
                    <a:pt x="3288" y="1920"/>
                  </a:lnTo>
                  <a:lnTo>
                    <a:pt x="3297" y="1965"/>
                  </a:lnTo>
                  <a:lnTo>
                    <a:pt x="3311" y="2023"/>
                  </a:lnTo>
                  <a:lnTo>
                    <a:pt x="3313" y="2027"/>
                  </a:lnTo>
                  <a:lnTo>
                    <a:pt x="3319" y="2037"/>
                  </a:lnTo>
                  <a:lnTo>
                    <a:pt x="3319" y="2042"/>
                  </a:lnTo>
                  <a:lnTo>
                    <a:pt x="3324" y="2050"/>
                  </a:lnTo>
                  <a:lnTo>
                    <a:pt x="3328" y="2062"/>
                  </a:lnTo>
                  <a:lnTo>
                    <a:pt x="3338" y="2075"/>
                  </a:lnTo>
                  <a:lnTo>
                    <a:pt x="3357" y="2079"/>
                  </a:lnTo>
                  <a:lnTo>
                    <a:pt x="3377" y="2085"/>
                  </a:lnTo>
                  <a:lnTo>
                    <a:pt x="3396" y="2091"/>
                  </a:lnTo>
                  <a:lnTo>
                    <a:pt x="3418" y="2097"/>
                  </a:lnTo>
                  <a:lnTo>
                    <a:pt x="3414" y="2081"/>
                  </a:lnTo>
                  <a:lnTo>
                    <a:pt x="3412" y="2068"/>
                  </a:lnTo>
                  <a:lnTo>
                    <a:pt x="3410" y="2056"/>
                  </a:lnTo>
                  <a:lnTo>
                    <a:pt x="3408" y="2044"/>
                  </a:lnTo>
                  <a:lnTo>
                    <a:pt x="3406" y="2031"/>
                  </a:lnTo>
                  <a:lnTo>
                    <a:pt x="3406" y="2017"/>
                  </a:lnTo>
                  <a:lnTo>
                    <a:pt x="3406" y="2004"/>
                  </a:lnTo>
                  <a:lnTo>
                    <a:pt x="3406" y="1992"/>
                  </a:lnTo>
                  <a:lnTo>
                    <a:pt x="3390" y="1943"/>
                  </a:lnTo>
                  <a:lnTo>
                    <a:pt x="3377" y="1895"/>
                  </a:lnTo>
                  <a:lnTo>
                    <a:pt x="3365" y="1846"/>
                  </a:lnTo>
                  <a:lnTo>
                    <a:pt x="3354" y="1800"/>
                  </a:lnTo>
                  <a:lnTo>
                    <a:pt x="3342" y="1751"/>
                  </a:lnTo>
                  <a:lnTo>
                    <a:pt x="3330" y="1705"/>
                  </a:lnTo>
                  <a:lnTo>
                    <a:pt x="3319" y="1658"/>
                  </a:lnTo>
                  <a:lnTo>
                    <a:pt x="3307" y="1612"/>
                  </a:lnTo>
                  <a:lnTo>
                    <a:pt x="3295" y="1589"/>
                  </a:lnTo>
                  <a:lnTo>
                    <a:pt x="3288" y="1567"/>
                  </a:lnTo>
                  <a:lnTo>
                    <a:pt x="3278" y="1546"/>
                  </a:lnTo>
                  <a:lnTo>
                    <a:pt x="3272" y="1525"/>
                  </a:lnTo>
                  <a:lnTo>
                    <a:pt x="3264" y="1501"/>
                  </a:lnTo>
                  <a:lnTo>
                    <a:pt x="3257" y="1480"/>
                  </a:lnTo>
                  <a:lnTo>
                    <a:pt x="3249" y="1459"/>
                  </a:lnTo>
                  <a:lnTo>
                    <a:pt x="3243" y="1437"/>
                  </a:lnTo>
                  <a:lnTo>
                    <a:pt x="3226" y="1408"/>
                  </a:lnTo>
                  <a:lnTo>
                    <a:pt x="3214" y="1385"/>
                  </a:lnTo>
                  <a:lnTo>
                    <a:pt x="3202" y="1365"/>
                  </a:lnTo>
                  <a:lnTo>
                    <a:pt x="3196" y="1354"/>
                  </a:lnTo>
                  <a:lnTo>
                    <a:pt x="3187" y="1342"/>
                  </a:lnTo>
                  <a:lnTo>
                    <a:pt x="3183" y="1334"/>
                  </a:lnTo>
                  <a:lnTo>
                    <a:pt x="3177" y="1327"/>
                  </a:lnTo>
                  <a:lnTo>
                    <a:pt x="3175" y="1321"/>
                  </a:lnTo>
                  <a:lnTo>
                    <a:pt x="3163" y="1311"/>
                  </a:lnTo>
                  <a:lnTo>
                    <a:pt x="3150" y="1301"/>
                  </a:lnTo>
                  <a:lnTo>
                    <a:pt x="3138" y="1294"/>
                  </a:lnTo>
                  <a:lnTo>
                    <a:pt x="3123" y="1286"/>
                  </a:lnTo>
                  <a:lnTo>
                    <a:pt x="3101" y="1274"/>
                  </a:lnTo>
                  <a:lnTo>
                    <a:pt x="3074" y="1263"/>
                  </a:lnTo>
                  <a:lnTo>
                    <a:pt x="3057" y="1257"/>
                  </a:lnTo>
                  <a:lnTo>
                    <a:pt x="3041" y="1253"/>
                  </a:lnTo>
                  <a:lnTo>
                    <a:pt x="3026" y="1249"/>
                  </a:lnTo>
                  <a:lnTo>
                    <a:pt x="3012" y="1245"/>
                  </a:lnTo>
                  <a:lnTo>
                    <a:pt x="2997" y="1241"/>
                  </a:lnTo>
                  <a:lnTo>
                    <a:pt x="2985" y="1239"/>
                  </a:lnTo>
                  <a:lnTo>
                    <a:pt x="2970" y="1236"/>
                  </a:lnTo>
                  <a:lnTo>
                    <a:pt x="2958" y="1236"/>
                  </a:lnTo>
                  <a:lnTo>
                    <a:pt x="2933" y="1230"/>
                  </a:lnTo>
                  <a:lnTo>
                    <a:pt x="2911" y="1226"/>
                  </a:lnTo>
                  <a:lnTo>
                    <a:pt x="2886" y="1220"/>
                  </a:lnTo>
                  <a:lnTo>
                    <a:pt x="2855" y="1216"/>
                  </a:lnTo>
                  <a:lnTo>
                    <a:pt x="2810" y="1208"/>
                  </a:lnTo>
                  <a:lnTo>
                    <a:pt x="2752" y="1197"/>
                  </a:lnTo>
                  <a:lnTo>
                    <a:pt x="2671" y="1183"/>
                  </a:lnTo>
                  <a:lnTo>
                    <a:pt x="2568" y="1168"/>
                  </a:lnTo>
                  <a:lnTo>
                    <a:pt x="2535" y="1164"/>
                  </a:lnTo>
                  <a:lnTo>
                    <a:pt x="2504" y="1162"/>
                  </a:lnTo>
                  <a:lnTo>
                    <a:pt x="2471" y="1160"/>
                  </a:lnTo>
                  <a:lnTo>
                    <a:pt x="2440" y="1158"/>
                  </a:lnTo>
                  <a:lnTo>
                    <a:pt x="2407" y="1156"/>
                  </a:lnTo>
                  <a:lnTo>
                    <a:pt x="2376" y="1154"/>
                  </a:lnTo>
                  <a:lnTo>
                    <a:pt x="2343" y="1152"/>
                  </a:lnTo>
                  <a:lnTo>
                    <a:pt x="2314" y="1152"/>
                  </a:lnTo>
                  <a:lnTo>
                    <a:pt x="2285" y="1152"/>
                  </a:lnTo>
                  <a:lnTo>
                    <a:pt x="2258" y="1152"/>
                  </a:lnTo>
                  <a:lnTo>
                    <a:pt x="2229" y="1152"/>
                  </a:lnTo>
                  <a:lnTo>
                    <a:pt x="2202" y="1152"/>
                  </a:lnTo>
                  <a:lnTo>
                    <a:pt x="2172" y="1152"/>
                  </a:lnTo>
                  <a:lnTo>
                    <a:pt x="2143" y="1152"/>
                  </a:lnTo>
                  <a:lnTo>
                    <a:pt x="2114" y="1152"/>
                  </a:lnTo>
                  <a:lnTo>
                    <a:pt x="2087" y="1152"/>
                  </a:lnTo>
                  <a:lnTo>
                    <a:pt x="2074" y="1154"/>
                  </a:lnTo>
                  <a:lnTo>
                    <a:pt x="2060" y="1158"/>
                  </a:lnTo>
                  <a:lnTo>
                    <a:pt x="2046" y="1160"/>
                  </a:lnTo>
                  <a:lnTo>
                    <a:pt x="2035" y="1162"/>
                  </a:lnTo>
                  <a:lnTo>
                    <a:pt x="2019" y="1166"/>
                  </a:lnTo>
                  <a:lnTo>
                    <a:pt x="2006" y="1172"/>
                  </a:lnTo>
                  <a:lnTo>
                    <a:pt x="1992" y="1177"/>
                  </a:lnTo>
                  <a:lnTo>
                    <a:pt x="1980" y="1183"/>
                  </a:lnTo>
                  <a:lnTo>
                    <a:pt x="1967" y="1187"/>
                  </a:lnTo>
                  <a:lnTo>
                    <a:pt x="1953" y="1193"/>
                  </a:lnTo>
                  <a:lnTo>
                    <a:pt x="1940" y="1199"/>
                  </a:lnTo>
                  <a:lnTo>
                    <a:pt x="1928" y="1204"/>
                  </a:lnTo>
                  <a:lnTo>
                    <a:pt x="1909" y="1212"/>
                  </a:lnTo>
                  <a:lnTo>
                    <a:pt x="1891" y="1224"/>
                  </a:lnTo>
                  <a:lnTo>
                    <a:pt x="1874" y="1232"/>
                  </a:lnTo>
                  <a:lnTo>
                    <a:pt x="1856" y="1243"/>
                  </a:lnTo>
                  <a:lnTo>
                    <a:pt x="1839" y="1253"/>
                  </a:lnTo>
                  <a:lnTo>
                    <a:pt x="1821" y="1263"/>
                  </a:lnTo>
                  <a:lnTo>
                    <a:pt x="1804" y="1272"/>
                  </a:lnTo>
                  <a:lnTo>
                    <a:pt x="1786" y="1284"/>
                  </a:lnTo>
                  <a:lnTo>
                    <a:pt x="1757" y="1303"/>
                  </a:lnTo>
                  <a:lnTo>
                    <a:pt x="1730" y="1325"/>
                  </a:lnTo>
                  <a:lnTo>
                    <a:pt x="1703" y="1346"/>
                  </a:lnTo>
                  <a:lnTo>
                    <a:pt x="1678" y="1367"/>
                  </a:lnTo>
                  <a:lnTo>
                    <a:pt x="1651" y="1387"/>
                  </a:lnTo>
                  <a:lnTo>
                    <a:pt x="1626" y="1408"/>
                  </a:lnTo>
                  <a:lnTo>
                    <a:pt x="1598" y="1429"/>
                  </a:lnTo>
                  <a:lnTo>
                    <a:pt x="1575" y="1453"/>
                  </a:lnTo>
                  <a:lnTo>
                    <a:pt x="1560" y="1462"/>
                  </a:lnTo>
                  <a:lnTo>
                    <a:pt x="1546" y="1472"/>
                  </a:lnTo>
                  <a:lnTo>
                    <a:pt x="1532" y="1484"/>
                  </a:lnTo>
                  <a:lnTo>
                    <a:pt x="1521" y="1495"/>
                  </a:lnTo>
                  <a:lnTo>
                    <a:pt x="1509" y="1507"/>
                  </a:lnTo>
                  <a:lnTo>
                    <a:pt x="1498" y="1519"/>
                  </a:lnTo>
                  <a:lnTo>
                    <a:pt x="1486" y="1530"/>
                  </a:lnTo>
                  <a:lnTo>
                    <a:pt x="1474" y="1542"/>
                  </a:lnTo>
                  <a:lnTo>
                    <a:pt x="1441" y="1573"/>
                  </a:lnTo>
                  <a:lnTo>
                    <a:pt x="1416" y="1600"/>
                  </a:lnTo>
                  <a:lnTo>
                    <a:pt x="1397" y="1622"/>
                  </a:lnTo>
                  <a:lnTo>
                    <a:pt x="1379" y="1643"/>
                  </a:lnTo>
                  <a:lnTo>
                    <a:pt x="1360" y="1662"/>
                  </a:lnTo>
                  <a:lnTo>
                    <a:pt x="1342" y="1686"/>
                  </a:lnTo>
                  <a:lnTo>
                    <a:pt x="1319" y="1715"/>
                  </a:lnTo>
                  <a:lnTo>
                    <a:pt x="1290" y="1753"/>
                  </a:lnTo>
                  <a:lnTo>
                    <a:pt x="1286" y="1765"/>
                  </a:lnTo>
                  <a:lnTo>
                    <a:pt x="1284" y="1775"/>
                  </a:lnTo>
                  <a:lnTo>
                    <a:pt x="1275" y="1784"/>
                  </a:lnTo>
                  <a:lnTo>
                    <a:pt x="1265" y="1796"/>
                  </a:lnTo>
                  <a:lnTo>
                    <a:pt x="1257" y="1802"/>
                  </a:lnTo>
                  <a:lnTo>
                    <a:pt x="1251" y="1815"/>
                  </a:lnTo>
                  <a:lnTo>
                    <a:pt x="1242" y="1831"/>
                  </a:lnTo>
                  <a:lnTo>
                    <a:pt x="1232" y="1854"/>
                  </a:lnTo>
                  <a:lnTo>
                    <a:pt x="1234" y="1860"/>
                  </a:lnTo>
                  <a:lnTo>
                    <a:pt x="1236" y="1864"/>
                  </a:lnTo>
                  <a:lnTo>
                    <a:pt x="1243" y="1864"/>
                  </a:lnTo>
                  <a:lnTo>
                    <a:pt x="1255" y="1864"/>
                  </a:lnTo>
                  <a:lnTo>
                    <a:pt x="1267" y="1864"/>
                  </a:lnTo>
                  <a:lnTo>
                    <a:pt x="1278" y="1864"/>
                  </a:lnTo>
                  <a:lnTo>
                    <a:pt x="1288" y="1848"/>
                  </a:lnTo>
                  <a:lnTo>
                    <a:pt x="1298" y="1835"/>
                  </a:lnTo>
                  <a:lnTo>
                    <a:pt x="1309" y="1821"/>
                  </a:lnTo>
                  <a:lnTo>
                    <a:pt x="1321" y="1808"/>
                  </a:lnTo>
                  <a:lnTo>
                    <a:pt x="1331" y="1792"/>
                  </a:lnTo>
                  <a:lnTo>
                    <a:pt x="1342" y="1777"/>
                  </a:lnTo>
                  <a:lnTo>
                    <a:pt x="1352" y="1761"/>
                  </a:lnTo>
                  <a:lnTo>
                    <a:pt x="1364" y="1748"/>
                  </a:lnTo>
                  <a:lnTo>
                    <a:pt x="1381" y="1728"/>
                  </a:lnTo>
                  <a:lnTo>
                    <a:pt x="1401" y="1711"/>
                  </a:lnTo>
                  <a:lnTo>
                    <a:pt x="1420" y="1693"/>
                  </a:lnTo>
                  <a:lnTo>
                    <a:pt x="1439" y="1676"/>
                  </a:lnTo>
                  <a:lnTo>
                    <a:pt x="1457" y="1658"/>
                  </a:lnTo>
                  <a:lnTo>
                    <a:pt x="1476" y="1641"/>
                  </a:lnTo>
                  <a:lnTo>
                    <a:pt x="1496" y="1623"/>
                  </a:lnTo>
                  <a:lnTo>
                    <a:pt x="1517" y="1606"/>
                  </a:lnTo>
                  <a:lnTo>
                    <a:pt x="1523" y="1592"/>
                  </a:lnTo>
                  <a:lnTo>
                    <a:pt x="1534" y="1579"/>
                  </a:lnTo>
                  <a:lnTo>
                    <a:pt x="1544" y="1565"/>
                  </a:lnTo>
                  <a:lnTo>
                    <a:pt x="1554" y="1554"/>
                  </a:lnTo>
                  <a:lnTo>
                    <a:pt x="1567" y="1544"/>
                  </a:lnTo>
                  <a:lnTo>
                    <a:pt x="1581" y="1534"/>
                  </a:lnTo>
                  <a:lnTo>
                    <a:pt x="1593" y="1523"/>
                  </a:lnTo>
                  <a:lnTo>
                    <a:pt x="1606" y="1517"/>
                  </a:lnTo>
                  <a:lnTo>
                    <a:pt x="1616" y="1501"/>
                  </a:lnTo>
                  <a:lnTo>
                    <a:pt x="1641" y="1480"/>
                  </a:lnTo>
                  <a:lnTo>
                    <a:pt x="1674" y="1447"/>
                  </a:lnTo>
                  <a:lnTo>
                    <a:pt x="1719" y="1412"/>
                  </a:lnTo>
                  <a:lnTo>
                    <a:pt x="1765" y="1371"/>
                  </a:lnTo>
                  <a:lnTo>
                    <a:pt x="1818" y="1331"/>
                  </a:lnTo>
                  <a:lnTo>
                    <a:pt x="1868" y="1292"/>
                  </a:lnTo>
                  <a:lnTo>
                    <a:pt x="1918" y="1257"/>
                  </a:lnTo>
                  <a:lnTo>
                    <a:pt x="1936" y="1245"/>
                  </a:lnTo>
                  <a:lnTo>
                    <a:pt x="1957" y="1236"/>
                  </a:lnTo>
                  <a:lnTo>
                    <a:pt x="1977" y="1224"/>
                  </a:lnTo>
                  <a:lnTo>
                    <a:pt x="1998" y="1214"/>
                  </a:lnTo>
                  <a:lnTo>
                    <a:pt x="2011" y="1212"/>
                  </a:lnTo>
                  <a:lnTo>
                    <a:pt x="2027" y="1210"/>
                  </a:lnTo>
                  <a:lnTo>
                    <a:pt x="2042" y="1208"/>
                  </a:lnTo>
                  <a:lnTo>
                    <a:pt x="2060" y="1208"/>
                  </a:lnTo>
                  <a:lnTo>
                    <a:pt x="2075" y="1206"/>
                  </a:lnTo>
                  <a:lnTo>
                    <a:pt x="2091" y="1206"/>
                  </a:lnTo>
                  <a:lnTo>
                    <a:pt x="2106" y="1204"/>
                  </a:lnTo>
                  <a:lnTo>
                    <a:pt x="2124" y="1204"/>
                  </a:lnTo>
                  <a:lnTo>
                    <a:pt x="2151" y="1204"/>
                  </a:lnTo>
                  <a:lnTo>
                    <a:pt x="2178" y="1206"/>
                  </a:lnTo>
                  <a:lnTo>
                    <a:pt x="2205" y="1208"/>
                  </a:lnTo>
                  <a:lnTo>
                    <a:pt x="2233" y="1212"/>
                  </a:lnTo>
                  <a:lnTo>
                    <a:pt x="2258" y="1212"/>
                  </a:lnTo>
                  <a:lnTo>
                    <a:pt x="2285" y="1214"/>
                  </a:lnTo>
                  <a:lnTo>
                    <a:pt x="2312" y="1216"/>
                  </a:lnTo>
                  <a:lnTo>
                    <a:pt x="2339" y="1220"/>
                  </a:lnTo>
                  <a:lnTo>
                    <a:pt x="2361" y="1222"/>
                  </a:lnTo>
                  <a:lnTo>
                    <a:pt x="2382" y="1228"/>
                  </a:lnTo>
                  <a:lnTo>
                    <a:pt x="2405" y="1230"/>
                  </a:lnTo>
                  <a:lnTo>
                    <a:pt x="2428" y="1236"/>
                  </a:lnTo>
                  <a:lnTo>
                    <a:pt x="2450" y="1237"/>
                  </a:lnTo>
                  <a:lnTo>
                    <a:pt x="2473" y="1243"/>
                  </a:lnTo>
                  <a:lnTo>
                    <a:pt x="2496" y="1245"/>
                  </a:lnTo>
                  <a:lnTo>
                    <a:pt x="2520" y="1251"/>
                  </a:lnTo>
                  <a:lnTo>
                    <a:pt x="2547" y="1257"/>
                  </a:lnTo>
                  <a:lnTo>
                    <a:pt x="2568" y="1263"/>
                  </a:lnTo>
                  <a:lnTo>
                    <a:pt x="2586" y="1267"/>
                  </a:lnTo>
                  <a:lnTo>
                    <a:pt x="2599" y="1270"/>
                  </a:lnTo>
                  <a:lnTo>
                    <a:pt x="2609" y="1272"/>
                  </a:lnTo>
                  <a:lnTo>
                    <a:pt x="2618" y="1278"/>
                  </a:lnTo>
                  <a:lnTo>
                    <a:pt x="2630" y="1282"/>
                  </a:lnTo>
                  <a:lnTo>
                    <a:pt x="2646" y="1288"/>
                  </a:lnTo>
                  <a:lnTo>
                    <a:pt x="2648" y="1301"/>
                  </a:lnTo>
                  <a:lnTo>
                    <a:pt x="2651" y="1309"/>
                  </a:lnTo>
                  <a:lnTo>
                    <a:pt x="2648" y="1346"/>
                  </a:lnTo>
                  <a:lnTo>
                    <a:pt x="2644" y="1383"/>
                  </a:lnTo>
                  <a:lnTo>
                    <a:pt x="2640" y="1416"/>
                  </a:lnTo>
                  <a:lnTo>
                    <a:pt x="2636" y="1449"/>
                  </a:lnTo>
                  <a:lnTo>
                    <a:pt x="2630" y="1476"/>
                  </a:lnTo>
                  <a:lnTo>
                    <a:pt x="2628" y="1501"/>
                  </a:lnTo>
                  <a:lnTo>
                    <a:pt x="2626" y="1523"/>
                  </a:lnTo>
                  <a:lnTo>
                    <a:pt x="2626" y="1542"/>
                  </a:lnTo>
                  <a:lnTo>
                    <a:pt x="2620" y="1567"/>
                  </a:lnTo>
                  <a:lnTo>
                    <a:pt x="2617" y="1592"/>
                  </a:lnTo>
                  <a:lnTo>
                    <a:pt x="2611" y="1618"/>
                  </a:lnTo>
                  <a:lnTo>
                    <a:pt x="2607" y="1645"/>
                  </a:lnTo>
                  <a:lnTo>
                    <a:pt x="2601" y="1670"/>
                  </a:lnTo>
                  <a:lnTo>
                    <a:pt x="2595" y="1695"/>
                  </a:lnTo>
                  <a:lnTo>
                    <a:pt x="2591" y="1720"/>
                  </a:lnTo>
                  <a:lnTo>
                    <a:pt x="2587" y="1748"/>
                  </a:lnTo>
                  <a:lnTo>
                    <a:pt x="2584" y="1763"/>
                  </a:lnTo>
                  <a:lnTo>
                    <a:pt x="2584" y="1779"/>
                  </a:lnTo>
                  <a:lnTo>
                    <a:pt x="2580" y="1794"/>
                  </a:lnTo>
                  <a:lnTo>
                    <a:pt x="2580" y="1810"/>
                  </a:lnTo>
                  <a:lnTo>
                    <a:pt x="2578" y="1823"/>
                  </a:lnTo>
                  <a:lnTo>
                    <a:pt x="2578" y="1839"/>
                  </a:lnTo>
                  <a:lnTo>
                    <a:pt x="2578" y="1854"/>
                  </a:lnTo>
                  <a:lnTo>
                    <a:pt x="2578" y="1870"/>
                  </a:lnTo>
                  <a:lnTo>
                    <a:pt x="2572" y="1879"/>
                  </a:lnTo>
                  <a:lnTo>
                    <a:pt x="2568" y="1891"/>
                  </a:lnTo>
                  <a:lnTo>
                    <a:pt x="2564" y="1901"/>
                  </a:lnTo>
                  <a:lnTo>
                    <a:pt x="2562" y="1911"/>
                  </a:lnTo>
                  <a:lnTo>
                    <a:pt x="2556" y="1918"/>
                  </a:lnTo>
                  <a:lnTo>
                    <a:pt x="2554" y="1926"/>
                  </a:lnTo>
                  <a:lnTo>
                    <a:pt x="2551" y="1936"/>
                  </a:lnTo>
                  <a:lnTo>
                    <a:pt x="2551" y="1949"/>
                  </a:lnTo>
                  <a:lnTo>
                    <a:pt x="2537" y="1953"/>
                  </a:lnTo>
                  <a:lnTo>
                    <a:pt x="2531" y="1959"/>
                  </a:lnTo>
                  <a:lnTo>
                    <a:pt x="2506" y="1955"/>
                  </a:lnTo>
                  <a:lnTo>
                    <a:pt x="2483" y="1955"/>
                  </a:lnTo>
                  <a:lnTo>
                    <a:pt x="2459" y="1951"/>
                  </a:lnTo>
                  <a:lnTo>
                    <a:pt x="2438" y="1951"/>
                  </a:lnTo>
                  <a:lnTo>
                    <a:pt x="2415" y="1947"/>
                  </a:lnTo>
                  <a:lnTo>
                    <a:pt x="2392" y="1947"/>
                  </a:lnTo>
                  <a:lnTo>
                    <a:pt x="2368" y="1943"/>
                  </a:lnTo>
                  <a:lnTo>
                    <a:pt x="2345" y="1943"/>
                  </a:lnTo>
                  <a:lnTo>
                    <a:pt x="2302" y="1942"/>
                  </a:lnTo>
                  <a:lnTo>
                    <a:pt x="2266" y="1942"/>
                  </a:lnTo>
                  <a:lnTo>
                    <a:pt x="2225" y="1940"/>
                  </a:lnTo>
                  <a:lnTo>
                    <a:pt x="2178" y="1938"/>
                  </a:lnTo>
                  <a:lnTo>
                    <a:pt x="2110" y="1932"/>
                  </a:lnTo>
                  <a:lnTo>
                    <a:pt x="2023" y="1928"/>
                  </a:lnTo>
                  <a:lnTo>
                    <a:pt x="1907" y="1922"/>
                  </a:lnTo>
                  <a:lnTo>
                    <a:pt x="1754" y="1916"/>
                  </a:lnTo>
                  <a:lnTo>
                    <a:pt x="1748" y="1916"/>
                  </a:lnTo>
                  <a:lnTo>
                    <a:pt x="1744" y="1918"/>
                  </a:lnTo>
                  <a:lnTo>
                    <a:pt x="1732" y="1920"/>
                  </a:lnTo>
                  <a:lnTo>
                    <a:pt x="1717" y="1922"/>
                  </a:lnTo>
                  <a:lnTo>
                    <a:pt x="1690" y="1922"/>
                  </a:lnTo>
                  <a:lnTo>
                    <a:pt x="1651" y="1922"/>
                  </a:lnTo>
                  <a:lnTo>
                    <a:pt x="1596" y="1924"/>
                  </a:lnTo>
                  <a:lnTo>
                    <a:pt x="1527" y="1928"/>
                  </a:lnTo>
                  <a:lnTo>
                    <a:pt x="1563" y="1942"/>
                  </a:lnTo>
                  <a:lnTo>
                    <a:pt x="1596" y="1955"/>
                  </a:lnTo>
                  <a:lnTo>
                    <a:pt x="1620" y="1967"/>
                  </a:lnTo>
                  <a:lnTo>
                    <a:pt x="1643" y="1978"/>
                  </a:lnTo>
                  <a:lnTo>
                    <a:pt x="1662" y="1986"/>
                  </a:lnTo>
                  <a:lnTo>
                    <a:pt x="1684" y="1998"/>
                  </a:lnTo>
                  <a:lnTo>
                    <a:pt x="1707" y="2009"/>
                  </a:lnTo>
                  <a:lnTo>
                    <a:pt x="1738" y="2023"/>
                  </a:lnTo>
                  <a:lnTo>
                    <a:pt x="1740" y="2035"/>
                  </a:lnTo>
                  <a:lnTo>
                    <a:pt x="1742" y="2044"/>
                  </a:lnTo>
                  <a:lnTo>
                    <a:pt x="1742" y="2054"/>
                  </a:lnTo>
                  <a:lnTo>
                    <a:pt x="1744" y="2070"/>
                  </a:lnTo>
                  <a:lnTo>
                    <a:pt x="1734" y="2077"/>
                  </a:lnTo>
                  <a:lnTo>
                    <a:pt x="1728" y="2081"/>
                  </a:lnTo>
                  <a:lnTo>
                    <a:pt x="1721" y="2077"/>
                  </a:lnTo>
                  <a:lnTo>
                    <a:pt x="1715" y="2073"/>
                  </a:lnTo>
                  <a:lnTo>
                    <a:pt x="1705" y="2070"/>
                  </a:lnTo>
                  <a:lnTo>
                    <a:pt x="1697" y="2066"/>
                  </a:lnTo>
                  <a:lnTo>
                    <a:pt x="1684" y="2056"/>
                  </a:lnTo>
                  <a:lnTo>
                    <a:pt x="1670" y="2048"/>
                  </a:lnTo>
                  <a:lnTo>
                    <a:pt x="1651" y="2035"/>
                  </a:lnTo>
                  <a:lnTo>
                    <a:pt x="1627" y="2023"/>
                  </a:lnTo>
                  <a:lnTo>
                    <a:pt x="1612" y="2017"/>
                  </a:lnTo>
                  <a:lnTo>
                    <a:pt x="1598" y="2011"/>
                  </a:lnTo>
                  <a:lnTo>
                    <a:pt x="1587" y="2006"/>
                  </a:lnTo>
                  <a:lnTo>
                    <a:pt x="1575" y="2002"/>
                  </a:lnTo>
                  <a:lnTo>
                    <a:pt x="1562" y="1996"/>
                  </a:lnTo>
                  <a:lnTo>
                    <a:pt x="1550" y="1992"/>
                  </a:lnTo>
                  <a:lnTo>
                    <a:pt x="1538" y="1988"/>
                  </a:lnTo>
                  <a:lnTo>
                    <a:pt x="1527" y="1986"/>
                  </a:lnTo>
                  <a:lnTo>
                    <a:pt x="1519" y="1980"/>
                  </a:lnTo>
                  <a:lnTo>
                    <a:pt x="1517" y="1975"/>
                  </a:lnTo>
                  <a:lnTo>
                    <a:pt x="1494" y="1967"/>
                  </a:lnTo>
                  <a:lnTo>
                    <a:pt x="1472" y="1959"/>
                  </a:lnTo>
                  <a:lnTo>
                    <a:pt x="1451" y="1951"/>
                  </a:lnTo>
                  <a:lnTo>
                    <a:pt x="1430" y="1945"/>
                  </a:lnTo>
                  <a:lnTo>
                    <a:pt x="1406" y="1938"/>
                  </a:lnTo>
                  <a:lnTo>
                    <a:pt x="1385" y="1930"/>
                  </a:lnTo>
                  <a:lnTo>
                    <a:pt x="1364" y="1922"/>
                  </a:lnTo>
                  <a:lnTo>
                    <a:pt x="1342" y="1916"/>
                  </a:lnTo>
                  <a:lnTo>
                    <a:pt x="1329" y="1916"/>
                  </a:lnTo>
                  <a:lnTo>
                    <a:pt x="1315" y="1916"/>
                  </a:lnTo>
                  <a:lnTo>
                    <a:pt x="1302" y="1916"/>
                  </a:lnTo>
                  <a:lnTo>
                    <a:pt x="1290" y="1916"/>
                  </a:lnTo>
                  <a:lnTo>
                    <a:pt x="1267" y="1912"/>
                  </a:lnTo>
                  <a:lnTo>
                    <a:pt x="1247" y="1911"/>
                  </a:lnTo>
                  <a:lnTo>
                    <a:pt x="1228" y="1907"/>
                  </a:lnTo>
                  <a:lnTo>
                    <a:pt x="1211" y="1905"/>
                  </a:lnTo>
                  <a:lnTo>
                    <a:pt x="1183" y="1901"/>
                  </a:lnTo>
                  <a:lnTo>
                    <a:pt x="1152" y="1897"/>
                  </a:lnTo>
                  <a:lnTo>
                    <a:pt x="1110" y="1893"/>
                  </a:lnTo>
                  <a:lnTo>
                    <a:pt x="1057" y="1891"/>
                  </a:lnTo>
                  <a:lnTo>
                    <a:pt x="993" y="1887"/>
                  </a:lnTo>
                  <a:lnTo>
                    <a:pt x="929" y="1885"/>
                  </a:lnTo>
                  <a:lnTo>
                    <a:pt x="865" y="1885"/>
                  </a:lnTo>
                  <a:lnTo>
                    <a:pt x="801" y="1885"/>
                  </a:lnTo>
                  <a:lnTo>
                    <a:pt x="735" y="1885"/>
                  </a:lnTo>
                  <a:lnTo>
                    <a:pt x="671" y="1885"/>
                  </a:lnTo>
                  <a:lnTo>
                    <a:pt x="607" y="1885"/>
                  </a:lnTo>
                  <a:lnTo>
                    <a:pt x="545" y="1885"/>
                  </a:lnTo>
                  <a:lnTo>
                    <a:pt x="495" y="1887"/>
                  </a:lnTo>
                  <a:lnTo>
                    <a:pt x="446" y="1893"/>
                  </a:lnTo>
                  <a:lnTo>
                    <a:pt x="396" y="1895"/>
                  </a:lnTo>
                  <a:lnTo>
                    <a:pt x="349" y="1901"/>
                  </a:lnTo>
                  <a:lnTo>
                    <a:pt x="303" y="1903"/>
                  </a:lnTo>
                  <a:lnTo>
                    <a:pt x="256" y="1907"/>
                  </a:lnTo>
                  <a:lnTo>
                    <a:pt x="210" y="1909"/>
                  </a:lnTo>
                  <a:lnTo>
                    <a:pt x="165" y="1912"/>
                  </a:lnTo>
                  <a:lnTo>
                    <a:pt x="144" y="1918"/>
                  </a:lnTo>
                  <a:lnTo>
                    <a:pt x="126" y="1924"/>
                  </a:lnTo>
                  <a:lnTo>
                    <a:pt x="111" y="1928"/>
                  </a:lnTo>
                  <a:lnTo>
                    <a:pt x="95" y="1934"/>
                  </a:lnTo>
                  <a:lnTo>
                    <a:pt x="86" y="1940"/>
                  </a:lnTo>
                  <a:lnTo>
                    <a:pt x="80" y="1951"/>
                  </a:lnTo>
                  <a:lnTo>
                    <a:pt x="74" y="1963"/>
                  </a:lnTo>
                  <a:lnTo>
                    <a:pt x="70" y="1975"/>
                  </a:lnTo>
                  <a:lnTo>
                    <a:pt x="70" y="1986"/>
                  </a:lnTo>
                  <a:lnTo>
                    <a:pt x="70" y="1998"/>
                  </a:lnTo>
                  <a:lnTo>
                    <a:pt x="70" y="2009"/>
                  </a:lnTo>
                  <a:lnTo>
                    <a:pt x="74" y="2023"/>
                  </a:lnTo>
                  <a:lnTo>
                    <a:pt x="80" y="2033"/>
                  </a:lnTo>
                  <a:lnTo>
                    <a:pt x="86" y="2044"/>
                  </a:lnTo>
                  <a:lnTo>
                    <a:pt x="88" y="2050"/>
                  </a:lnTo>
                  <a:lnTo>
                    <a:pt x="91" y="2064"/>
                  </a:lnTo>
                  <a:lnTo>
                    <a:pt x="95" y="2079"/>
                  </a:lnTo>
                  <a:lnTo>
                    <a:pt x="101" y="2103"/>
                  </a:lnTo>
                  <a:lnTo>
                    <a:pt x="113" y="2137"/>
                  </a:lnTo>
                  <a:lnTo>
                    <a:pt x="126" y="2168"/>
                  </a:lnTo>
                  <a:lnTo>
                    <a:pt x="136" y="2196"/>
                  </a:lnTo>
                  <a:lnTo>
                    <a:pt x="146" y="2223"/>
                  </a:lnTo>
                  <a:lnTo>
                    <a:pt x="155" y="2248"/>
                  </a:lnTo>
                  <a:lnTo>
                    <a:pt x="167" y="2279"/>
                  </a:lnTo>
                  <a:lnTo>
                    <a:pt x="179" y="2312"/>
                  </a:lnTo>
                  <a:lnTo>
                    <a:pt x="196" y="2355"/>
                  </a:lnTo>
                  <a:lnTo>
                    <a:pt x="206" y="2372"/>
                  </a:lnTo>
                  <a:lnTo>
                    <a:pt x="218" y="2390"/>
                  </a:lnTo>
                  <a:lnTo>
                    <a:pt x="227" y="2407"/>
                  </a:lnTo>
                  <a:lnTo>
                    <a:pt x="239" y="2426"/>
                  </a:lnTo>
                  <a:lnTo>
                    <a:pt x="249" y="2444"/>
                  </a:lnTo>
                  <a:lnTo>
                    <a:pt x="260" y="2461"/>
                  </a:lnTo>
                  <a:lnTo>
                    <a:pt x="270" y="2479"/>
                  </a:lnTo>
                  <a:lnTo>
                    <a:pt x="282" y="2498"/>
                  </a:lnTo>
                  <a:lnTo>
                    <a:pt x="289" y="2510"/>
                  </a:lnTo>
                  <a:lnTo>
                    <a:pt x="301" y="2525"/>
                  </a:lnTo>
                  <a:lnTo>
                    <a:pt x="311" y="2537"/>
                  </a:lnTo>
                  <a:lnTo>
                    <a:pt x="322" y="2553"/>
                  </a:lnTo>
                  <a:lnTo>
                    <a:pt x="332" y="2564"/>
                  </a:lnTo>
                  <a:lnTo>
                    <a:pt x="344" y="2578"/>
                  </a:lnTo>
                  <a:lnTo>
                    <a:pt x="353" y="2589"/>
                  </a:lnTo>
                  <a:lnTo>
                    <a:pt x="365" y="2603"/>
                  </a:lnTo>
                  <a:lnTo>
                    <a:pt x="377" y="2605"/>
                  </a:lnTo>
                  <a:lnTo>
                    <a:pt x="390" y="2609"/>
                  </a:lnTo>
                  <a:lnTo>
                    <a:pt x="402" y="2613"/>
                  </a:lnTo>
                  <a:lnTo>
                    <a:pt x="415" y="2618"/>
                  </a:lnTo>
                  <a:lnTo>
                    <a:pt x="429" y="2624"/>
                  </a:lnTo>
                  <a:lnTo>
                    <a:pt x="450" y="2634"/>
                  </a:lnTo>
                  <a:lnTo>
                    <a:pt x="475" y="2644"/>
                  </a:lnTo>
                  <a:lnTo>
                    <a:pt x="512" y="2661"/>
                  </a:lnTo>
                  <a:lnTo>
                    <a:pt x="524" y="2671"/>
                  </a:lnTo>
                  <a:lnTo>
                    <a:pt x="538" y="2682"/>
                  </a:lnTo>
                  <a:lnTo>
                    <a:pt x="545" y="2690"/>
                  </a:lnTo>
                  <a:lnTo>
                    <a:pt x="557" y="2698"/>
                  </a:lnTo>
                  <a:lnTo>
                    <a:pt x="565" y="2704"/>
                  </a:lnTo>
                  <a:lnTo>
                    <a:pt x="578" y="2714"/>
                  </a:lnTo>
                  <a:lnTo>
                    <a:pt x="592" y="2725"/>
                  </a:lnTo>
                  <a:lnTo>
                    <a:pt x="613" y="2741"/>
                  </a:lnTo>
                  <a:lnTo>
                    <a:pt x="615" y="2748"/>
                  </a:lnTo>
                  <a:lnTo>
                    <a:pt x="619" y="2756"/>
                  </a:lnTo>
                  <a:lnTo>
                    <a:pt x="631" y="2758"/>
                  </a:lnTo>
                  <a:lnTo>
                    <a:pt x="638" y="2762"/>
                  </a:lnTo>
                  <a:lnTo>
                    <a:pt x="646" y="2766"/>
                  </a:lnTo>
                  <a:lnTo>
                    <a:pt x="656" y="2774"/>
                  </a:lnTo>
                  <a:lnTo>
                    <a:pt x="687" y="2778"/>
                  </a:lnTo>
                  <a:lnTo>
                    <a:pt x="714" y="2783"/>
                  </a:lnTo>
                  <a:lnTo>
                    <a:pt x="733" y="2787"/>
                  </a:lnTo>
                  <a:lnTo>
                    <a:pt x="749" y="2791"/>
                  </a:lnTo>
                  <a:lnTo>
                    <a:pt x="761" y="2793"/>
                  </a:lnTo>
                  <a:lnTo>
                    <a:pt x="774" y="2799"/>
                  </a:lnTo>
                  <a:lnTo>
                    <a:pt x="786" y="2803"/>
                  </a:lnTo>
                  <a:lnTo>
                    <a:pt x="803" y="2810"/>
                  </a:lnTo>
                  <a:lnTo>
                    <a:pt x="803" y="2801"/>
                  </a:lnTo>
                  <a:lnTo>
                    <a:pt x="803" y="2791"/>
                  </a:lnTo>
                  <a:lnTo>
                    <a:pt x="803" y="2779"/>
                  </a:lnTo>
                  <a:lnTo>
                    <a:pt x="803" y="2774"/>
                  </a:lnTo>
                  <a:lnTo>
                    <a:pt x="797" y="2758"/>
                  </a:lnTo>
                  <a:lnTo>
                    <a:pt x="795" y="2745"/>
                  </a:lnTo>
                  <a:lnTo>
                    <a:pt x="794" y="2731"/>
                  </a:lnTo>
                  <a:lnTo>
                    <a:pt x="792" y="2719"/>
                  </a:lnTo>
                  <a:lnTo>
                    <a:pt x="790" y="2708"/>
                  </a:lnTo>
                  <a:lnTo>
                    <a:pt x="788" y="2696"/>
                  </a:lnTo>
                  <a:lnTo>
                    <a:pt x="784" y="2686"/>
                  </a:lnTo>
                  <a:lnTo>
                    <a:pt x="782" y="2679"/>
                  </a:lnTo>
                  <a:lnTo>
                    <a:pt x="780" y="2655"/>
                  </a:lnTo>
                  <a:lnTo>
                    <a:pt x="778" y="2634"/>
                  </a:lnTo>
                  <a:lnTo>
                    <a:pt x="778" y="2613"/>
                  </a:lnTo>
                  <a:lnTo>
                    <a:pt x="778" y="2591"/>
                  </a:lnTo>
                  <a:lnTo>
                    <a:pt x="778" y="2568"/>
                  </a:lnTo>
                  <a:lnTo>
                    <a:pt x="778" y="2547"/>
                  </a:lnTo>
                  <a:lnTo>
                    <a:pt x="778" y="2525"/>
                  </a:lnTo>
                  <a:lnTo>
                    <a:pt x="778" y="2504"/>
                  </a:lnTo>
                  <a:lnTo>
                    <a:pt x="780" y="2483"/>
                  </a:lnTo>
                  <a:lnTo>
                    <a:pt x="782" y="2463"/>
                  </a:lnTo>
                  <a:lnTo>
                    <a:pt x="782" y="2442"/>
                  </a:lnTo>
                  <a:lnTo>
                    <a:pt x="788" y="2425"/>
                  </a:lnTo>
                  <a:lnTo>
                    <a:pt x="790" y="2407"/>
                  </a:lnTo>
                  <a:lnTo>
                    <a:pt x="795" y="2392"/>
                  </a:lnTo>
                  <a:lnTo>
                    <a:pt x="799" y="2376"/>
                  </a:lnTo>
                  <a:lnTo>
                    <a:pt x="805" y="2362"/>
                  </a:lnTo>
                  <a:lnTo>
                    <a:pt x="809" y="2347"/>
                  </a:lnTo>
                  <a:lnTo>
                    <a:pt x="815" y="2331"/>
                  </a:lnTo>
                  <a:lnTo>
                    <a:pt x="819" y="2316"/>
                  </a:lnTo>
                  <a:lnTo>
                    <a:pt x="825" y="2302"/>
                  </a:lnTo>
                  <a:lnTo>
                    <a:pt x="844" y="2277"/>
                  </a:lnTo>
                  <a:lnTo>
                    <a:pt x="859" y="2258"/>
                  </a:lnTo>
                  <a:lnTo>
                    <a:pt x="871" y="2242"/>
                  </a:lnTo>
                  <a:lnTo>
                    <a:pt x="885" y="2231"/>
                  </a:lnTo>
                  <a:lnTo>
                    <a:pt x="894" y="2219"/>
                  </a:lnTo>
                  <a:lnTo>
                    <a:pt x="906" y="2209"/>
                  </a:lnTo>
                  <a:lnTo>
                    <a:pt x="918" y="2196"/>
                  </a:lnTo>
                  <a:lnTo>
                    <a:pt x="935" y="2182"/>
                  </a:lnTo>
                  <a:lnTo>
                    <a:pt x="943" y="2172"/>
                  </a:lnTo>
                  <a:lnTo>
                    <a:pt x="953" y="2168"/>
                  </a:lnTo>
                  <a:lnTo>
                    <a:pt x="962" y="2163"/>
                  </a:lnTo>
                  <a:lnTo>
                    <a:pt x="972" y="2161"/>
                  </a:lnTo>
                  <a:lnTo>
                    <a:pt x="978" y="2151"/>
                  </a:lnTo>
                  <a:lnTo>
                    <a:pt x="984" y="2145"/>
                  </a:lnTo>
                  <a:lnTo>
                    <a:pt x="993" y="2141"/>
                  </a:lnTo>
                  <a:lnTo>
                    <a:pt x="1003" y="2139"/>
                  </a:lnTo>
                  <a:lnTo>
                    <a:pt x="1009" y="2137"/>
                  </a:lnTo>
                  <a:lnTo>
                    <a:pt x="1017" y="2137"/>
                  </a:lnTo>
                  <a:lnTo>
                    <a:pt x="1020" y="2134"/>
                  </a:lnTo>
                  <a:lnTo>
                    <a:pt x="1026" y="2128"/>
                  </a:lnTo>
                  <a:lnTo>
                    <a:pt x="1040" y="2128"/>
                  </a:lnTo>
                  <a:lnTo>
                    <a:pt x="1055" y="2128"/>
                  </a:lnTo>
                  <a:lnTo>
                    <a:pt x="1071" y="2128"/>
                  </a:lnTo>
                  <a:lnTo>
                    <a:pt x="1088" y="2128"/>
                  </a:lnTo>
                  <a:lnTo>
                    <a:pt x="1104" y="2128"/>
                  </a:lnTo>
                  <a:lnTo>
                    <a:pt x="1121" y="2128"/>
                  </a:lnTo>
                  <a:lnTo>
                    <a:pt x="1139" y="2128"/>
                  </a:lnTo>
                  <a:lnTo>
                    <a:pt x="1158" y="2128"/>
                  </a:lnTo>
                  <a:lnTo>
                    <a:pt x="1170" y="2128"/>
                  </a:lnTo>
                  <a:lnTo>
                    <a:pt x="1181" y="2132"/>
                  </a:lnTo>
                  <a:lnTo>
                    <a:pt x="1193" y="2134"/>
                  </a:lnTo>
                  <a:lnTo>
                    <a:pt x="1207" y="2139"/>
                  </a:lnTo>
                  <a:lnTo>
                    <a:pt x="1218" y="2141"/>
                  </a:lnTo>
                  <a:lnTo>
                    <a:pt x="1232" y="2145"/>
                  </a:lnTo>
                  <a:lnTo>
                    <a:pt x="1243" y="2149"/>
                  </a:lnTo>
                  <a:lnTo>
                    <a:pt x="1257" y="2155"/>
                  </a:lnTo>
                  <a:lnTo>
                    <a:pt x="1273" y="2161"/>
                  </a:lnTo>
                  <a:lnTo>
                    <a:pt x="1288" y="2170"/>
                  </a:lnTo>
                  <a:lnTo>
                    <a:pt x="1304" y="2176"/>
                  </a:lnTo>
                  <a:lnTo>
                    <a:pt x="1321" y="2186"/>
                  </a:lnTo>
                  <a:lnTo>
                    <a:pt x="1337" y="2194"/>
                  </a:lnTo>
                  <a:lnTo>
                    <a:pt x="1352" y="2201"/>
                  </a:lnTo>
                  <a:lnTo>
                    <a:pt x="1368" y="2209"/>
                  </a:lnTo>
                  <a:lnTo>
                    <a:pt x="1385" y="2219"/>
                  </a:lnTo>
                  <a:lnTo>
                    <a:pt x="1397" y="2229"/>
                  </a:lnTo>
                  <a:lnTo>
                    <a:pt x="1412" y="2240"/>
                  </a:lnTo>
                  <a:lnTo>
                    <a:pt x="1424" y="2250"/>
                  </a:lnTo>
                  <a:lnTo>
                    <a:pt x="1439" y="2262"/>
                  </a:lnTo>
                  <a:lnTo>
                    <a:pt x="1453" y="2271"/>
                  </a:lnTo>
                  <a:lnTo>
                    <a:pt x="1466" y="2281"/>
                  </a:lnTo>
                  <a:lnTo>
                    <a:pt x="1480" y="2291"/>
                  </a:lnTo>
                  <a:lnTo>
                    <a:pt x="1496" y="2302"/>
                  </a:lnTo>
                  <a:lnTo>
                    <a:pt x="1529" y="2335"/>
                  </a:lnTo>
                  <a:lnTo>
                    <a:pt x="1556" y="2364"/>
                  </a:lnTo>
                  <a:lnTo>
                    <a:pt x="1577" y="2386"/>
                  </a:lnTo>
                  <a:lnTo>
                    <a:pt x="1596" y="2407"/>
                  </a:lnTo>
                  <a:lnTo>
                    <a:pt x="1614" y="2425"/>
                  </a:lnTo>
                  <a:lnTo>
                    <a:pt x="1633" y="2448"/>
                  </a:lnTo>
                  <a:lnTo>
                    <a:pt x="1657" y="2473"/>
                  </a:lnTo>
                  <a:lnTo>
                    <a:pt x="1686" y="2508"/>
                  </a:lnTo>
                  <a:lnTo>
                    <a:pt x="1693" y="2521"/>
                  </a:lnTo>
                  <a:lnTo>
                    <a:pt x="1703" y="2537"/>
                  </a:lnTo>
                  <a:lnTo>
                    <a:pt x="1713" y="2553"/>
                  </a:lnTo>
                  <a:lnTo>
                    <a:pt x="1724" y="2568"/>
                  </a:lnTo>
                  <a:lnTo>
                    <a:pt x="1734" y="2582"/>
                  </a:lnTo>
                  <a:lnTo>
                    <a:pt x="1744" y="2597"/>
                  </a:lnTo>
                  <a:lnTo>
                    <a:pt x="1754" y="2613"/>
                  </a:lnTo>
                  <a:lnTo>
                    <a:pt x="1765" y="2630"/>
                  </a:lnTo>
                  <a:lnTo>
                    <a:pt x="1783" y="2667"/>
                  </a:lnTo>
                  <a:lnTo>
                    <a:pt x="1804" y="2704"/>
                  </a:lnTo>
                  <a:lnTo>
                    <a:pt x="1823" y="2741"/>
                  </a:lnTo>
                  <a:lnTo>
                    <a:pt x="1847" y="2778"/>
                  </a:lnTo>
                  <a:lnTo>
                    <a:pt x="1866" y="2812"/>
                  </a:lnTo>
                  <a:lnTo>
                    <a:pt x="1887" y="2849"/>
                  </a:lnTo>
                  <a:lnTo>
                    <a:pt x="1907" y="2884"/>
                  </a:lnTo>
                  <a:lnTo>
                    <a:pt x="1928" y="2921"/>
                  </a:lnTo>
                  <a:lnTo>
                    <a:pt x="1940" y="2954"/>
                  </a:lnTo>
                  <a:lnTo>
                    <a:pt x="1951" y="2981"/>
                  </a:lnTo>
                  <a:lnTo>
                    <a:pt x="1959" y="3003"/>
                  </a:lnTo>
                  <a:lnTo>
                    <a:pt x="1969" y="3024"/>
                  </a:lnTo>
                  <a:lnTo>
                    <a:pt x="1975" y="3045"/>
                  </a:lnTo>
                  <a:lnTo>
                    <a:pt x="1984" y="3072"/>
                  </a:lnTo>
                  <a:lnTo>
                    <a:pt x="1994" y="3103"/>
                  </a:lnTo>
                  <a:lnTo>
                    <a:pt x="2008" y="3148"/>
                  </a:lnTo>
                  <a:lnTo>
                    <a:pt x="2015" y="3158"/>
                  </a:lnTo>
                  <a:lnTo>
                    <a:pt x="2029" y="3169"/>
                  </a:lnTo>
                  <a:lnTo>
                    <a:pt x="2070" y="3175"/>
                  </a:lnTo>
                  <a:lnTo>
                    <a:pt x="2110" y="3185"/>
                  </a:lnTo>
                  <a:lnTo>
                    <a:pt x="2151" y="3191"/>
                  </a:lnTo>
                  <a:lnTo>
                    <a:pt x="2192" y="3200"/>
                  </a:lnTo>
                  <a:lnTo>
                    <a:pt x="2233" y="3206"/>
                  </a:lnTo>
                  <a:lnTo>
                    <a:pt x="2273" y="3216"/>
                  </a:lnTo>
                  <a:lnTo>
                    <a:pt x="2314" y="3222"/>
                  </a:lnTo>
                  <a:lnTo>
                    <a:pt x="2357" y="3231"/>
                  </a:lnTo>
                  <a:close/>
                  <a:moveTo>
                    <a:pt x="3803" y="3074"/>
                  </a:moveTo>
                  <a:lnTo>
                    <a:pt x="3809" y="3068"/>
                  </a:lnTo>
                  <a:lnTo>
                    <a:pt x="3819" y="3068"/>
                  </a:lnTo>
                  <a:lnTo>
                    <a:pt x="3807" y="3053"/>
                  </a:lnTo>
                  <a:lnTo>
                    <a:pt x="3798" y="3039"/>
                  </a:lnTo>
                  <a:lnTo>
                    <a:pt x="3786" y="3026"/>
                  </a:lnTo>
                  <a:lnTo>
                    <a:pt x="3776" y="3012"/>
                  </a:lnTo>
                  <a:lnTo>
                    <a:pt x="3765" y="2997"/>
                  </a:lnTo>
                  <a:lnTo>
                    <a:pt x="3755" y="2985"/>
                  </a:lnTo>
                  <a:lnTo>
                    <a:pt x="3745" y="2970"/>
                  </a:lnTo>
                  <a:lnTo>
                    <a:pt x="3739" y="2958"/>
                  </a:lnTo>
                  <a:lnTo>
                    <a:pt x="3726" y="2944"/>
                  </a:lnTo>
                  <a:lnTo>
                    <a:pt x="3714" y="2933"/>
                  </a:lnTo>
                  <a:lnTo>
                    <a:pt x="3703" y="2919"/>
                  </a:lnTo>
                  <a:lnTo>
                    <a:pt x="3691" y="2907"/>
                  </a:lnTo>
                  <a:lnTo>
                    <a:pt x="3679" y="2894"/>
                  </a:lnTo>
                  <a:lnTo>
                    <a:pt x="3668" y="2880"/>
                  </a:lnTo>
                  <a:lnTo>
                    <a:pt x="3656" y="2869"/>
                  </a:lnTo>
                  <a:lnTo>
                    <a:pt x="3644" y="2857"/>
                  </a:lnTo>
                  <a:lnTo>
                    <a:pt x="3629" y="2845"/>
                  </a:lnTo>
                  <a:lnTo>
                    <a:pt x="3615" y="2836"/>
                  </a:lnTo>
                  <a:lnTo>
                    <a:pt x="3602" y="2824"/>
                  </a:lnTo>
                  <a:lnTo>
                    <a:pt x="3588" y="2814"/>
                  </a:lnTo>
                  <a:lnTo>
                    <a:pt x="3573" y="2803"/>
                  </a:lnTo>
                  <a:lnTo>
                    <a:pt x="3561" y="2791"/>
                  </a:lnTo>
                  <a:lnTo>
                    <a:pt x="3546" y="2779"/>
                  </a:lnTo>
                  <a:lnTo>
                    <a:pt x="3534" y="2768"/>
                  </a:lnTo>
                  <a:lnTo>
                    <a:pt x="3516" y="2756"/>
                  </a:lnTo>
                  <a:lnTo>
                    <a:pt x="3501" y="2746"/>
                  </a:lnTo>
                  <a:lnTo>
                    <a:pt x="3485" y="2737"/>
                  </a:lnTo>
                  <a:lnTo>
                    <a:pt x="3470" y="2731"/>
                  </a:lnTo>
                  <a:lnTo>
                    <a:pt x="3462" y="2723"/>
                  </a:lnTo>
                  <a:lnTo>
                    <a:pt x="3456" y="2717"/>
                  </a:lnTo>
                  <a:lnTo>
                    <a:pt x="3445" y="2712"/>
                  </a:lnTo>
                  <a:lnTo>
                    <a:pt x="3433" y="2706"/>
                  </a:lnTo>
                  <a:lnTo>
                    <a:pt x="3416" y="2696"/>
                  </a:lnTo>
                  <a:lnTo>
                    <a:pt x="3398" y="2686"/>
                  </a:lnTo>
                  <a:lnTo>
                    <a:pt x="3377" y="2675"/>
                  </a:lnTo>
                  <a:lnTo>
                    <a:pt x="3354" y="2661"/>
                  </a:lnTo>
                  <a:lnTo>
                    <a:pt x="3338" y="2655"/>
                  </a:lnTo>
                  <a:lnTo>
                    <a:pt x="3324" y="2650"/>
                  </a:lnTo>
                  <a:lnTo>
                    <a:pt x="3313" y="2644"/>
                  </a:lnTo>
                  <a:lnTo>
                    <a:pt x="3301" y="2640"/>
                  </a:lnTo>
                  <a:lnTo>
                    <a:pt x="3290" y="2634"/>
                  </a:lnTo>
                  <a:lnTo>
                    <a:pt x="3278" y="2630"/>
                  </a:lnTo>
                  <a:lnTo>
                    <a:pt x="3266" y="2624"/>
                  </a:lnTo>
                  <a:lnTo>
                    <a:pt x="3255" y="2620"/>
                  </a:lnTo>
                  <a:lnTo>
                    <a:pt x="3237" y="2618"/>
                  </a:lnTo>
                  <a:lnTo>
                    <a:pt x="3222" y="2617"/>
                  </a:lnTo>
                  <a:lnTo>
                    <a:pt x="3206" y="2615"/>
                  </a:lnTo>
                  <a:lnTo>
                    <a:pt x="3191" y="2615"/>
                  </a:lnTo>
                  <a:lnTo>
                    <a:pt x="3187" y="2624"/>
                  </a:lnTo>
                  <a:lnTo>
                    <a:pt x="3185" y="2636"/>
                  </a:lnTo>
                  <a:lnTo>
                    <a:pt x="3173" y="2642"/>
                  </a:lnTo>
                  <a:lnTo>
                    <a:pt x="3165" y="2650"/>
                  </a:lnTo>
                  <a:lnTo>
                    <a:pt x="3160" y="2653"/>
                  </a:lnTo>
                  <a:lnTo>
                    <a:pt x="3156" y="2659"/>
                  </a:lnTo>
                  <a:lnTo>
                    <a:pt x="3150" y="2667"/>
                  </a:lnTo>
                  <a:lnTo>
                    <a:pt x="3148" y="2679"/>
                  </a:lnTo>
                  <a:lnTo>
                    <a:pt x="3154" y="2692"/>
                  </a:lnTo>
                  <a:lnTo>
                    <a:pt x="3160" y="2706"/>
                  </a:lnTo>
                  <a:lnTo>
                    <a:pt x="3163" y="2717"/>
                  </a:lnTo>
                  <a:lnTo>
                    <a:pt x="3167" y="2729"/>
                  </a:lnTo>
                  <a:lnTo>
                    <a:pt x="3169" y="2739"/>
                  </a:lnTo>
                  <a:lnTo>
                    <a:pt x="3175" y="2748"/>
                  </a:lnTo>
                  <a:lnTo>
                    <a:pt x="3179" y="2758"/>
                  </a:lnTo>
                  <a:lnTo>
                    <a:pt x="3185" y="2768"/>
                  </a:lnTo>
                  <a:lnTo>
                    <a:pt x="3189" y="2778"/>
                  </a:lnTo>
                  <a:lnTo>
                    <a:pt x="3198" y="2793"/>
                  </a:lnTo>
                  <a:lnTo>
                    <a:pt x="3204" y="2801"/>
                  </a:lnTo>
                  <a:lnTo>
                    <a:pt x="3212" y="2814"/>
                  </a:lnTo>
                  <a:lnTo>
                    <a:pt x="3220" y="2830"/>
                  </a:lnTo>
                  <a:lnTo>
                    <a:pt x="3233" y="2851"/>
                  </a:lnTo>
                  <a:lnTo>
                    <a:pt x="3251" y="2853"/>
                  </a:lnTo>
                  <a:lnTo>
                    <a:pt x="3272" y="2859"/>
                  </a:lnTo>
                  <a:lnTo>
                    <a:pt x="3291" y="2861"/>
                  </a:lnTo>
                  <a:lnTo>
                    <a:pt x="3315" y="2867"/>
                  </a:lnTo>
                  <a:lnTo>
                    <a:pt x="3334" y="2869"/>
                  </a:lnTo>
                  <a:lnTo>
                    <a:pt x="3355" y="2873"/>
                  </a:lnTo>
                  <a:lnTo>
                    <a:pt x="3375" y="2874"/>
                  </a:lnTo>
                  <a:lnTo>
                    <a:pt x="3396" y="2878"/>
                  </a:lnTo>
                  <a:lnTo>
                    <a:pt x="3412" y="2882"/>
                  </a:lnTo>
                  <a:lnTo>
                    <a:pt x="3429" y="2888"/>
                  </a:lnTo>
                  <a:lnTo>
                    <a:pt x="3447" y="2894"/>
                  </a:lnTo>
                  <a:lnTo>
                    <a:pt x="3464" y="2900"/>
                  </a:lnTo>
                  <a:lnTo>
                    <a:pt x="3480" y="2904"/>
                  </a:lnTo>
                  <a:lnTo>
                    <a:pt x="3495" y="2909"/>
                  </a:lnTo>
                  <a:lnTo>
                    <a:pt x="3511" y="2915"/>
                  </a:lnTo>
                  <a:lnTo>
                    <a:pt x="3528" y="2921"/>
                  </a:lnTo>
                  <a:lnTo>
                    <a:pt x="3544" y="2927"/>
                  </a:lnTo>
                  <a:lnTo>
                    <a:pt x="3561" y="2937"/>
                  </a:lnTo>
                  <a:lnTo>
                    <a:pt x="3578" y="2942"/>
                  </a:lnTo>
                  <a:lnTo>
                    <a:pt x="3596" y="2952"/>
                  </a:lnTo>
                  <a:lnTo>
                    <a:pt x="3611" y="2958"/>
                  </a:lnTo>
                  <a:lnTo>
                    <a:pt x="3629" y="2966"/>
                  </a:lnTo>
                  <a:lnTo>
                    <a:pt x="3646" y="2971"/>
                  </a:lnTo>
                  <a:lnTo>
                    <a:pt x="3666" y="2979"/>
                  </a:lnTo>
                  <a:lnTo>
                    <a:pt x="3689" y="2991"/>
                  </a:lnTo>
                  <a:lnTo>
                    <a:pt x="3708" y="3003"/>
                  </a:lnTo>
                  <a:lnTo>
                    <a:pt x="3722" y="3012"/>
                  </a:lnTo>
                  <a:lnTo>
                    <a:pt x="3738" y="3022"/>
                  </a:lnTo>
                  <a:lnTo>
                    <a:pt x="3749" y="3030"/>
                  </a:lnTo>
                  <a:lnTo>
                    <a:pt x="3765" y="3041"/>
                  </a:lnTo>
                  <a:lnTo>
                    <a:pt x="3780" y="3055"/>
                  </a:lnTo>
                  <a:lnTo>
                    <a:pt x="3803" y="3074"/>
                  </a:lnTo>
                  <a:close/>
                  <a:moveTo>
                    <a:pt x="1416" y="3059"/>
                  </a:moveTo>
                  <a:lnTo>
                    <a:pt x="1424" y="3059"/>
                  </a:lnTo>
                  <a:lnTo>
                    <a:pt x="1434" y="3059"/>
                  </a:lnTo>
                  <a:lnTo>
                    <a:pt x="1443" y="3059"/>
                  </a:lnTo>
                  <a:lnTo>
                    <a:pt x="1453" y="3059"/>
                  </a:lnTo>
                  <a:lnTo>
                    <a:pt x="1449" y="3047"/>
                  </a:lnTo>
                  <a:lnTo>
                    <a:pt x="1447" y="3039"/>
                  </a:lnTo>
                  <a:lnTo>
                    <a:pt x="1443" y="3028"/>
                  </a:lnTo>
                  <a:lnTo>
                    <a:pt x="1439" y="3016"/>
                  </a:lnTo>
                  <a:lnTo>
                    <a:pt x="1430" y="2995"/>
                  </a:lnTo>
                  <a:lnTo>
                    <a:pt x="1418" y="2970"/>
                  </a:lnTo>
                  <a:lnTo>
                    <a:pt x="1401" y="2933"/>
                  </a:lnTo>
                  <a:lnTo>
                    <a:pt x="1379" y="2884"/>
                  </a:lnTo>
                  <a:lnTo>
                    <a:pt x="1368" y="2853"/>
                  </a:lnTo>
                  <a:lnTo>
                    <a:pt x="1358" y="2822"/>
                  </a:lnTo>
                  <a:lnTo>
                    <a:pt x="1348" y="2791"/>
                  </a:lnTo>
                  <a:lnTo>
                    <a:pt x="1339" y="2762"/>
                  </a:lnTo>
                  <a:lnTo>
                    <a:pt x="1329" y="2729"/>
                  </a:lnTo>
                  <a:lnTo>
                    <a:pt x="1321" y="2698"/>
                  </a:lnTo>
                  <a:lnTo>
                    <a:pt x="1311" y="2669"/>
                  </a:lnTo>
                  <a:lnTo>
                    <a:pt x="1306" y="2640"/>
                  </a:lnTo>
                  <a:lnTo>
                    <a:pt x="1288" y="2642"/>
                  </a:lnTo>
                  <a:lnTo>
                    <a:pt x="1276" y="2646"/>
                  </a:lnTo>
                  <a:lnTo>
                    <a:pt x="1271" y="2648"/>
                  </a:lnTo>
                  <a:lnTo>
                    <a:pt x="1265" y="2651"/>
                  </a:lnTo>
                  <a:lnTo>
                    <a:pt x="1257" y="2655"/>
                  </a:lnTo>
                  <a:lnTo>
                    <a:pt x="1247" y="2661"/>
                  </a:lnTo>
                  <a:lnTo>
                    <a:pt x="1247" y="2671"/>
                  </a:lnTo>
                  <a:lnTo>
                    <a:pt x="1249" y="2682"/>
                  </a:lnTo>
                  <a:lnTo>
                    <a:pt x="1251" y="2694"/>
                  </a:lnTo>
                  <a:lnTo>
                    <a:pt x="1255" y="2706"/>
                  </a:lnTo>
                  <a:lnTo>
                    <a:pt x="1257" y="2725"/>
                  </a:lnTo>
                  <a:lnTo>
                    <a:pt x="1263" y="2746"/>
                  </a:lnTo>
                  <a:lnTo>
                    <a:pt x="1282" y="2801"/>
                  </a:lnTo>
                  <a:lnTo>
                    <a:pt x="1300" y="2845"/>
                  </a:lnTo>
                  <a:lnTo>
                    <a:pt x="1311" y="2878"/>
                  </a:lnTo>
                  <a:lnTo>
                    <a:pt x="1325" y="2909"/>
                  </a:lnTo>
                  <a:lnTo>
                    <a:pt x="1337" y="2937"/>
                  </a:lnTo>
                  <a:lnTo>
                    <a:pt x="1348" y="2968"/>
                  </a:lnTo>
                  <a:lnTo>
                    <a:pt x="1364" y="3003"/>
                  </a:lnTo>
                  <a:lnTo>
                    <a:pt x="1385" y="3047"/>
                  </a:lnTo>
                  <a:lnTo>
                    <a:pt x="1401" y="3053"/>
                  </a:lnTo>
                  <a:lnTo>
                    <a:pt x="1416" y="3059"/>
                  </a:lnTo>
                  <a:close/>
                  <a:moveTo>
                    <a:pt x="1918" y="3026"/>
                  </a:moveTo>
                  <a:lnTo>
                    <a:pt x="1918" y="3030"/>
                  </a:lnTo>
                  <a:lnTo>
                    <a:pt x="1922" y="3022"/>
                  </a:lnTo>
                  <a:lnTo>
                    <a:pt x="1914" y="3003"/>
                  </a:lnTo>
                  <a:lnTo>
                    <a:pt x="1909" y="2987"/>
                  </a:lnTo>
                  <a:lnTo>
                    <a:pt x="1903" y="2970"/>
                  </a:lnTo>
                  <a:lnTo>
                    <a:pt x="1897" y="2958"/>
                  </a:lnTo>
                  <a:lnTo>
                    <a:pt x="1891" y="2944"/>
                  </a:lnTo>
                  <a:lnTo>
                    <a:pt x="1885" y="2935"/>
                  </a:lnTo>
                  <a:lnTo>
                    <a:pt x="1880" y="2927"/>
                  </a:lnTo>
                  <a:lnTo>
                    <a:pt x="1876" y="2921"/>
                  </a:lnTo>
                  <a:lnTo>
                    <a:pt x="1862" y="2890"/>
                  </a:lnTo>
                  <a:lnTo>
                    <a:pt x="1850" y="2867"/>
                  </a:lnTo>
                  <a:lnTo>
                    <a:pt x="1843" y="2847"/>
                  </a:lnTo>
                  <a:lnTo>
                    <a:pt x="1837" y="2834"/>
                  </a:lnTo>
                  <a:lnTo>
                    <a:pt x="1831" y="2820"/>
                  </a:lnTo>
                  <a:lnTo>
                    <a:pt x="1827" y="2812"/>
                  </a:lnTo>
                  <a:lnTo>
                    <a:pt x="1823" y="2805"/>
                  </a:lnTo>
                  <a:lnTo>
                    <a:pt x="1823" y="2799"/>
                  </a:lnTo>
                  <a:lnTo>
                    <a:pt x="1794" y="2760"/>
                  </a:lnTo>
                  <a:lnTo>
                    <a:pt x="1767" y="2721"/>
                  </a:lnTo>
                  <a:lnTo>
                    <a:pt x="1740" y="2682"/>
                  </a:lnTo>
                  <a:lnTo>
                    <a:pt x="1715" y="2646"/>
                  </a:lnTo>
                  <a:lnTo>
                    <a:pt x="1686" y="2605"/>
                  </a:lnTo>
                  <a:lnTo>
                    <a:pt x="1660" y="2568"/>
                  </a:lnTo>
                  <a:lnTo>
                    <a:pt x="1631" y="2529"/>
                  </a:lnTo>
                  <a:lnTo>
                    <a:pt x="1606" y="2492"/>
                  </a:lnTo>
                  <a:lnTo>
                    <a:pt x="1593" y="2477"/>
                  </a:lnTo>
                  <a:lnTo>
                    <a:pt x="1581" y="2463"/>
                  </a:lnTo>
                  <a:lnTo>
                    <a:pt x="1569" y="2448"/>
                  </a:lnTo>
                  <a:lnTo>
                    <a:pt x="1558" y="2434"/>
                  </a:lnTo>
                  <a:lnTo>
                    <a:pt x="1546" y="2417"/>
                  </a:lnTo>
                  <a:lnTo>
                    <a:pt x="1534" y="2403"/>
                  </a:lnTo>
                  <a:lnTo>
                    <a:pt x="1523" y="2388"/>
                  </a:lnTo>
                  <a:lnTo>
                    <a:pt x="1511" y="2376"/>
                  </a:lnTo>
                  <a:lnTo>
                    <a:pt x="1494" y="2362"/>
                  </a:lnTo>
                  <a:lnTo>
                    <a:pt x="1478" y="2351"/>
                  </a:lnTo>
                  <a:lnTo>
                    <a:pt x="1463" y="2339"/>
                  </a:lnTo>
                  <a:lnTo>
                    <a:pt x="1449" y="2328"/>
                  </a:lnTo>
                  <a:lnTo>
                    <a:pt x="1434" y="2316"/>
                  </a:lnTo>
                  <a:lnTo>
                    <a:pt x="1422" y="2304"/>
                  </a:lnTo>
                  <a:lnTo>
                    <a:pt x="1406" y="2293"/>
                  </a:lnTo>
                  <a:lnTo>
                    <a:pt x="1395" y="2281"/>
                  </a:lnTo>
                  <a:lnTo>
                    <a:pt x="1381" y="2281"/>
                  </a:lnTo>
                  <a:lnTo>
                    <a:pt x="1373" y="2281"/>
                  </a:lnTo>
                  <a:lnTo>
                    <a:pt x="1379" y="2310"/>
                  </a:lnTo>
                  <a:lnTo>
                    <a:pt x="1385" y="2333"/>
                  </a:lnTo>
                  <a:lnTo>
                    <a:pt x="1389" y="2353"/>
                  </a:lnTo>
                  <a:lnTo>
                    <a:pt x="1395" y="2374"/>
                  </a:lnTo>
                  <a:lnTo>
                    <a:pt x="1397" y="2393"/>
                  </a:lnTo>
                  <a:lnTo>
                    <a:pt x="1403" y="2421"/>
                  </a:lnTo>
                  <a:lnTo>
                    <a:pt x="1406" y="2450"/>
                  </a:lnTo>
                  <a:lnTo>
                    <a:pt x="1416" y="2492"/>
                  </a:lnTo>
                  <a:lnTo>
                    <a:pt x="1426" y="2508"/>
                  </a:lnTo>
                  <a:lnTo>
                    <a:pt x="1437" y="2520"/>
                  </a:lnTo>
                  <a:lnTo>
                    <a:pt x="1455" y="2535"/>
                  </a:lnTo>
                  <a:lnTo>
                    <a:pt x="1476" y="2553"/>
                  </a:lnTo>
                  <a:lnTo>
                    <a:pt x="1494" y="2570"/>
                  </a:lnTo>
                  <a:lnTo>
                    <a:pt x="1515" y="2587"/>
                  </a:lnTo>
                  <a:lnTo>
                    <a:pt x="1534" y="2603"/>
                  </a:lnTo>
                  <a:lnTo>
                    <a:pt x="1556" y="2620"/>
                  </a:lnTo>
                  <a:lnTo>
                    <a:pt x="1575" y="2638"/>
                  </a:lnTo>
                  <a:lnTo>
                    <a:pt x="1596" y="2657"/>
                  </a:lnTo>
                  <a:lnTo>
                    <a:pt x="1608" y="2669"/>
                  </a:lnTo>
                  <a:lnTo>
                    <a:pt x="1624" y="2682"/>
                  </a:lnTo>
                  <a:lnTo>
                    <a:pt x="1635" y="2696"/>
                  </a:lnTo>
                  <a:lnTo>
                    <a:pt x="1651" y="2710"/>
                  </a:lnTo>
                  <a:lnTo>
                    <a:pt x="1662" y="2721"/>
                  </a:lnTo>
                  <a:lnTo>
                    <a:pt x="1676" y="2733"/>
                  </a:lnTo>
                  <a:lnTo>
                    <a:pt x="1688" y="2746"/>
                  </a:lnTo>
                  <a:lnTo>
                    <a:pt x="1701" y="2762"/>
                  </a:lnTo>
                  <a:lnTo>
                    <a:pt x="1726" y="2793"/>
                  </a:lnTo>
                  <a:lnTo>
                    <a:pt x="1755" y="2828"/>
                  </a:lnTo>
                  <a:lnTo>
                    <a:pt x="1781" y="2859"/>
                  </a:lnTo>
                  <a:lnTo>
                    <a:pt x="1810" y="2894"/>
                  </a:lnTo>
                  <a:lnTo>
                    <a:pt x="1835" y="2925"/>
                  </a:lnTo>
                  <a:lnTo>
                    <a:pt x="1862" y="2958"/>
                  </a:lnTo>
                  <a:lnTo>
                    <a:pt x="1889" y="2991"/>
                  </a:lnTo>
                  <a:lnTo>
                    <a:pt x="1918" y="3026"/>
                  </a:lnTo>
                  <a:close/>
                  <a:moveTo>
                    <a:pt x="751" y="3022"/>
                  </a:moveTo>
                  <a:lnTo>
                    <a:pt x="766" y="3018"/>
                  </a:lnTo>
                  <a:lnTo>
                    <a:pt x="780" y="3016"/>
                  </a:lnTo>
                  <a:lnTo>
                    <a:pt x="790" y="3016"/>
                  </a:lnTo>
                  <a:lnTo>
                    <a:pt x="799" y="3016"/>
                  </a:lnTo>
                  <a:lnTo>
                    <a:pt x="809" y="3012"/>
                  </a:lnTo>
                  <a:lnTo>
                    <a:pt x="825" y="3010"/>
                  </a:lnTo>
                  <a:lnTo>
                    <a:pt x="830" y="2999"/>
                  </a:lnTo>
                  <a:lnTo>
                    <a:pt x="836" y="2989"/>
                  </a:lnTo>
                  <a:lnTo>
                    <a:pt x="838" y="2981"/>
                  </a:lnTo>
                  <a:lnTo>
                    <a:pt x="842" y="2973"/>
                  </a:lnTo>
                  <a:lnTo>
                    <a:pt x="848" y="2960"/>
                  </a:lnTo>
                  <a:lnTo>
                    <a:pt x="856" y="2946"/>
                  </a:lnTo>
                  <a:lnTo>
                    <a:pt x="859" y="2935"/>
                  </a:lnTo>
                  <a:lnTo>
                    <a:pt x="863" y="2925"/>
                  </a:lnTo>
                  <a:lnTo>
                    <a:pt x="865" y="2915"/>
                  </a:lnTo>
                  <a:lnTo>
                    <a:pt x="867" y="2906"/>
                  </a:lnTo>
                  <a:lnTo>
                    <a:pt x="850" y="2896"/>
                  </a:lnTo>
                  <a:lnTo>
                    <a:pt x="836" y="2894"/>
                  </a:lnTo>
                  <a:lnTo>
                    <a:pt x="827" y="2880"/>
                  </a:lnTo>
                  <a:lnTo>
                    <a:pt x="815" y="2869"/>
                  </a:lnTo>
                  <a:lnTo>
                    <a:pt x="797" y="2861"/>
                  </a:lnTo>
                  <a:lnTo>
                    <a:pt x="786" y="2855"/>
                  </a:lnTo>
                  <a:lnTo>
                    <a:pt x="770" y="2847"/>
                  </a:lnTo>
                  <a:lnTo>
                    <a:pt x="757" y="2842"/>
                  </a:lnTo>
                  <a:lnTo>
                    <a:pt x="741" y="2838"/>
                  </a:lnTo>
                  <a:lnTo>
                    <a:pt x="728" y="2836"/>
                  </a:lnTo>
                  <a:lnTo>
                    <a:pt x="714" y="2834"/>
                  </a:lnTo>
                  <a:lnTo>
                    <a:pt x="702" y="2834"/>
                  </a:lnTo>
                  <a:lnTo>
                    <a:pt x="691" y="2830"/>
                  </a:lnTo>
                  <a:lnTo>
                    <a:pt x="679" y="2828"/>
                  </a:lnTo>
                  <a:lnTo>
                    <a:pt x="667" y="2826"/>
                  </a:lnTo>
                  <a:lnTo>
                    <a:pt x="656" y="2826"/>
                  </a:lnTo>
                  <a:lnTo>
                    <a:pt x="646" y="2820"/>
                  </a:lnTo>
                  <a:lnTo>
                    <a:pt x="636" y="2818"/>
                  </a:lnTo>
                  <a:lnTo>
                    <a:pt x="623" y="2814"/>
                  </a:lnTo>
                  <a:lnTo>
                    <a:pt x="611" y="2814"/>
                  </a:lnTo>
                  <a:lnTo>
                    <a:pt x="596" y="2810"/>
                  </a:lnTo>
                  <a:lnTo>
                    <a:pt x="580" y="2809"/>
                  </a:lnTo>
                  <a:lnTo>
                    <a:pt x="563" y="2807"/>
                  </a:lnTo>
                  <a:lnTo>
                    <a:pt x="545" y="2805"/>
                  </a:lnTo>
                  <a:lnTo>
                    <a:pt x="536" y="2795"/>
                  </a:lnTo>
                  <a:lnTo>
                    <a:pt x="530" y="2783"/>
                  </a:lnTo>
                  <a:lnTo>
                    <a:pt x="532" y="2774"/>
                  </a:lnTo>
                  <a:lnTo>
                    <a:pt x="534" y="2768"/>
                  </a:lnTo>
                  <a:lnTo>
                    <a:pt x="539" y="2762"/>
                  </a:lnTo>
                  <a:lnTo>
                    <a:pt x="551" y="2756"/>
                  </a:lnTo>
                  <a:lnTo>
                    <a:pt x="545" y="2748"/>
                  </a:lnTo>
                  <a:lnTo>
                    <a:pt x="534" y="2741"/>
                  </a:lnTo>
                  <a:lnTo>
                    <a:pt x="522" y="2733"/>
                  </a:lnTo>
                  <a:lnTo>
                    <a:pt x="508" y="2723"/>
                  </a:lnTo>
                  <a:lnTo>
                    <a:pt x="487" y="2710"/>
                  </a:lnTo>
                  <a:lnTo>
                    <a:pt x="460" y="2694"/>
                  </a:lnTo>
                  <a:lnTo>
                    <a:pt x="444" y="2688"/>
                  </a:lnTo>
                  <a:lnTo>
                    <a:pt x="431" y="2684"/>
                  </a:lnTo>
                  <a:lnTo>
                    <a:pt x="417" y="2681"/>
                  </a:lnTo>
                  <a:lnTo>
                    <a:pt x="404" y="2677"/>
                  </a:lnTo>
                  <a:lnTo>
                    <a:pt x="388" y="2671"/>
                  </a:lnTo>
                  <a:lnTo>
                    <a:pt x="377" y="2669"/>
                  </a:lnTo>
                  <a:lnTo>
                    <a:pt x="361" y="2663"/>
                  </a:lnTo>
                  <a:lnTo>
                    <a:pt x="349" y="2661"/>
                  </a:lnTo>
                  <a:lnTo>
                    <a:pt x="334" y="2661"/>
                  </a:lnTo>
                  <a:lnTo>
                    <a:pt x="322" y="2661"/>
                  </a:lnTo>
                  <a:lnTo>
                    <a:pt x="315" y="2677"/>
                  </a:lnTo>
                  <a:lnTo>
                    <a:pt x="307" y="2688"/>
                  </a:lnTo>
                  <a:lnTo>
                    <a:pt x="307" y="2704"/>
                  </a:lnTo>
                  <a:lnTo>
                    <a:pt x="307" y="2717"/>
                  </a:lnTo>
                  <a:lnTo>
                    <a:pt x="307" y="2723"/>
                  </a:lnTo>
                  <a:lnTo>
                    <a:pt x="311" y="2733"/>
                  </a:lnTo>
                  <a:lnTo>
                    <a:pt x="313" y="2745"/>
                  </a:lnTo>
                  <a:lnTo>
                    <a:pt x="318" y="2762"/>
                  </a:lnTo>
                  <a:lnTo>
                    <a:pt x="330" y="2779"/>
                  </a:lnTo>
                  <a:lnTo>
                    <a:pt x="344" y="2799"/>
                  </a:lnTo>
                  <a:lnTo>
                    <a:pt x="357" y="2816"/>
                  </a:lnTo>
                  <a:lnTo>
                    <a:pt x="371" y="2836"/>
                  </a:lnTo>
                  <a:lnTo>
                    <a:pt x="386" y="2851"/>
                  </a:lnTo>
                  <a:lnTo>
                    <a:pt x="404" y="2865"/>
                  </a:lnTo>
                  <a:lnTo>
                    <a:pt x="417" y="2874"/>
                  </a:lnTo>
                  <a:lnTo>
                    <a:pt x="433" y="2884"/>
                  </a:lnTo>
                  <a:lnTo>
                    <a:pt x="443" y="2892"/>
                  </a:lnTo>
                  <a:lnTo>
                    <a:pt x="454" y="2900"/>
                  </a:lnTo>
                  <a:lnTo>
                    <a:pt x="464" y="2906"/>
                  </a:lnTo>
                  <a:lnTo>
                    <a:pt x="475" y="2915"/>
                  </a:lnTo>
                  <a:lnTo>
                    <a:pt x="499" y="2927"/>
                  </a:lnTo>
                  <a:lnTo>
                    <a:pt x="520" y="2939"/>
                  </a:lnTo>
                  <a:lnTo>
                    <a:pt x="538" y="2948"/>
                  </a:lnTo>
                  <a:lnTo>
                    <a:pt x="555" y="2958"/>
                  </a:lnTo>
                  <a:lnTo>
                    <a:pt x="572" y="2964"/>
                  </a:lnTo>
                  <a:lnTo>
                    <a:pt x="596" y="2973"/>
                  </a:lnTo>
                  <a:lnTo>
                    <a:pt x="625" y="2985"/>
                  </a:lnTo>
                  <a:lnTo>
                    <a:pt x="666" y="3001"/>
                  </a:lnTo>
                  <a:lnTo>
                    <a:pt x="685" y="3006"/>
                  </a:lnTo>
                  <a:lnTo>
                    <a:pt x="706" y="3012"/>
                  </a:lnTo>
                  <a:lnTo>
                    <a:pt x="716" y="3014"/>
                  </a:lnTo>
                  <a:lnTo>
                    <a:pt x="728" y="3016"/>
                  </a:lnTo>
                  <a:lnTo>
                    <a:pt x="739" y="3018"/>
                  </a:lnTo>
                  <a:lnTo>
                    <a:pt x="751" y="3022"/>
                  </a:lnTo>
                  <a:close/>
                  <a:moveTo>
                    <a:pt x="2609" y="3004"/>
                  </a:moveTo>
                  <a:lnTo>
                    <a:pt x="2611" y="3004"/>
                  </a:lnTo>
                  <a:lnTo>
                    <a:pt x="2615" y="3004"/>
                  </a:lnTo>
                  <a:lnTo>
                    <a:pt x="2617" y="2995"/>
                  </a:lnTo>
                  <a:lnTo>
                    <a:pt x="2620" y="2989"/>
                  </a:lnTo>
                  <a:lnTo>
                    <a:pt x="2622" y="2979"/>
                  </a:lnTo>
                  <a:lnTo>
                    <a:pt x="2628" y="2971"/>
                  </a:lnTo>
                  <a:lnTo>
                    <a:pt x="2632" y="2954"/>
                  </a:lnTo>
                  <a:lnTo>
                    <a:pt x="2638" y="2935"/>
                  </a:lnTo>
                  <a:lnTo>
                    <a:pt x="2646" y="2904"/>
                  </a:lnTo>
                  <a:lnTo>
                    <a:pt x="2657" y="2869"/>
                  </a:lnTo>
                  <a:lnTo>
                    <a:pt x="2661" y="2853"/>
                  </a:lnTo>
                  <a:lnTo>
                    <a:pt x="2667" y="2840"/>
                  </a:lnTo>
                  <a:lnTo>
                    <a:pt x="2671" y="2824"/>
                  </a:lnTo>
                  <a:lnTo>
                    <a:pt x="2677" y="2812"/>
                  </a:lnTo>
                  <a:lnTo>
                    <a:pt x="2681" y="2799"/>
                  </a:lnTo>
                  <a:lnTo>
                    <a:pt x="2686" y="2785"/>
                  </a:lnTo>
                  <a:lnTo>
                    <a:pt x="2692" y="2774"/>
                  </a:lnTo>
                  <a:lnTo>
                    <a:pt x="2700" y="2762"/>
                  </a:lnTo>
                  <a:lnTo>
                    <a:pt x="2708" y="2746"/>
                  </a:lnTo>
                  <a:lnTo>
                    <a:pt x="2717" y="2733"/>
                  </a:lnTo>
                  <a:lnTo>
                    <a:pt x="2727" y="2717"/>
                  </a:lnTo>
                  <a:lnTo>
                    <a:pt x="2739" y="2704"/>
                  </a:lnTo>
                  <a:lnTo>
                    <a:pt x="2746" y="2688"/>
                  </a:lnTo>
                  <a:lnTo>
                    <a:pt x="2756" y="2675"/>
                  </a:lnTo>
                  <a:lnTo>
                    <a:pt x="2766" y="2663"/>
                  </a:lnTo>
                  <a:lnTo>
                    <a:pt x="2778" y="2651"/>
                  </a:lnTo>
                  <a:lnTo>
                    <a:pt x="2789" y="2638"/>
                  </a:lnTo>
                  <a:lnTo>
                    <a:pt x="2803" y="2626"/>
                  </a:lnTo>
                  <a:lnTo>
                    <a:pt x="2814" y="2615"/>
                  </a:lnTo>
                  <a:lnTo>
                    <a:pt x="2832" y="2603"/>
                  </a:lnTo>
                  <a:lnTo>
                    <a:pt x="2832" y="2589"/>
                  </a:lnTo>
                  <a:lnTo>
                    <a:pt x="2832" y="2578"/>
                  </a:lnTo>
                  <a:lnTo>
                    <a:pt x="2822" y="2560"/>
                  </a:lnTo>
                  <a:lnTo>
                    <a:pt x="2814" y="2543"/>
                  </a:lnTo>
                  <a:lnTo>
                    <a:pt x="2807" y="2525"/>
                  </a:lnTo>
                  <a:lnTo>
                    <a:pt x="2799" y="2510"/>
                  </a:lnTo>
                  <a:lnTo>
                    <a:pt x="2791" y="2492"/>
                  </a:lnTo>
                  <a:lnTo>
                    <a:pt x="2785" y="2475"/>
                  </a:lnTo>
                  <a:lnTo>
                    <a:pt x="2779" y="2457"/>
                  </a:lnTo>
                  <a:lnTo>
                    <a:pt x="2774" y="2440"/>
                  </a:lnTo>
                  <a:lnTo>
                    <a:pt x="2764" y="2436"/>
                  </a:lnTo>
                  <a:lnTo>
                    <a:pt x="2758" y="2434"/>
                  </a:lnTo>
                  <a:lnTo>
                    <a:pt x="2745" y="2444"/>
                  </a:lnTo>
                  <a:lnTo>
                    <a:pt x="2735" y="2452"/>
                  </a:lnTo>
                  <a:lnTo>
                    <a:pt x="2725" y="2459"/>
                  </a:lnTo>
                  <a:lnTo>
                    <a:pt x="2719" y="2467"/>
                  </a:lnTo>
                  <a:lnTo>
                    <a:pt x="2710" y="2475"/>
                  </a:lnTo>
                  <a:lnTo>
                    <a:pt x="2702" y="2485"/>
                  </a:lnTo>
                  <a:lnTo>
                    <a:pt x="2690" y="2496"/>
                  </a:lnTo>
                  <a:lnTo>
                    <a:pt x="2679" y="2514"/>
                  </a:lnTo>
                  <a:lnTo>
                    <a:pt x="2665" y="2531"/>
                  </a:lnTo>
                  <a:lnTo>
                    <a:pt x="2657" y="2547"/>
                  </a:lnTo>
                  <a:lnTo>
                    <a:pt x="2650" y="2560"/>
                  </a:lnTo>
                  <a:lnTo>
                    <a:pt x="2644" y="2576"/>
                  </a:lnTo>
                  <a:lnTo>
                    <a:pt x="2636" y="2591"/>
                  </a:lnTo>
                  <a:lnTo>
                    <a:pt x="2628" y="2613"/>
                  </a:lnTo>
                  <a:lnTo>
                    <a:pt x="2618" y="2638"/>
                  </a:lnTo>
                  <a:lnTo>
                    <a:pt x="2609" y="2673"/>
                  </a:lnTo>
                  <a:lnTo>
                    <a:pt x="2603" y="2696"/>
                  </a:lnTo>
                  <a:lnTo>
                    <a:pt x="2601" y="2715"/>
                  </a:lnTo>
                  <a:lnTo>
                    <a:pt x="2599" y="2731"/>
                  </a:lnTo>
                  <a:lnTo>
                    <a:pt x="2599" y="2748"/>
                  </a:lnTo>
                  <a:lnTo>
                    <a:pt x="2597" y="2766"/>
                  </a:lnTo>
                  <a:lnTo>
                    <a:pt x="2595" y="2787"/>
                  </a:lnTo>
                  <a:lnTo>
                    <a:pt x="2593" y="2812"/>
                  </a:lnTo>
                  <a:lnTo>
                    <a:pt x="2593" y="2847"/>
                  </a:lnTo>
                  <a:lnTo>
                    <a:pt x="2593" y="2884"/>
                  </a:lnTo>
                  <a:lnTo>
                    <a:pt x="2597" y="2915"/>
                  </a:lnTo>
                  <a:lnTo>
                    <a:pt x="2599" y="2937"/>
                  </a:lnTo>
                  <a:lnTo>
                    <a:pt x="2603" y="2954"/>
                  </a:lnTo>
                  <a:lnTo>
                    <a:pt x="2603" y="2966"/>
                  </a:lnTo>
                  <a:lnTo>
                    <a:pt x="2605" y="2979"/>
                  </a:lnTo>
                  <a:lnTo>
                    <a:pt x="2607" y="2991"/>
                  </a:lnTo>
                  <a:lnTo>
                    <a:pt x="2609" y="3004"/>
                  </a:lnTo>
                  <a:close/>
                  <a:moveTo>
                    <a:pt x="2124" y="2989"/>
                  </a:moveTo>
                  <a:lnTo>
                    <a:pt x="2139" y="2987"/>
                  </a:lnTo>
                  <a:lnTo>
                    <a:pt x="2155" y="2987"/>
                  </a:lnTo>
                  <a:lnTo>
                    <a:pt x="2172" y="2987"/>
                  </a:lnTo>
                  <a:lnTo>
                    <a:pt x="2190" y="2987"/>
                  </a:lnTo>
                  <a:lnTo>
                    <a:pt x="2205" y="2985"/>
                  </a:lnTo>
                  <a:lnTo>
                    <a:pt x="2223" y="2985"/>
                  </a:lnTo>
                  <a:lnTo>
                    <a:pt x="2238" y="2983"/>
                  </a:lnTo>
                  <a:lnTo>
                    <a:pt x="2256" y="2983"/>
                  </a:lnTo>
                  <a:lnTo>
                    <a:pt x="2267" y="2979"/>
                  </a:lnTo>
                  <a:lnTo>
                    <a:pt x="2279" y="2975"/>
                  </a:lnTo>
                  <a:lnTo>
                    <a:pt x="2291" y="2970"/>
                  </a:lnTo>
                  <a:lnTo>
                    <a:pt x="2308" y="2964"/>
                  </a:lnTo>
                  <a:lnTo>
                    <a:pt x="2320" y="2954"/>
                  </a:lnTo>
                  <a:lnTo>
                    <a:pt x="2331" y="2946"/>
                  </a:lnTo>
                  <a:lnTo>
                    <a:pt x="2343" y="2939"/>
                  </a:lnTo>
                  <a:lnTo>
                    <a:pt x="2357" y="2931"/>
                  </a:lnTo>
                  <a:lnTo>
                    <a:pt x="2370" y="2909"/>
                  </a:lnTo>
                  <a:lnTo>
                    <a:pt x="2386" y="2892"/>
                  </a:lnTo>
                  <a:lnTo>
                    <a:pt x="2397" y="2873"/>
                  </a:lnTo>
                  <a:lnTo>
                    <a:pt x="2415" y="2857"/>
                  </a:lnTo>
                  <a:lnTo>
                    <a:pt x="2421" y="2840"/>
                  </a:lnTo>
                  <a:lnTo>
                    <a:pt x="2426" y="2822"/>
                  </a:lnTo>
                  <a:lnTo>
                    <a:pt x="2432" y="2805"/>
                  </a:lnTo>
                  <a:lnTo>
                    <a:pt x="2438" y="2787"/>
                  </a:lnTo>
                  <a:lnTo>
                    <a:pt x="2444" y="2770"/>
                  </a:lnTo>
                  <a:lnTo>
                    <a:pt x="2450" y="2752"/>
                  </a:lnTo>
                  <a:lnTo>
                    <a:pt x="2458" y="2735"/>
                  </a:lnTo>
                  <a:lnTo>
                    <a:pt x="2467" y="2719"/>
                  </a:lnTo>
                  <a:lnTo>
                    <a:pt x="2467" y="2704"/>
                  </a:lnTo>
                  <a:lnTo>
                    <a:pt x="2469" y="2690"/>
                  </a:lnTo>
                  <a:lnTo>
                    <a:pt x="2471" y="2679"/>
                  </a:lnTo>
                  <a:lnTo>
                    <a:pt x="2475" y="2667"/>
                  </a:lnTo>
                  <a:lnTo>
                    <a:pt x="2477" y="2653"/>
                  </a:lnTo>
                  <a:lnTo>
                    <a:pt x="2481" y="2640"/>
                  </a:lnTo>
                  <a:lnTo>
                    <a:pt x="2483" y="2626"/>
                  </a:lnTo>
                  <a:lnTo>
                    <a:pt x="2489" y="2615"/>
                  </a:lnTo>
                  <a:lnTo>
                    <a:pt x="2489" y="2572"/>
                  </a:lnTo>
                  <a:lnTo>
                    <a:pt x="2492" y="2531"/>
                  </a:lnTo>
                  <a:lnTo>
                    <a:pt x="2494" y="2489"/>
                  </a:lnTo>
                  <a:lnTo>
                    <a:pt x="2498" y="2448"/>
                  </a:lnTo>
                  <a:lnTo>
                    <a:pt x="2500" y="2405"/>
                  </a:lnTo>
                  <a:lnTo>
                    <a:pt x="2504" y="2364"/>
                  </a:lnTo>
                  <a:lnTo>
                    <a:pt x="2508" y="2322"/>
                  </a:lnTo>
                  <a:lnTo>
                    <a:pt x="2514" y="2281"/>
                  </a:lnTo>
                  <a:lnTo>
                    <a:pt x="2500" y="2265"/>
                  </a:lnTo>
                  <a:lnTo>
                    <a:pt x="2492" y="2256"/>
                  </a:lnTo>
                  <a:lnTo>
                    <a:pt x="2479" y="2256"/>
                  </a:lnTo>
                  <a:lnTo>
                    <a:pt x="2471" y="2256"/>
                  </a:lnTo>
                  <a:lnTo>
                    <a:pt x="2463" y="2256"/>
                  </a:lnTo>
                  <a:lnTo>
                    <a:pt x="2452" y="2260"/>
                  </a:lnTo>
                  <a:lnTo>
                    <a:pt x="2446" y="2273"/>
                  </a:lnTo>
                  <a:lnTo>
                    <a:pt x="2442" y="2287"/>
                  </a:lnTo>
                  <a:lnTo>
                    <a:pt x="2436" y="2298"/>
                  </a:lnTo>
                  <a:lnTo>
                    <a:pt x="2432" y="2312"/>
                  </a:lnTo>
                  <a:lnTo>
                    <a:pt x="2426" y="2324"/>
                  </a:lnTo>
                  <a:lnTo>
                    <a:pt x="2421" y="2335"/>
                  </a:lnTo>
                  <a:lnTo>
                    <a:pt x="2417" y="2347"/>
                  </a:lnTo>
                  <a:lnTo>
                    <a:pt x="2415" y="2360"/>
                  </a:lnTo>
                  <a:lnTo>
                    <a:pt x="2401" y="2368"/>
                  </a:lnTo>
                  <a:lnTo>
                    <a:pt x="2390" y="2380"/>
                  </a:lnTo>
                  <a:lnTo>
                    <a:pt x="2378" y="2392"/>
                  </a:lnTo>
                  <a:lnTo>
                    <a:pt x="2366" y="2403"/>
                  </a:lnTo>
                  <a:lnTo>
                    <a:pt x="2353" y="2405"/>
                  </a:lnTo>
                  <a:lnTo>
                    <a:pt x="2339" y="2409"/>
                  </a:lnTo>
                  <a:lnTo>
                    <a:pt x="2331" y="2397"/>
                  </a:lnTo>
                  <a:lnTo>
                    <a:pt x="2324" y="2388"/>
                  </a:lnTo>
                  <a:lnTo>
                    <a:pt x="2318" y="2378"/>
                  </a:lnTo>
                  <a:lnTo>
                    <a:pt x="2314" y="2372"/>
                  </a:lnTo>
                  <a:lnTo>
                    <a:pt x="2308" y="2351"/>
                  </a:lnTo>
                  <a:lnTo>
                    <a:pt x="2308" y="2331"/>
                  </a:lnTo>
                  <a:lnTo>
                    <a:pt x="2304" y="2314"/>
                  </a:lnTo>
                  <a:lnTo>
                    <a:pt x="2302" y="2298"/>
                  </a:lnTo>
                  <a:lnTo>
                    <a:pt x="2300" y="2293"/>
                  </a:lnTo>
                  <a:lnTo>
                    <a:pt x="2298" y="2287"/>
                  </a:lnTo>
                  <a:lnTo>
                    <a:pt x="2297" y="2279"/>
                  </a:lnTo>
                  <a:lnTo>
                    <a:pt x="2297" y="2265"/>
                  </a:lnTo>
                  <a:lnTo>
                    <a:pt x="2295" y="2242"/>
                  </a:lnTo>
                  <a:lnTo>
                    <a:pt x="2295" y="2211"/>
                  </a:lnTo>
                  <a:lnTo>
                    <a:pt x="2293" y="2168"/>
                  </a:lnTo>
                  <a:lnTo>
                    <a:pt x="2293" y="2112"/>
                  </a:lnTo>
                  <a:lnTo>
                    <a:pt x="2285" y="2097"/>
                  </a:lnTo>
                  <a:lnTo>
                    <a:pt x="2283" y="2087"/>
                  </a:lnTo>
                  <a:lnTo>
                    <a:pt x="2269" y="2089"/>
                  </a:lnTo>
                  <a:lnTo>
                    <a:pt x="2262" y="2091"/>
                  </a:lnTo>
                  <a:lnTo>
                    <a:pt x="2252" y="2095"/>
                  </a:lnTo>
                  <a:lnTo>
                    <a:pt x="2244" y="2103"/>
                  </a:lnTo>
                  <a:lnTo>
                    <a:pt x="2233" y="2139"/>
                  </a:lnTo>
                  <a:lnTo>
                    <a:pt x="2223" y="2170"/>
                  </a:lnTo>
                  <a:lnTo>
                    <a:pt x="2215" y="2194"/>
                  </a:lnTo>
                  <a:lnTo>
                    <a:pt x="2209" y="2215"/>
                  </a:lnTo>
                  <a:lnTo>
                    <a:pt x="2202" y="2231"/>
                  </a:lnTo>
                  <a:lnTo>
                    <a:pt x="2196" y="2248"/>
                  </a:lnTo>
                  <a:lnTo>
                    <a:pt x="2188" y="2267"/>
                  </a:lnTo>
                  <a:lnTo>
                    <a:pt x="2182" y="2293"/>
                  </a:lnTo>
                  <a:lnTo>
                    <a:pt x="2170" y="2308"/>
                  </a:lnTo>
                  <a:lnTo>
                    <a:pt x="2161" y="2324"/>
                  </a:lnTo>
                  <a:lnTo>
                    <a:pt x="2151" y="2337"/>
                  </a:lnTo>
                  <a:lnTo>
                    <a:pt x="2145" y="2351"/>
                  </a:lnTo>
                  <a:lnTo>
                    <a:pt x="2132" y="2362"/>
                  </a:lnTo>
                  <a:lnTo>
                    <a:pt x="2120" y="2374"/>
                  </a:lnTo>
                  <a:lnTo>
                    <a:pt x="2108" y="2386"/>
                  </a:lnTo>
                  <a:lnTo>
                    <a:pt x="2097" y="2397"/>
                  </a:lnTo>
                  <a:lnTo>
                    <a:pt x="2083" y="2393"/>
                  </a:lnTo>
                  <a:lnTo>
                    <a:pt x="2072" y="2393"/>
                  </a:lnTo>
                  <a:lnTo>
                    <a:pt x="2068" y="2376"/>
                  </a:lnTo>
                  <a:lnTo>
                    <a:pt x="2066" y="2360"/>
                  </a:lnTo>
                  <a:lnTo>
                    <a:pt x="2056" y="2343"/>
                  </a:lnTo>
                  <a:lnTo>
                    <a:pt x="2048" y="2328"/>
                  </a:lnTo>
                  <a:lnTo>
                    <a:pt x="2042" y="2312"/>
                  </a:lnTo>
                  <a:lnTo>
                    <a:pt x="2037" y="2300"/>
                  </a:lnTo>
                  <a:lnTo>
                    <a:pt x="2031" y="2285"/>
                  </a:lnTo>
                  <a:lnTo>
                    <a:pt x="2025" y="2273"/>
                  </a:lnTo>
                  <a:lnTo>
                    <a:pt x="2019" y="2262"/>
                  </a:lnTo>
                  <a:lnTo>
                    <a:pt x="2013" y="2250"/>
                  </a:lnTo>
                  <a:lnTo>
                    <a:pt x="2000" y="2242"/>
                  </a:lnTo>
                  <a:lnTo>
                    <a:pt x="1986" y="2240"/>
                  </a:lnTo>
                  <a:lnTo>
                    <a:pt x="1978" y="2240"/>
                  </a:lnTo>
                  <a:lnTo>
                    <a:pt x="1975" y="2242"/>
                  </a:lnTo>
                  <a:lnTo>
                    <a:pt x="1971" y="2246"/>
                  </a:lnTo>
                  <a:lnTo>
                    <a:pt x="1965" y="2256"/>
                  </a:lnTo>
                  <a:lnTo>
                    <a:pt x="1955" y="2285"/>
                  </a:lnTo>
                  <a:lnTo>
                    <a:pt x="1949" y="2310"/>
                  </a:lnTo>
                  <a:lnTo>
                    <a:pt x="1944" y="2335"/>
                  </a:lnTo>
                  <a:lnTo>
                    <a:pt x="1940" y="2366"/>
                  </a:lnTo>
                  <a:lnTo>
                    <a:pt x="1932" y="2403"/>
                  </a:lnTo>
                  <a:lnTo>
                    <a:pt x="1924" y="2456"/>
                  </a:lnTo>
                  <a:lnTo>
                    <a:pt x="1914" y="2523"/>
                  </a:lnTo>
                  <a:lnTo>
                    <a:pt x="1903" y="2615"/>
                  </a:lnTo>
                  <a:lnTo>
                    <a:pt x="1903" y="2626"/>
                  </a:lnTo>
                  <a:lnTo>
                    <a:pt x="1903" y="2640"/>
                  </a:lnTo>
                  <a:lnTo>
                    <a:pt x="1903" y="2651"/>
                  </a:lnTo>
                  <a:lnTo>
                    <a:pt x="1905" y="2665"/>
                  </a:lnTo>
                  <a:lnTo>
                    <a:pt x="1905" y="2681"/>
                  </a:lnTo>
                  <a:lnTo>
                    <a:pt x="1909" y="2702"/>
                  </a:lnTo>
                  <a:lnTo>
                    <a:pt x="1913" y="2729"/>
                  </a:lnTo>
                  <a:lnTo>
                    <a:pt x="1918" y="2768"/>
                  </a:lnTo>
                  <a:lnTo>
                    <a:pt x="1930" y="2789"/>
                  </a:lnTo>
                  <a:lnTo>
                    <a:pt x="1942" y="2807"/>
                  </a:lnTo>
                  <a:lnTo>
                    <a:pt x="1951" y="2824"/>
                  </a:lnTo>
                  <a:lnTo>
                    <a:pt x="1963" y="2842"/>
                  </a:lnTo>
                  <a:lnTo>
                    <a:pt x="1975" y="2859"/>
                  </a:lnTo>
                  <a:lnTo>
                    <a:pt x="1990" y="2882"/>
                  </a:lnTo>
                  <a:lnTo>
                    <a:pt x="2010" y="2911"/>
                  </a:lnTo>
                  <a:lnTo>
                    <a:pt x="2039" y="2952"/>
                  </a:lnTo>
                  <a:lnTo>
                    <a:pt x="2048" y="2958"/>
                  </a:lnTo>
                  <a:lnTo>
                    <a:pt x="2056" y="2964"/>
                  </a:lnTo>
                  <a:lnTo>
                    <a:pt x="2064" y="2968"/>
                  </a:lnTo>
                  <a:lnTo>
                    <a:pt x="2074" y="2971"/>
                  </a:lnTo>
                  <a:lnTo>
                    <a:pt x="2079" y="2973"/>
                  </a:lnTo>
                  <a:lnTo>
                    <a:pt x="2091" y="2979"/>
                  </a:lnTo>
                  <a:lnTo>
                    <a:pt x="2105" y="2983"/>
                  </a:lnTo>
                  <a:lnTo>
                    <a:pt x="2124" y="2989"/>
                  </a:lnTo>
                  <a:close/>
                  <a:moveTo>
                    <a:pt x="2176" y="2937"/>
                  </a:moveTo>
                  <a:lnTo>
                    <a:pt x="2184" y="2939"/>
                  </a:lnTo>
                  <a:lnTo>
                    <a:pt x="2194" y="2940"/>
                  </a:lnTo>
                  <a:lnTo>
                    <a:pt x="2203" y="2940"/>
                  </a:lnTo>
                  <a:lnTo>
                    <a:pt x="2213" y="2942"/>
                  </a:lnTo>
                  <a:lnTo>
                    <a:pt x="2223" y="2937"/>
                  </a:lnTo>
                  <a:lnTo>
                    <a:pt x="2234" y="2933"/>
                  </a:lnTo>
                  <a:lnTo>
                    <a:pt x="2244" y="2927"/>
                  </a:lnTo>
                  <a:lnTo>
                    <a:pt x="2256" y="2923"/>
                  </a:lnTo>
                  <a:lnTo>
                    <a:pt x="2266" y="2917"/>
                  </a:lnTo>
                  <a:lnTo>
                    <a:pt x="2277" y="2911"/>
                  </a:lnTo>
                  <a:lnTo>
                    <a:pt x="2287" y="2907"/>
                  </a:lnTo>
                  <a:lnTo>
                    <a:pt x="2298" y="2906"/>
                  </a:lnTo>
                  <a:lnTo>
                    <a:pt x="2312" y="2892"/>
                  </a:lnTo>
                  <a:lnTo>
                    <a:pt x="2326" y="2880"/>
                  </a:lnTo>
                  <a:lnTo>
                    <a:pt x="2337" y="2869"/>
                  </a:lnTo>
                  <a:lnTo>
                    <a:pt x="2351" y="2857"/>
                  </a:lnTo>
                  <a:lnTo>
                    <a:pt x="2353" y="2845"/>
                  </a:lnTo>
                  <a:lnTo>
                    <a:pt x="2359" y="2836"/>
                  </a:lnTo>
                  <a:lnTo>
                    <a:pt x="2361" y="2824"/>
                  </a:lnTo>
                  <a:lnTo>
                    <a:pt x="2366" y="2814"/>
                  </a:lnTo>
                  <a:lnTo>
                    <a:pt x="2374" y="2803"/>
                  </a:lnTo>
                  <a:lnTo>
                    <a:pt x="2382" y="2789"/>
                  </a:lnTo>
                  <a:lnTo>
                    <a:pt x="2388" y="2776"/>
                  </a:lnTo>
                  <a:lnTo>
                    <a:pt x="2394" y="2768"/>
                  </a:lnTo>
                  <a:lnTo>
                    <a:pt x="2395" y="2752"/>
                  </a:lnTo>
                  <a:lnTo>
                    <a:pt x="2397" y="2739"/>
                  </a:lnTo>
                  <a:lnTo>
                    <a:pt x="2401" y="2719"/>
                  </a:lnTo>
                  <a:lnTo>
                    <a:pt x="2407" y="2694"/>
                  </a:lnTo>
                  <a:lnTo>
                    <a:pt x="2411" y="2651"/>
                  </a:lnTo>
                  <a:lnTo>
                    <a:pt x="2421" y="2595"/>
                  </a:lnTo>
                  <a:lnTo>
                    <a:pt x="2430" y="2514"/>
                  </a:lnTo>
                  <a:lnTo>
                    <a:pt x="2446" y="2409"/>
                  </a:lnTo>
                  <a:lnTo>
                    <a:pt x="2432" y="2411"/>
                  </a:lnTo>
                  <a:lnTo>
                    <a:pt x="2430" y="2413"/>
                  </a:lnTo>
                  <a:lnTo>
                    <a:pt x="2421" y="2419"/>
                  </a:lnTo>
                  <a:lnTo>
                    <a:pt x="2413" y="2426"/>
                  </a:lnTo>
                  <a:lnTo>
                    <a:pt x="2405" y="2430"/>
                  </a:lnTo>
                  <a:lnTo>
                    <a:pt x="2397" y="2438"/>
                  </a:lnTo>
                  <a:lnTo>
                    <a:pt x="2386" y="2448"/>
                  </a:lnTo>
                  <a:lnTo>
                    <a:pt x="2372" y="2461"/>
                  </a:lnTo>
                  <a:lnTo>
                    <a:pt x="2361" y="2461"/>
                  </a:lnTo>
                  <a:lnTo>
                    <a:pt x="2351" y="2463"/>
                  </a:lnTo>
                  <a:lnTo>
                    <a:pt x="2339" y="2465"/>
                  </a:lnTo>
                  <a:lnTo>
                    <a:pt x="2330" y="2467"/>
                  </a:lnTo>
                  <a:lnTo>
                    <a:pt x="2320" y="2457"/>
                  </a:lnTo>
                  <a:lnTo>
                    <a:pt x="2310" y="2450"/>
                  </a:lnTo>
                  <a:lnTo>
                    <a:pt x="2300" y="2442"/>
                  </a:lnTo>
                  <a:lnTo>
                    <a:pt x="2293" y="2434"/>
                  </a:lnTo>
                  <a:lnTo>
                    <a:pt x="2287" y="2423"/>
                  </a:lnTo>
                  <a:lnTo>
                    <a:pt x="2281" y="2413"/>
                  </a:lnTo>
                  <a:lnTo>
                    <a:pt x="2275" y="2403"/>
                  </a:lnTo>
                  <a:lnTo>
                    <a:pt x="2271" y="2393"/>
                  </a:lnTo>
                  <a:lnTo>
                    <a:pt x="2267" y="2376"/>
                  </a:lnTo>
                  <a:lnTo>
                    <a:pt x="2266" y="2360"/>
                  </a:lnTo>
                  <a:lnTo>
                    <a:pt x="2264" y="2345"/>
                  </a:lnTo>
                  <a:lnTo>
                    <a:pt x="2264" y="2331"/>
                  </a:lnTo>
                  <a:lnTo>
                    <a:pt x="2260" y="2316"/>
                  </a:lnTo>
                  <a:lnTo>
                    <a:pt x="2258" y="2300"/>
                  </a:lnTo>
                  <a:lnTo>
                    <a:pt x="2256" y="2285"/>
                  </a:lnTo>
                  <a:lnTo>
                    <a:pt x="2256" y="2271"/>
                  </a:lnTo>
                  <a:lnTo>
                    <a:pt x="2246" y="2273"/>
                  </a:lnTo>
                  <a:lnTo>
                    <a:pt x="2240" y="2277"/>
                  </a:lnTo>
                  <a:lnTo>
                    <a:pt x="2240" y="2287"/>
                  </a:lnTo>
                  <a:lnTo>
                    <a:pt x="2240" y="2298"/>
                  </a:lnTo>
                  <a:lnTo>
                    <a:pt x="2231" y="2310"/>
                  </a:lnTo>
                  <a:lnTo>
                    <a:pt x="2223" y="2326"/>
                  </a:lnTo>
                  <a:lnTo>
                    <a:pt x="2215" y="2337"/>
                  </a:lnTo>
                  <a:lnTo>
                    <a:pt x="2207" y="2353"/>
                  </a:lnTo>
                  <a:lnTo>
                    <a:pt x="2198" y="2366"/>
                  </a:lnTo>
                  <a:lnTo>
                    <a:pt x="2192" y="2382"/>
                  </a:lnTo>
                  <a:lnTo>
                    <a:pt x="2182" y="2395"/>
                  </a:lnTo>
                  <a:lnTo>
                    <a:pt x="2176" y="2413"/>
                  </a:lnTo>
                  <a:lnTo>
                    <a:pt x="2163" y="2421"/>
                  </a:lnTo>
                  <a:lnTo>
                    <a:pt x="2149" y="2430"/>
                  </a:lnTo>
                  <a:lnTo>
                    <a:pt x="2136" y="2440"/>
                  </a:lnTo>
                  <a:lnTo>
                    <a:pt x="2124" y="2450"/>
                  </a:lnTo>
                  <a:lnTo>
                    <a:pt x="2110" y="2450"/>
                  </a:lnTo>
                  <a:lnTo>
                    <a:pt x="2099" y="2450"/>
                  </a:lnTo>
                  <a:lnTo>
                    <a:pt x="2087" y="2450"/>
                  </a:lnTo>
                  <a:lnTo>
                    <a:pt x="2075" y="2450"/>
                  </a:lnTo>
                  <a:lnTo>
                    <a:pt x="2066" y="2446"/>
                  </a:lnTo>
                  <a:lnTo>
                    <a:pt x="2056" y="2442"/>
                  </a:lnTo>
                  <a:lnTo>
                    <a:pt x="2046" y="2440"/>
                  </a:lnTo>
                  <a:lnTo>
                    <a:pt x="2039" y="2440"/>
                  </a:lnTo>
                  <a:lnTo>
                    <a:pt x="2031" y="2432"/>
                  </a:lnTo>
                  <a:lnTo>
                    <a:pt x="2023" y="2425"/>
                  </a:lnTo>
                  <a:lnTo>
                    <a:pt x="2015" y="2407"/>
                  </a:lnTo>
                  <a:lnTo>
                    <a:pt x="2010" y="2392"/>
                  </a:lnTo>
                  <a:lnTo>
                    <a:pt x="2004" y="2376"/>
                  </a:lnTo>
                  <a:lnTo>
                    <a:pt x="1998" y="2360"/>
                  </a:lnTo>
                  <a:lnTo>
                    <a:pt x="1992" y="2360"/>
                  </a:lnTo>
                  <a:lnTo>
                    <a:pt x="1986" y="2360"/>
                  </a:lnTo>
                  <a:lnTo>
                    <a:pt x="1982" y="2378"/>
                  </a:lnTo>
                  <a:lnTo>
                    <a:pt x="1980" y="2395"/>
                  </a:lnTo>
                  <a:lnTo>
                    <a:pt x="1977" y="2413"/>
                  </a:lnTo>
                  <a:lnTo>
                    <a:pt x="1975" y="2430"/>
                  </a:lnTo>
                  <a:lnTo>
                    <a:pt x="1971" y="2446"/>
                  </a:lnTo>
                  <a:lnTo>
                    <a:pt x="1969" y="2463"/>
                  </a:lnTo>
                  <a:lnTo>
                    <a:pt x="1965" y="2481"/>
                  </a:lnTo>
                  <a:lnTo>
                    <a:pt x="1965" y="2498"/>
                  </a:lnTo>
                  <a:lnTo>
                    <a:pt x="1961" y="2514"/>
                  </a:lnTo>
                  <a:lnTo>
                    <a:pt x="1959" y="2529"/>
                  </a:lnTo>
                  <a:lnTo>
                    <a:pt x="1957" y="2545"/>
                  </a:lnTo>
                  <a:lnTo>
                    <a:pt x="1957" y="2560"/>
                  </a:lnTo>
                  <a:lnTo>
                    <a:pt x="1955" y="2576"/>
                  </a:lnTo>
                  <a:lnTo>
                    <a:pt x="1955" y="2591"/>
                  </a:lnTo>
                  <a:lnTo>
                    <a:pt x="1955" y="2607"/>
                  </a:lnTo>
                  <a:lnTo>
                    <a:pt x="1955" y="2624"/>
                  </a:lnTo>
                  <a:lnTo>
                    <a:pt x="1955" y="2636"/>
                  </a:lnTo>
                  <a:lnTo>
                    <a:pt x="1955" y="2651"/>
                  </a:lnTo>
                  <a:lnTo>
                    <a:pt x="1955" y="2663"/>
                  </a:lnTo>
                  <a:lnTo>
                    <a:pt x="1957" y="2679"/>
                  </a:lnTo>
                  <a:lnTo>
                    <a:pt x="1957" y="2692"/>
                  </a:lnTo>
                  <a:lnTo>
                    <a:pt x="1959" y="2706"/>
                  </a:lnTo>
                  <a:lnTo>
                    <a:pt x="1961" y="2719"/>
                  </a:lnTo>
                  <a:lnTo>
                    <a:pt x="1965" y="2735"/>
                  </a:lnTo>
                  <a:lnTo>
                    <a:pt x="1969" y="2745"/>
                  </a:lnTo>
                  <a:lnTo>
                    <a:pt x="1973" y="2756"/>
                  </a:lnTo>
                  <a:lnTo>
                    <a:pt x="1975" y="2766"/>
                  </a:lnTo>
                  <a:lnTo>
                    <a:pt x="1977" y="2778"/>
                  </a:lnTo>
                  <a:lnTo>
                    <a:pt x="1988" y="2795"/>
                  </a:lnTo>
                  <a:lnTo>
                    <a:pt x="2000" y="2810"/>
                  </a:lnTo>
                  <a:lnTo>
                    <a:pt x="2008" y="2822"/>
                  </a:lnTo>
                  <a:lnTo>
                    <a:pt x="2017" y="2834"/>
                  </a:lnTo>
                  <a:lnTo>
                    <a:pt x="2025" y="2843"/>
                  </a:lnTo>
                  <a:lnTo>
                    <a:pt x="2035" y="2855"/>
                  </a:lnTo>
                  <a:lnTo>
                    <a:pt x="2046" y="2869"/>
                  </a:lnTo>
                  <a:lnTo>
                    <a:pt x="2066" y="2888"/>
                  </a:lnTo>
                  <a:lnTo>
                    <a:pt x="2077" y="2898"/>
                  </a:lnTo>
                  <a:lnTo>
                    <a:pt x="2089" y="2909"/>
                  </a:lnTo>
                  <a:lnTo>
                    <a:pt x="2101" y="2919"/>
                  </a:lnTo>
                  <a:lnTo>
                    <a:pt x="2118" y="2931"/>
                  </a:lnTo>
                  <a:lnTo>
                    <a:pt x="2134" y="2933"/>
                  </a:lnTo>
                  <a:lnTo>
                    <a:pt x="2143" y="2935"/>
                  </a:lnTo>
                  <a:lnTo>
                    <a:pt x="2153" y="2933"/>
                  </a:lnTo>
                  <a:lnTo>
                    <a:pt x="2170" y="2931"/>
                  </a:lnTo>
                  <a:lnTo>
                    <a:pt x="2170" y="2933"/>
                  </a:lnTo>
                  <a:lnTo>
                    <a:pt x="2176" y="2937"/>
                  </a:lnTo>
                  <a:close/>
                  <a:moveTo>
                    <a:pt x="3101" y="2869"/>
                  </a:moveTo>
                  <a:lnTo>
                    <a:pt x="3119" y="2863"/>
                  </a:lnTo>
                  <a:lnTo>
                    <a:pt x="3136" y="2863"/>
                  </a:lnTo>
                  <a:lnTo>
                    <a:pt x="3154" y="2859"/>
                  </a:lnTo>
                  <a:lnTo>
                    <a:pt x="3175" y="2857"/>
                  </a:lnTo>
                  <a:lnTo>
                    <a:pt x="3169" y="2847"/>
                  </a:lnTo>
                  <a:lnTo>
                    <a:pt x="3169" y="2838"/>
                  </a:lnTo>
                  <a:lnTo>
                    <a:pt x="3169" y="2828"/>
                  </a:lnTo>
                  <a:lnTo>
                    <a:pt x="3169" y="2820"/>
                  </a:lnTo>
                  <a:lnTo>
                    <a:pt x="3154" y="2789"/>
                  </a:lnTo>
                  <a:lnTo>
                    <a:pt x="3142" y="2766"/>
                  </a:lnTo>
                  <a:lnTo>
                    <a:pt x="3134" y="2748"/>
                  </a:lnTo>
                  <a:lnTo>
                    <a:pt x="3129" y="2737"/>
                  </a:lnTo>
                  <a:lnTo>
                    <a:pt x="3123" y="2725"/>
                  </a:lnTo>
                  <a:lnTo>
                    <a:pt x="3117" y="2715"/>
                  </a:lnTo>
                  <a:lnTo>
                    <a:pt x="3111" y="2704"/>
                  </a:lnTo>
                  <a:lnTo>
                    <a:pt x="3105" y="2694"/>
                  </a:lnTo>
                  <a:lnTo>
                    <a:pt x="3092" y="2694"/>
                  </a:lnTo>
                  <a:lnTo>
                    <a:pt x="3084" y="2694"/>
                  </a:lnTo>
                  <a:lnTo>
                    <a:pt x="3070" y="2696"/>
                  </a:lnTo>
                  <a:lnTo>
                    <a:pt x="3057" y="2700"/>
                  </a:lnTo>
                  <a:lnTo>
                    <a:pt x="3045" y="2704"/>
                  </a:lnTo>
                  <a:lnTo>
                    <a:pt x="3037" y="2710"/>
                  </a:lnTo>
                  <a:lnTo>
                    <a:pt x="3037" y="2721"/>
                  </a:lnTo>
                  <a:lnTo>
                    <a:pt x="3037" y="2733"/>
                  </a:lnTo>
                  <a:lnTo>
                    <a:pt x="3037" y="2745"/>
                  </a:lnTo>
                  <a:lnTo>
                    <a:pt x="3037" y="2756"/>
                  </a:lnTo>
                  <a:lnTo>
                    <a:pt x="3043" y="2768"/>
                  </a:lnTo>
                  <a:lnTo>
                    <a:pt x="3053" y="2783"/>
                  </a:lnTo>
                  <a:lnTo>
                    <a:pt x="3059" y="2797"/>
                  </a:lnTo>
                  <a:lnTo>
                    <a:pt x="3068" y="2812"/>
                  </a:lnTo>
                  <a:lnTo>
                    <a:pt x="3076" y="2824"/>
                  </a:lnTo>
                  <a:lnTo>
                    <a:pt x="3084" y="2840"/>
                  </a:lnTo>
                  <a:lnTo>
                    <a:pt x="3092" y="2853"/>
                  </a:lnTo>
                  <a:lnTo>
                    <a:pt x="3101" y="2869"/>
                  </a:lnTo>
                  <a:close/>
                  <a:moveTo>
                    <a:pt x="3691" y="2847"/>
                  </a:moveTo>
                  <a:lnTo>
                    <a:pt x="3693" y="2849"/>
                  </a:lnTo>
                  <a:lnTo>
                    <a:pt x="3697" y="2851"/>
                  </a:lnTo>
                  <a:lnTo>
                    <a:pt x="3697" y="2843"/>
                  </a:lnTo>
                  <a:lnTo>
                    <a:pt x="3697" y="2836"/>
                  </a:lnTo>
                  <a:lnTo>
                    <a:pt x="3689" y="2828"/>
                  </a:lnTo>
                  <a:lnTo>
                    <a:pt x="3687" y="2824"/>
                  </a:lnTo>
                  <a:lnTo>
                    <a:pt x="3683" y="2816"/>
                  </a:lnTo>
                  <a:lnTo>
                    <a:pt x="3681" y="2805"/>
                  </a:lnTo>
                  <a:lnTo>
                    <a:pt x="3672" y="2803"/>
                  </a:lnTo>
                  <a:lnTo>
                    <a:pt x="3660" y="2799"/>
                  </a:lnTo>
                  <a:lnTo>
                    <a:pt x="3646" y="2778"/>
                  </a:lnTo>
                  <a:lnTo>
                    <a:pt x="3635" y="2762"/>
                  </a:lnTo>
                  <a:lnTo>
                    <a:pt x="3625" y="2748"/>
                  </a:lnTo>
                  <a:lnTo>
                    <a:pt x="3617" y="2735"/>
                  </a:lnTo>
                  <a:lnTo>
                    <a:pt x="3604" y="2717"/>
                  </a:lnTo>
                  <a:lnTo>
                    <a:pt x="3586" y="2698"/>
                  </a:lnTo>
                  <a:lnTo>
                    <a:pt x="3565" y="2671"/>
                  </a:lnTo>
                  <a:lnTo>
                    <a:pt x="3540" y="2640"/>
                  </a:lnTo>
                  <a:lnTo>
                    <a:pt x="3540" y="2632"/>
                  </a:lnTo>
                  <a:lnTo>
                    <a:pt x="3540" y="2624"/>
                  </a:lnTo>
                  <a:lnTo>
                    <a:pt x="3524" y="2617"/>
                  </a:lnTo>
                  <a:lnTo>
                    <a:pt x="3513" y="2615"/>
                  </a:lnTo>
                  <a:lnTo>
                    <a:pt x="3507" y="2603"/>
                  </a:lnTo>
                  <a:lnTo>
                    <a:pt x="3501" y="2597"/>
                  </a:lnTo>
                  <a:lnTo>
                    <a:pt x="3493" y="2587"/>
                  </a:lnTo>
                  <a:lnTo>
                    <a:pt x="3485" y="2580"/>
                  </a:lnTo>
                  <a:lnTo>
                    <a:pt x="3470" y="2566"/>
                  </a:lnTo>
                  <a:lnTo>
                    <a:pt x="3450" y="2549"/>
                  </a:lnTo>
                  <a:lnTo>
                    <a:pt x="3423" y="2525"/>
                  </a:lnTo>
                  <a:lnTo>
                    <a:pt x="3390" y="2498"/>
                  </a:lnTo>
                  <a:lnTo>
                    <a:pt x="3379" y="2489"/>
                  </a:lnTo>
                  <a:lnTo>
                    <a:pt x="3369" y="2481"/>
                  </a:lnTo>
                  <a:lnTo>
                    <a:pt x="3357" y="2473"/>
                  </a:lnTo>
                  <a:lnTo>
                    <a:pt x="3348" y="2465"/>
                  </a:lnTo>
                  <a:lnTo>
                    <a:pt x="3336" y="2456"/>
                  </a:lnTo>
                  <a:lnTo>
                    <a:pt x="3326" y="2450"/>
                  </a:lnTo>
                  <a:lnTo>
                    <a:pt x="3315" y="2440"/>
                  </a:lnTo>
                  <a:lnTo>
                    <a:pt x="3307" y="2434"/>
                  </a:lnTo>
                  <a:lnTo>
                    <a:pt x="3290" y="2425"/>
                  </a:lnTo>
                  <a:lnTo>
                    <a:pt x="3272" y="2417"/>
                  </a:lnTo>
                  <a:lnTo>
                    <a:pt x="3255" y="2411"/>
                  </a:lnTo>
                  <a:lnTo>
                    <a:pt x="3239" y="2405"/>
                  </a:lnTo>
                  <a:lnTo>
                    <a:pt x="3222" y="2397"/>
                  </a:lnTo>
                  <a:lnTo>
                    <a:pt x="3206" y="2390"/>
                  </a:lnTo>
                  <a:lnTo>
                    <a:pt x="3189" y="2382"/>
                  </a:lnTo>
                  <a:lnTo>
                    <a:pt x="3175" y="2376"/>
                  </a:lnTo>
                  <a:lnTo>
                    <a:pt x="3171" y="2380"/>
                  </a:lnTo>
                  <a:lnTo>
                    <a:pt x="3171" y="2386"/>
                  </a:lnTo>
                  <a:lnTo>
                    <a:pt x="3169" y="2393"/>
                  </a:lnTo>
                  <a:lnTo>
                    <a:pt x="3173" y="2409"/>
                  </a:lnTo>
                  <a:lnTo>
                    <a:pt x="3173" y="2426"/>
                  </a:lnTo>
                  <a:lnTo>
                    <a:pt x="3179" y="2456"/>
                  </a:lnTo>
                  <a:lnTo>
                    <a:pt x="3185" y="2492"/>
                  </a:lnTo>
                  <a:lnTo>
                    <a:pt x="3196" y="2545"/>
                  </a:lnTo>
                  <a:lnTo>
                    <a:pt x="3210" y="2551"/>
                  </a:lnTo>
                  <a:lnTo>
                    <a:pt x="3227" y="2556"/>
                  </a:lnTo>
                  <a:lnTo>
                    <a:pt x="3245" y="2562"/>
                  </a:lnTo>
                  <a:lnTo>
                    <a:pt x="3268" y="2572"/>
                  </a:lnTo>
                  <a:lnTo>
                    <a:pt x="3290" y="2578"/>
                  </a:lnTo>
                  <a:lnTo>
                    <a:pt x="3315" y="2589"/>
                  </a:lnTo>
                  <a:lnTo>
                    <a:pt x="3344" y="2599"/>
                  </a:lnTo>
                  <a:lnTo>
                    <a:pt x="3375" y="2615"/>
                  </a:lnTo>
                  <a:lnTo>
                    <a:pt x="3396" y="2626"/>
                  </a:lnTo>
                  <a:lnTo>
                    <a:pt x="3418" y="2640"/>
                  </a:lnTo>
                  <a:lnTo>
                    <a:pt x="3439" y="2651"/>
                  </a:lnTo>
                  <a:lnTo>
                    <a:pt x="3460" y="2665"/>
                  </a:lnTo>
                  <a:lnTo>
                    <a:pt x="3480" y="2677"/>
                  </a:lnTo>
                  <a:lnTo>
                    <a:pt x="3501" y="2690"/>
                  </a:lnTo>
                  <a:lnTo>
                    <a:pt x="3522" y="2702"/>
                  </a:lnTo>
                  <a:lnTo>
                    <a:pt x="3544" y="2715"/>
                  </a:lnTo>
                  <a:lnTo>
                    <a:pt x="3553" y="2725"/>
                  </a:lnTo>
                  <a:lnTo>
                    <a:pt x="3571" y="2739"/>
                  </a:lnTo>
                  <a:lnTo>
                    <a:pt x="3588" y="2756"/>
                  </a:lnTo>
                  <a:lnTo>
                    <a:pt x="3611" y="2774"/>
                  </a:lnTo>
                  <a:lnTo>
                    <a:pt x="3633" y="2791"/>
                  </a:lnTo>
                  <a:lnTo>
                    <a:pt x="3654" y="2810"/>
                  </a:lnTo>
                  <a:lnTo>
                    <a:pt x="3672" y="2828"/>
                  </a:lnTo>
                  <a:lnTo>
                    <a:pt x="3691" y="2847"/>
                  </a:lnTo>
                  <a:close/>
                  <a:moveTo>
                    <a:pt x="846" y="2725"/>
                  </a:moveTo>
                  <a:lnTo>
                    <a:pt x="854" y="2719"/>
                  </a:lnTo>
                  <a:lnTo>
                    <a:pt x="861" y="2715"/>
                  </a:lnTo>
                  <a:lnTo>
                    <a:pt x="867" y="2690"/>
                  </a:lnTo>
                  <a:lnTo>
                    <a:pt x="873" y="2671"/>
                  </a:lnTo>
                  <a:lnTo>
                    <a:pt x="879" y="2653"/>
                  </a:lnTo>
                  <a:lnTo>
                    <a:pt x="887" y="2638"/>
                  </a:lnTo>
                  <a:lnTo>
                    <a:pt x="892" y="2622"/>
                  </a:lnTo>
                  <a:lnTo>
                    <a:pt x="898" y="2607"/>
                  </a:lnTo>
                  <a:lnTo>
                    <a:pt x="904" y="2589"/>
                  </a:lnTo>
                  <a:lnTo>
                    <a:pt x="914" y="2572"/>
                  </a:lnTo>
                  <a:lnTo>
                    <a:pt x="918" y="2558"/>
                  </a:lnTo>
                  <a:lnTo>
                    <a:pt x="923" y="2547"/>
                  </a:lnTo>
                  <a:lnTo>
                    <a:pt x="927" y="2537"/>
                  </a:lnTo>
                  <a:lnTo>
                    <a:pt x="935" y="2527"/>
                  </a:lnTo>
                  <a:lnTo>
                    <a:pt x="943" y="2514"/>
                  </a:lnTo>
                  <a:lnTo>
                    <a:pt x="956" y="2496"/>
                  </a:lnTo>
                  <a:lnTo>
                    <a:pt x="972" y="2473"/>
                  </a:lnTo>
                  <a:lnTo>
                    <a:pt x="993" y="2446"/>
                  </a:lnTo>
                  <a:lnTo>
                    <a:pt x="1003" y="2442"/>
                  </a:lnTo>
                  <a:lnTo>
                    <a:pt x="1015" y="2440"/>
                  </a:lnTo>
                  <a:lnTo>
                    <a:pt x="1009" y="2426"/>
                  </a:lnTo>
                  <a:lnTo>
                    <a:pt x="1009" y="2421"/>
                  </a:lnTo>
                  <a:lnTo>
                    <a:pt x="1007" y="2415"/>
                  </a:lnTo>
                  <a:lnTo>
                    <a:pt x="1005" y="2413"/>
                  </a:lnTo>
                  <a:lnTo>
                    <a:pt x="1001" y="2401"/>
                  </a:lnTo>
                  <a:lnTo>
                    <a:pt x="997" y="2393"/>
                  </a:lnTo>
                  <a:lnTo>
                    <a:pt x="991" y="2380"/>
                  </a:lnTo>
                  <a:lnTo>
                    <a:pt x="987" y="2368"/>
                  </a:lnTo>
                  <a:lnTo>
                    <a:pt x="978" y="2349"/>
                  </a:lnTo>
                  <a:lnTo>
                    <a:pt x="968" y="2326"/>
                  </a:lnTo>
                  <a:lnTo>
                    <a:pt x="955" y="2295"/>
                  </a:lnTo>
                  <a:lnTo>
                    <a:pt x="941" y="2260"/>
                  </a:lnTo>
                  <a:lnTo>
                    <a:pt x="933" y="2260"/>
                  </a:lnTo>
                  <a:lnTo>
                    <a:pt x="925" y="2260"/>
                  </a:lnTo>
                  <a:lnTo>
                    <a:pt x="914" y="2273"/>
                  </a:lnTo>
                  <a:lnTo>
                    <a:pt x="904" y="2287"/>
                  </a:lnTo>
                  <a:lnTo>
                    <a:pt x="894" y="2300"/>
                  </a:lnTo>
                  <a:lnTo>
                    <a:pt x="887" y="2316"/>
                  </a:lnTo>
                  <a:lnTo>
                    <a:pt x="877" y="2329"/>
                  </a:lnTo>
                  <a:lnTo>
                    <a:pt x="869" y="2343"/>
                  </a:lnTo>
                  <a:lnTo>
                    <a:pt x="859" y="2357"/>
                  </a:lnTo>
                  <a:lnTo>
                    <a:pt x="852" y="2372"/>
                  </a:lnTo>
                  <a:lnTo>
                    <a:pt x="846" y="2386"/>
                  </a:lnTo>
                  <a:lnTo>
                    <a:pt x="842" y="2403"/>
                  </a:lnTo>
                  <a:lnTo>
                    <a:pt x="838" y="2417"/>
                  </a:lnTo>
                  <a:lnTo>
                    <a:pt x="836" y="2434"/>
                  </a:lnTo>
                  <a:lnTo>
                    <a:pt x="832" y="2452"/>
                  </a:lnTo>
                  <a:lnTo>
                    <a:pt x="830" y="2469"/>
                  </a:lnTo>
                  <a:lnTo>
                    <a:pt x="830" y="2487"/>
                  </a:lnTo>
                  <a:lnTo>
                    <a:pt x="830" y="2506"/>
                  </a:lnTo>
                  <a:lnTo>
                    <a:pt x="830" y="2523"/>
                  </a:lnTo>
                  <a:lnTo>
                    <a:pt x="830" y="2541"/>
                  </a:lnTo>
                  <a:lnTo>
                    <a:pt x="830" y="2558"/>
                  </a:lnTo>
                  <a:lnTo>
                    <a:pt x="830" y="2578"/>
                  </a:lnTo>
                  <a:lnTo>
                    <a:pt x="830" y="2595"/>
                  </a:lnTo>
                  <a:lnTo>
                    <a:pt x="832" y="2613"/>
                  </a:lnTo>
                  <a:lnTo>
                    <a:pt x="834" y="2630"/>
                  </a:lnTo>
                  <a:lnTo>
                    <a:pt x="838" y="2648"/>
                  </a:lnTo>
                  <a:lnTo>
                    <a:pt x="838" y="2665"/>
                  </a:lnTo>
                  <a:lnTo>
                    <a:pt x="840" y="2684"/>
                  </a:lnTo>
                  <a:lnTo>
                    <a:pt x="842" y="2704"/>
                  </a:lnTo>
                  <a:lnTo>
                    <a:pt x="846" y="2725"/>
                  </a:lnTo>
                  <a:close/>
                  <a:moveTo>
                    <a:pt x="4837" y="2694"/>
                  </a:moveTo>
                  <a:lnTo>
                    <a:pt x="4845" y="2696"/>
                  </a:lnTo>
                  <a:lnTo>
                    <a:pt x="4853" y="2698"/>
                  </a:lnTo>
                  <a:lnTo>
                    <a:pt x="4868" y="2694"/>
                  </a:lnTo>
                  <a:lnTo>
                    <a:pt x="4878" y="2690"/>
                  </a:lnTo>
                  <a:lnTo>
                    <a:pt x="4886" y="2684"/>
                  </a:lnTo>
                  <a:lnTo>
                    <a:pt x="4901" y="2673"/>
                  </a:lnTo>
                  <a:lnTo>
                    <a:pt x="4897" y="2663"/>
                  </a:lnTo>
                  <a:lnTo>
                    <a:pt x="4895" y="2657"/>
                  </a:lnTo>
                  <a:lnTo>
                    <a:pt x="4884" y="2651"/>
                  </a:lnTo>
                  <a:lnTo>
                    <a:pt x="4872" y="2651"/>
                  </a:lnTo>
                  <a:lnTo>
                    <a:pt x="4860" y="2648"/>
                  </a:lnTo>
                  <a:lnTo>
                    <a:pt x="4849" y="2646"/>
                  </a:lnTo>
                  <a:lnTo>
                    <a:pt x="4696" y="2640"/>
                  </a:lnTo>
                  <a:lnTo>
                    <a:pt x="4579" y="2636"/>
                  </a:lnTo>
                  <a:lnTo>
                    <a:pt x="4492" y="2632"/>
                  </a:lnTo>
                  <a:lnTo>
                    <a:pt x="4428" y="2632"/>
                  </a:lnTo>
                  <a:lnTo>
                    <a:pt x="4376" y="2630"/>
                  </a:lnTo>
                  <a:lnTo>
                    <a:pt x="4335" y="2630"/>
                  </a:lnTo>
                  <a:lnTo>
                    <a:pt x="4292" y="2632"/>
                  </a:lnTo>
                  <a:lnTo>
                    <a:pt x="4246" y="2636"/>
                  </a:lnTo>
                  <a:lnTo>
                    <a:pt x="4242" y="2642"/>
                  </a:lnTo>
                  <a:lnTo>
                    <a:pt x="4238" y="2651"/>
                  </a:lnTo>
                  <a:lnTo>
                    <a:pt x="4236" y="2661"/>
                  </a:lnTo>
                  <a:lnTo>
                    <a:pt x="4236" y="2673"/>
                  </a:lnTo>
                  <a:lnTo>
                    <a:pt x="4244" y="2675"/>
                  </a:lnTo>
                  <a:lnTo>
                    <a:pt x="4257" y="2682"/>
                  </a:lnTo>
                  <a:lnTo>
                    <a:pt x="4263" y="2681"/>
                  </a:lnTo>
                  <a:lnTo>
                    <a:pt x="4277" y="2681"/>
                  </a:lnTo>
                  <a:lnTo>
                    <a:pt x="4296" y="2679"/>
                  </a:lnTo>
                  <a:lnTo>
                    <a:pt x="4331" y="2679"/>
                  </a:lnTo>
                  <a:lnTo>
                    <a:pt x="4379" y="2677"/>
                  </a:lnTo>
                  <a:lnTo>
                    <a:pt x="4451" y="2675"/>
                  </a:lnTo>
                  <a:lnTo>
                    <a:pt x="4546" y="2673"/>
                  </a:lnTo>
                  <a:lnTo>
                    <a:pt x="4674" y="2673"/>
                  </a:lnTo>
                  <a:lnTo>
                    <a:pt x="4692" y="2673"/>
                  </a:lnTo>
                  <a:lnTo>
                    <a:pt x="4711" y="2675"/>
                  </a:lnTo>
                  <a:lnTo>
                    <a:pt x="4730" y="2675"/>
                  </a:lnTo>
                  <a:lnTo>
                    <a:pt x="4750" y="2677"/>
                  </a:lnTo>
                  <a:lnTo>
                    <a:pt x="4767" y="2677"/>
                  </a:lnTo>
                  <a:lnTo>
                    <a:pt x="4785" y="2679"/>
                  </a:lnTo>
                  <a:lnTo>
                    <a:pt x="4802" y="2681"/>
                  </a:lnTo>
                  <a:lnTo>
                    <a:pt x="4822" y="2682"/>
                  </a:lnTo>
                  <a:lnTo>
                    <a:pt x="4829" y="2690"/>
                  </a:lnTo>
                  <a:lnTo>
                    <a:pt x="4837" y="2694"/>
                  </a:lnTo>
                  <a:close/>
                  <a:moveTo>
                    <a:pt x="2952" y="2679"/>
                  </a:moveTo>
                  <a:lnTo>
                    <a:pt x="2962" y="2677"/>
                  </a:lnTo>
                  <a:lnTo>
                    <a:pt x="2971" y="2677"/>
                  </a:lnTo>
                  <a:lnTo>
                    <a:pt x="2979" y="2677"/>
                  </a:lnTo>
                  <a:lnTo>
                    <a:pt x="2987" y="2677"/>
                  </a:lnTo>
                  <a:lnTo>
                    <a:pt x="2993" y="2675"/>
                  </a:lnTo>
                  <a:lnTo>
                    <a:pt x="3001" y="2673"/>
                  </a:lnTo>
                  <a:lnTo>
                    <a:pt x="3008" y="2669"/>
                  </a:lnTo>
                  <a:lnTo>
                    <a:pt x="3022" y="2667"/>
                  </a:lnTo>
                  <a:lnTo>
                    <a:pt x="3028" y="2661"/>
                  </a:lnTo>
                  <a:lnTo>
                    <a:pt x="3037" y="2657"/>
                  </a:lnTo>
                  <a:lnTo>
                    <a:pt x="3049" y="2653"/>
                  </a:lnTo>
                  <a:lnTo>
                    <a:pt x="3063" y="2650"/>
                  </a:lnTo>
                  <a:lnTo>
                    <a:pt x="3074" y="2644"/>
                  </a:lnTo>
                  <a:lnTo>
                    <a:pt x="3090" y="2640"/>
                  </a:lnTo>
                  <a:lnTo>
                    <a:pt x="3105" y="2634"/>
                  </a:lnTo>
                  <a:lnTo>
                    <a:pt x="3121" y="2630"/>
                  </a:lnTo>
                  <a:lnTo>
                    <a:pt x="3130" y="2617"/>
                  </a:lnTo>
                  <a:lnTo>
                    <a:pt x="3142" y="2609"/>
                  </a:lnTo>
                  <a:lnTo>
                    <a:pt x="3144" y="2597"/>
                  </a:lnTo>
                  <a:lnTo>
                    <a:pt x="3148" y="2587"/>
                  </a:lnTo>
                  <a:lnTo>
                    <a:pt x="3148" y="2580"/>
                  </a:lnTo>
                  <a:lnTo>
                    <a:pt x="3154" y="2572"/>
                  </a:lnTo>
                  <a:lnTo>
                    <a:pt x="3150" y="2556"/>
                  </a:lnTo>
                  <a:lnTo>
                    <a:pt x="3148" y="2543"/>
                  </a:lnTo>
                  <a:lnTo>
                    <a:pt x="3146" y="2529"/>
                  </a:lnTo>
                  <a:lnTo>
                    <a:pt x="3144" y="2516"/>
                  </a:lnTo>
                  <a:lnTo>
                    <a:pt x="3142" y="2500"/>
                  </a:lnTo>
                  <a:lnTo>
                    <a:pt x="3140" y="2489"/>
                  </a:lnTo>
                  <a:lnTo>
                    <a:pt x="3138" y="2473"/>
                  </a:lnTo>
                  <a:lnTo>
                    <a:pt x="3138" y="2461"/>
                  </a:lnTo>
                  <a:lnTo>
                    <a:pt x="3129" y="2438"/>
                  </a:lnTo>
                  <a:lnTo>
                    <a:pt x="3125" y="2421"/>
                  </a:lnTo>
                  <a:lnTo>
                    <a:pt x="3119" y="2405"/>
                  </a:lnTo>
                  <a:lnTo>
                    <a:pt x="3117" y="2397"/>
                  </a:lnTo>
                  <a:lnTo>
                    <a:pt x="3113" y="2386"/>
                  </a:lnTo>
                  <a:lnTo>
                    <a:pt x="3109" y="2378"/>
                  </a:lnTo>
                  <a:lnTo>
                    <a:pt x="3105" y="2370"/>
                  </a:lnTo>
                  <a:lnTo>
                    <a:pt x="3101" y="2360"/>
                  </a:lnTo>
                  <a:lnTo>
                    <a:pt x="3092" y="2357"/>
                  </a:lnTo>
                  <a:lnTo>
                    <a:pt x="3084" y="2355"/>
                  </a:lnTo>
                  <a:lnTo>
                    <a:pt x="3074" y="2355"/>
                  </a:lnTo>
                  <a:lnTo>
                    <a:pt x="3063" y="2355"/>
                  </a:lnTo>
                  <a:lnTo>
                    <a:pt x="3041" y="2355"/>
                  </a:lnTo>
                  <a:lnTo>
                    <a:pt x="3014" y="2355"/>
                  </a:lnTo>
                  <a:lnTo>
                    <a:pt x="2975" y="2357"/>
                  </a:lnTo>
                  <a:lnTo>
                    <a:pt x="2927" y="2360"/>
                  </a:lnTo>
                  <a:lnTo>
                    <a:pt x="2906" y="2366"/>
                  </a:lnTo>
                  <a:lnTo>
                    <a:pt x="2886" y="2372"/>
                  </a:lnTo>
                  <a:lnTo>
                    <a:pt x="2869" y="2376"/>
                  </a:lnTo>
                  <a:lnTo>
                    <a:pt x="2853" y="2382"/>
                  </a:lnTo>
                  <a:lnTo>
                    <a:pt x="2836" y="2393"/>
                  </a:lnTo>
                  <a:lnTo>
                    <a:pt x="2820" y="2403"/>
                  </a:lnTo>
                  <a:lnTo>
                    <a:pt x="2822" y="2419"/>
                  </a:lnTo>
                  <a:lnTo>
                    <a:pt x="2826" y="2434"/>
                  </a:lnTo>
                  <a:lnTo>
                    <a:pt x="2836" y="2473"/>
                  </a:lnTo>
                  <a:lnTo>
                    <a:pt x="2847" y="2504"/>
                  </a:lnTo>
                  <a:lnTo>
                    <a:pt x="2855" y="2529"/>
                  </a:lnTo>
                  <a:lnTo>
                    <a:pt x="2863" y="2551"/>
                  </a:lnTo>
                  <a:lnTo>
                    <a:pt x="2869" y="2568"/>
                  </a:lnTo>
                  <a:lnTo>
                    <a:pt x="2876" y="2587"/>
                  </a:lnTo>
                  <a:lnTo>
                    <a:pt x="2886" y="2607"/>
                  </a:lnTo>
                  <a:lnTo>
                    <a:pt x="2900" y="2636"/>
                  </a:lnTo>
                  <a:lnTo>
                    <a:pt x="2911" y="2646"/>
                  </a:lnTo>
                  <a:lnTo>
                    <a:pt x="2925" y="2655"/>
                  </a:lnTo>
                  <a:lnTo>
                    <a:pt x="2938" y="2665"/>
                  </a:lnTo>
                  <a:lnTo>
                    <a:pt x="2952" y="2679"/>
                  </a:lnTo>
                  <a:close/>
                  <a:moveTo>
                    <a:pt x="1168" y="2620"/>
                  </a:moveTo>
                  <a:lnTo>
                    <a:pt x="1183" y="2620"/>
                  </a:lnTo>
                  <a:lnTo>
                    <a:pt x="1199" y="2620"/>
                  </a:lnTo>
                  <a:lnTo>
                    <a:pt x="1218" y="2611"/>
                  </a:lnTo>
                  <a:lnTo>
                    <a:pt x="1240" y="2605"/>
                  </a:lnTo>
                  <a:lnTo>
                    <a:pt x="1259" y="2599"/>
                  </a:lnTo>
                  <a:lnTo>
                    <a:pt x="1278" y="2593"/>
                  </a:lnTo>
                  <a:lnTo>
                    <a:pt x="1294" y="2580"/>
                  </a:lnTo>
                  <a:lnTo>
                    <a:pt x="1306" y="2566"/>
                  </a:lnTo>
                  <a:lnTo>
                    <a:pt x="1319" y="2566"/>
                  </a:lnTo>
                  <a:lnTo>
                    <a:pt x="1331" y="2566"/>
                  </a:lnTo>
                  <a:lnTo>
                    <a:pt x="1339" y="2556"/>
                  </a:lnTo>
                  <a:lnTo>
                    <a:pt x="1346" y="2547"/>
                  </a:lnTo>
                  <a:lnTo>
                    <a:pt x="1352" y="2537"/>
                  </a:lnTo>
                  <a:lnTo>
                    <a:pt x="1358" y="2529"/>
                  </a:lnTo>
                  <a:lnTo>
                    <a:pt x="1358" y="2512"/>
                  </a:lnTo>
                  <a:lnTo>
                    <a:pt x="1358" y="2498"/>
                  </a:lnTo>
                  <a:lnTo>
                    <a:pt x="1358" y="2483"/>
                  </a:lnTo>
                  <a:lnTo>
                    <a:pt x="1358" y="2471"/>
                  </a:lnTo>
                  <a:lnTo>
                    <a:pt x="1348" y="2421"/>
                  </a:lnTo>
                  <a:lnTo>
                    <a:pt x="1344" y="2384"/>
                  </a:lnTo>
                  <a:lnTo>
                    <a:pt x="1339" y="2355"/>
                  </a:lnTo>
                  <a:lnTo>
                    <a:pt x="1337" y="2333"/>
                  </a:lnTo>
                  <a:lnTo>
                    <a:pt x="1331" y="2314"/>
                  </a:lnTo>
                  <a:lnTo>
                    <a:pt x="1327" y="2296"/>
                  </a:lnTo>
                  <a:lnTo>
                    <a:pt x="1321" y="2277"/>
                  </a:lnTo>
                  <a:lnTo>
                    <a:pt x="1315" y="2256"/>
                  </a:lnTo>
                  <a:lnTo>
                    <a:pt x="1307" y="2246"/>
                  </a:lnTo>
                  <a:lnTo>
                    <a:pt x="1302" y="2236"/>
                  </a:lnTo>
                  <a:lnTo>
                    <a:pt x="1296" y="2225"/>
                  </a:lnTo>
                  <a:lnTo>
                    <a:pt x="1290" y="2219"/>
                  </a:lnTo>
                  <a:lnTo>
                    <a:pt x="1275" y="2213"/>
                  </a:lnTo>
                  <a:lnTo>
                    <a:pt x="1259" y="2209"/>
                  </a:lnTo>
                  <a:lnTo>
                    <a:pt x="1243" y="2203"/>
                  </a:lnTo>
                  <a:lnTo>
                    <a:pt x="1230" y="2200"/>
                  </a:lnTo>
                  <a:lnTo>
                    <a:pt x="1214" y="2194"/>
                  </a:lnTo>
                  <a:lnTo>
                    <a:pt x="1199" y="2188"/>
                  </a:lnTo>
                  <a:lnTo>
                    <a:pt x="1183" y="2184"/>
                  </a:lnTo>
                  <a:lnTo>
                    <a:pt x="1168" y="2182"/>
                  </a:lnTo>
                  <a:lnTo>
                    <a:pt x="1154" y="2180"/>
                  </a:lnTo>
                  <a:lnTo>
                    <a:pt x="1143" y="2180"/>
                  </a:lnTo>
                  <a:lnTo>
                    <a:pt x="1129" y="2180"/>
                  </a:lnTo>
                  <a:lnTo>
                    <a:pt x="1117" y="2180"/>
                  </a:lnTo>
                  <a:lnTo>
                    <a:pt x="1104" y="2178"/>
                  </a:lnTo>
                  <a:lnTo>
                    <a:pt x="1090" y="2178"/>
                  </a:lnTo>
                  <a:lnTo>
                    <a:pt x="1079" y="2176"/>
                  </a:lnTo>
                  <a:lnTo>
                    <a:pt x="1067" y="2176"/>
                  </a:lnTo>
                  <a:lnTo>
                    <a:pt x="1046" y="2186"/>
                  </a:lnTo>
                  <a:lnTo>
                    <a:pt x="1026" y="2196"/>
                  </a:lnTo>
                  <a:lnTo>
                    <a:pt x="1007" y="2203"/>
                  </a:lnTo>
                  <a:lnTo>
                    <a:pt x="987" y="2213"/>
                  </a:lnTo>
                  <a:lnTo>
                    <a:pt x="986" y="2227"/>
                  </a:lnTo>
                  <a:lnTo>
                    <a:pt x="984" y="2240"/>
                  </a:lnTo>
                  <a:lnTo>
                    <a:pt x="991" y="2260"/>
                  </a:lnTo>
                  <a:lnTo>
                    <a:pt x="1001" y="2283"/>
                  </a:lnTo>
                  <a:lnTo>
                    <a:pt x="1009" y="2302"/>
                  </a:lnTo>
                  <a:lnTo>
                    <a:pt x="1019" y="2326"/>
                  </a:lnTo>
                  <a:lnTo>
                    <a:pt x="1026" y="2345"/>
                  </a:lnTo>
                  <a:lnTo>
                    <a:pt x="1034" y="2366"/>
                  </a:lnTo>
                  <a:lnTo>
                    <a:pt x="1042" y="2388"/>
                  </a:lnTo>
                  <a:lnTo>
                    <a:pt x="1051" y="2409"/>
                  </a:lnTo>
                  <a:lnTo>
                    <a:pt x="1061" y="2421"/>
                  </a:lnTo>
                  <a:lnTo>
                    <a:pt x="1073" y="2434"/>
                  </a:lnTo>
                  <a:lnTo>
                    <a:pt x="1077" y="2452"/>
                  </a:lnTo>
                  <a:lnTo>
                    <a:pt x="1081" y="2467"/>
                  </a:lnTo>
                  <a:lnTo>
                    <a:pt x="1084" y="2481"/>
                  </a:lnTo>
                  <a:lnTo>
                    <a:pt x="1090" y="2494"/>
                  </a:lnTo>
                  <a:lnTo>
                    <a:pt x="1096" y="2508"/>
                  </a:lnTo>
                  <a:lnTo>
                    <a:pt x="1104" y="2527"/>
                  </a:lnTo>
                  <a:lnTo>
                    <a:pt x="1115" y="2549"/>
                  </a:lnTo>
                  <a:lnTo>
                    <a:pt x="1131" y="2578"/>
                  </a:lnTo>
                  <a:lnTo>
                    <a:pt x="1141" y="2587"/>
                  </a:lnTo>
                  <a:lnTo>
                    <a:pt x="1150" y="2599"/>
                  </a:lnTo>
                  <a:lnTo>
                    <a:pt x="1158" y="2609"/>
                  </a:lnTo>
                  <a:lnTo>
                    <a:pt x="1168" y="2620"/>
                  </a:lnTo>
                  <a:close/>
                  <a:moveTo>
                    <a:pt x="239" y="2572"/>
                  </a:moveTo>
                  <a:lnTo>
                    <a:pt x="245" y="2572"/>
                  </a:lnTo>
                  <a:lnTo>
                    <a:pt x="256" y="2572"/>
                  </a:lnTo>
                  <a:lnTo>
                    <a:pt x="266" y="2572"/>
                  </a:lnTo>
                  <a:lnTo>
                    <a:pt x="276" y="2572"/>
                  </a:lnTo>
                  <a:lnTo>
                    <a:pt x="251" y="2533"/>
                  </a:lnTo>
                  <a:lnTo>
                    <a:pt x="231" y="2502"/>
                  </a:lnTo>
                  <a:lnTo>
                    <a:pt x="214" y="2473"/>
                  </a:lnTo>
                  <a:lnTo>
                    <a:pt x="202" y="2450"/>
                  </a:lnTo>
                  <a:lnTo>
                    <a:pt x="188" y="2426"/>
                  </a:lnTo>
                  <a:lnTo>
                    <a:pt x="177" y="2407"/>
                  </a:lnTo>
                  <a:lnTo>
                    <a:pt x="165" y="2390"/>
                  </a:lnTo>
                  <a:lnTo>
                    <a:pt x="154" y="2372"/>
                  </a:lnTo>
                  <a:lnTo>
                    <a:pt x="138" y="2343"/>
                  </a:lnTo>
                  <a:lnTo>
                    <a:pt x="124" y="2316"/>
                  </a:lnTo>
                  <a:lnTo>
                    <a:pt x="113" y="2289"/>
                  </a:lnTo>
                  <a:lnTo>
                    <a:pt x="101" y="2264"/>
                  </a:lnTo>
                  <a:lnTo>
                    <a:pt x="90" y="2236"/>
                  </a:lnTo>
                  <a:lnTo>
                    <a:pt x="78" y="2211"/>
                  </a:lnTo>
                  <a:lnTo>
                    <a:pt x="66" y="2184"/>
                  </a:lnTo>
                  <a:lnTo>
                    <a:pt x="55" y="2161"/>
                  </a:lnTo>
                  <a:lnTo>
                    <a:pt x="45" y="2161"/>
                  </a:lnTo>
                  <a:lnTo>
                    <a:pt x="37" y="2161"/>
                  </a:lnTo>
                  <a:lnTo>
                    <a:pt x="37" y="2168"/>
                  </a:lnTo>
                  <a:lnTo>
                    <a:pt x="37" y="2182"/>
                  </a:lnTo>
                  <a:lnTo>
                    <a:pt x="55" y="2225"/>
                  </a:lnTo>
                  <a:lnTo>
                    <a:pt x="70" y="2262"/>
                  </a:lnTo>
                  <a:lnTo>
                    <a:pt x="84" y="2291"/>
                  </a:lnTo>
                  <a:lnTo>
                    <a:pt x="97" y="2320"/>
                  </a:lnTo>
                  <a:lnTo>
                    <a:pt x="109" y="2343"/>
                  </a:lnTo>
                  <a:lnTo>
                    <a:pt x="121" y="2368"/>
                  </a:lnTo>
                  <a:lnTo>
                    <a:pt x="132" y="2395"/>
                  </a:lnTo>
                  <a:lnTo>
                    <a:pt x="150" y="2430"/>
                  </a:lnTo>
                  <a:lnTo>
                    <a:pt x="154" y="2434"/>
                  </a:lnTo>
                  <a:lnTo>
                    <a:pt x="159" y="2446"/>
                  </a:lnTo>
                  <a:lnTo>
                    <a:pt x="169" y="2461"/>
                  </a:lnTo>
                  <a:lnTo>
                    <a:pt x="181" y="2481"/>
                  </a:lnTo>
                  <a:lnTo>
                    <a:pt x="192" y="2500"/>
                  </a:lnTo>
                  <a:lnTo>
                    <a:pt x="206" y="2523"/>
                  </a:lnTo>
                  <a:lnTo>
                    <a:pt x="221" y="2547"/>
                  </a:lnTo>
                  <a:lnTo>
                    <a:pt x="239" y="2572"/>
                  </a:lnTo>
                  <a:close/>
                  <a:moveTo>
                    <a:pt x="132" y="2541"/>
                  </a:moveTo>
                  <a:lnTo>
                    <a:pt x="142" y="2541"/>
                  </a:lnTo>
                  <a:lnTo>
                    <a:pt x="154" y="2541"/>
                  </a:lnTo>
                  <a:lnTo>
                    <a:pt x="154" y="2531"/>
                  </a:lnTo>
                  <a:lnTo>
                    <a:pt x="154" y="2525"/>
                  </a:lnTo>
                  <a:lnTo>
                    <a:pt x="123" y="2469"/>
                  </a:lnTo>
                  <a:lnTo>
                    <a:pt x="99" y="2421"/>
                  </a:lnTo>
                  <a:lnTo>
                    <a:pt x="76" y="2376"/>
                  </a:lnTo>
                  <a:lnTo>
                    <a:pt x="59" y="2339"/>
                  </a:lnTo>
                  <a:lnTo>
                    <a:pt x="41" y="2304"/>
                  </a:lnTo>
                  <a:lnTo>
                    <a:pt x="27" y="2277"/>
                  </a:lnTo>
                  <a:lnTo>
                    <a:pt x="16" y="2256"/>
                  </a:lnTo>
                  <a:lnTo>
                    <a:pt x="6" y="2240"/>
                  </a:lnTo>
                  <a:lnTo>
                    <a:pt x="2" y="2248"/>
                  </a:lnTo>
                  <a:lnTo>
                    <a:pt x="0" y="2256"/>
                  </a:lnTo>
                  <a:lnTo>
                    <a:pt x="0" y="2264"/>
                  </a:lnTo>
                  <a:lnTo>
                    <a:pt x="0" y="2275"/>
                  </a:lnTo>
                  <a:lnTo>
                    <a:pt x="0" y="2285"/>
                  </a:lnTo>
                  <a:lnTo>
                    <a:pt x="0" y="2296"/>
                  </a:lnTo>
                  <a:lnTo>
                    <a:pt x="0" y="2306"/>
                  </a:lnTo>
                  <a:lnTo>
                    <a:pt x="0" y="2318"/>
                  </a:lnTo>
                  <a:lnTo>
                    <a:pt x="0" y="2328"/>
                  </a:lnTo>
                  <a:lnTo>
                    <a:pt x="0" y="2339"/>
                  </a:lnTo>
                  <a:lnTo>
                    <a:pt x="2" y="2349"/>
                  </a:lnTo>
                  <a:lnTo>
                    <a:pt x="6" y="2359"/>
                  </a:lnTo>
                  <a:lnTo>
                    <a:pt x="8" y="2366"/>
                  </a:lnTo>
                  <a:lnTo>
                    <a:pt x="14" y="2378"/>
                  </a:lnTo>
                  <a:lnTo>
                    <a:pt x="18" y="2388"/>
                  </a:lnTo>
                  <a:lnTo>
                    <a:pt x="26" y="2405"/>
                  </a:lnTo>
                  <a:lnTo>
                    <a:pt x="35" y="2426"/>
                  </a:lnTo>
                  <a:lnTo>
                    <a:pt x="49" y="2456"/>
                  </a:lnTo>
                  <a:lnTo>
                    <a:pt x="60" y="2471"/>
                  </a:lnTo>
                  <a:lnTo>
                    <a:pt x="72" y="2487"/>
                  </a:lnTo>
                  <a:lnTo>
                    <a:pt x="84" y="2502"/>
                  </a:lnTo>
                  <a:lnTo>
                    <a:pt x="95" y="2520"/>
                  </a:lnTo>
                  <a:lnTo>
                    <a:pt x="103" y="2521"/>
                  </a:lnTo>
                  <a:lnTo>
                    <a:pt x="111" y="2527"/>
                  </a:lnTo>
                  <a:lnTo>
                    <a:pt x="121" y="2533"/>
                  </a:lnTo>
                  <a:lnTo>
                    <a:pt x="132" y="2541"/>
                  </a:lnTo>
                  <a:close/>
                  <a:moveTo>
                    <a:pt x="3227" y="2033"/>
                  </a:moveTo>
                  <a:lnTo>
                    <a:pt x="3243" y="2033"/>
                  </a:lnTo>
                  <a:lnTo>
                    <a:pt x="3258" y="2033"/>
                  </a:lnTo>
                  <a:lnTo>
                    <a:pt x="3262" y="2029"/>
                  </a:lnTo>
                  <a:lnTo>
                    <a:pt x="3264" y="2023"/>
                  </a:lnTo>
                  <a:lnTo>
                    <a:pt x="3249" y="1955"/>
                  </a:lnTo>
                  <a:lnTo>
                    <a:pt x="3237" y="1907"/>
                  </a:lnTo>
                  <a:lnTo>
                    <a:pt x="3227" y="1866"/>
                  </a:lnTo>
                  <a:lnTo>
                    <a:pt x="3222" y="1833"/>
                  </a:lnTo>
                  <a:lnTo>
                    <a:pt x="3212" y="1800"/>
                  </a:lnTo>
                  <a:lnTo>
                    <a:pt x="3202" y="1769"/>
                  </a:lnTo>
                  <a:lnTo>
                    <a:pt x="3191" y="1730"/>
                  </a:lnTo>
                  <a:lnTo>
                    <a:pt x="3179" y="1686"/>
                  </a:lnTo>
                  <a:lnTo>
                    <a:pt x="3173" y="1680"/>
                  </a:lnTo>
                  <a:lnTo>
                    <a:pt x="3171" y="1674"/>
                  </a:lnTo>
                  <a:lnTo>
                    <a:pt x="3167" y="1664"/>
                  </a:lnTo>
                  <a:lnTo>
                    <a:pt x="3163" y="1653"/>
                  </a:lnTo>
                  <a:lnTo>
                    <a:pt x="3156" y="1633"/>
                  </a:lnTo>
                  <a:lnTo>
                    <a:pt x="3146" y="1608"/>
                  </a:lnTo>
                  <a:lnTo>
                    <a:pt x="3132" y="1573"/>
                  </a:lnTo>
                  <a:lnTo>
                    <a:pt x="3117" y="1526"/>
                  </a:lnTo>
                  <a:lnTo>
                    <a:pt x="3103" y="1513"/>
                  </a:lnTo>
                  <a:lnTo>
                    <a:pt x="3096" y="1499"/>
                  </a:lnTo>
                  <a:lnTo>
                    <a:pt x="3090" y="1486"/>
                  </a:lnTo>
                  <a:lnTo>
                    <a:pt x="3086" y="1472"/>
                  </a:lnTo>
                  <a:lnTo>
                    <a:pt x="3082" y="1459"/>
                  </a:lnTo>
                  <a:lnTo>
                    <a:pt x="3080" y="1447"/>
                  </a:lnTo>
                  <a:lnTo>
                    <a:pt x="3070" y="1435"/>
                  </a:lnTo>
                  <a:lnTo>
                    <a:pt x="3061" y="1426"/>
                  </a:lnTo>
                  <a:lnTo>
                    <a:pt x="3049" y="1418"/>
                  </a:lnTo>
                  <a:lnTo>
                    <a:pt x="3043" y="1410"/>
                  </a:lnTo>
                  <a:lnTo>
                    <a:pt x="3030" y="1404"/>
                  </a:lnTo>
                  <a:lnTo>
                    <a:pt x="3020" y="1402"/>
                  </a:lnTo>
                  <a:lnTo>
                    <a:pt x="3010" y="1400"/>
                  </a:lnTo>
                  <a:lnTo>
                    <a:pt x="3001" y="1400"/>
                  </a:lnTo>
                  <a:lnTo>
                    <a:pt x="2971" y="1391"/>
                  </a:lnTo>
                  <a:lnTo>
                    <a:pt x="2950" y="1385"/>
                  </a:lnTo>
                  <a:lnTo>
                    <a:pt x="2931" y="1381"/>
                  </a:lnTo>
                  <a:lnTo>
                    <a:pt x="2913" y="1377"/>
                  </a:lnTo>
                  <a:lnTo>
                    <a:pt x="2892" y="1371"/>
                  </a:lnTo>
                  <a:lnTo>
                    <a:pt x="2865" y="1367"/>
                  </a:lnTo>
                  <a:lnTo>
                    <a:pt x="2832" y="1360"/>
                  </a:lnTo>
                  <a:lnTo>
                    <a:pt x="2789" y="1352"/>
                  </a:lnTo>
                  <a:lnTo>
                    <a:pt x="2781" y="1371"/>
                  </a:lnTo>
                  <a:lnTo>
                    <a:pt x="2776" y="1391"/>
                  </a:lnTo>
                  <a:lnTo>
                    <a:pt x="2768" y="1408"/>
                  </a:lnTo>
                  <a:lnTo>
                    <a:pt x="2762" y="1426"/>
                  </a:lnTo>
                  <a:lnTo>
                    <a:pt x="2756" y="1466"/>
                  </a:lnTo>
                  <a:lnTo>
                    <a:pt x="2750" y="1501"/>
                  </a:lnTo>
                  <a:lnTo>
                    <a:pt x="2745" y="1528"/>
                  </a:lnTo>
                  <a:lnTo>
                    <a:pt x="2741" y="1554"/>
                  </a:lnTo>
                  <a:lnTo>
                    <a:pt x="2735" y="1577"/>
                  </a:lnTo>
                  <a:lnTo>
                    <a:pt x="2731" y="1602"/>
                  </a:lnTo>
                  <a:lnTo>
                    <a:pt x="2725" y="1633"/>
                  </a:lnTo>
                  <a:lnTo>
                    <a:pt x="2721" y="1674"/>
                  </a:lnTo>
                  <a:lnTo>
                    <a:pt x="2717" y="1703"/>
                  </a:lnTo>
                  <a:lnTo>
                    <a:pt x="2715" y="1732"/>
                  </a:lnTo>
                  <a:lnTo>
                    <a:pt x="2715" y="1761"/>
                  </a:lnTo>
                  <a:lnTo>
                    <a:pt x="2715" y="1790"/>
                  </a:lnTo>
                  <a:lnTo>
                    <a:pt x="2715" y="1817"/>
                  </a:lnTo>
                  <a:lnTo>
                    <a:pt x="2715" y="1846"/>
                  </a:lnTo>
                  <a:lnTo>
                    <a:pt x="2715" y="1876"/>
                  </a:lnTo>
                  <a:lnTo>
                    <a:pt x="2715" y="1907"/>
                  </a:lnTo>
                  <a:lnTo>
                    <a:pt x="2717" y="1912"/>
                  </a:lnTo>
                  <a:lnTo>
                    <a:pt x="2721" y="1916"/>
                  </a:lnTo>
                  <a:lnTo>
                    <a:pt x="2746" y="1922"/>
                  </a:lnTo>
                  <a:lnTo>
                    <a:pt x="2774" y="1930"/>
                  </a:lnTo>
                  <a:lnTo>
                    <a:pt x="2801" y="1938"/>
                  </a:lnTo>
                  <a:lnTo>
                    <a:pt x="2828" y="1945"/>
                  </a:lnTo>
                  <a:lnTo>
                    <a:pt x="2853" y="1951"/>
                  </a:lnTo>
                  <a:lnTo>
                    <a:pt x="2878" y="1957"/>
                  </a:lnTo>
                  <a:lnTo>
                    <a:pt x="2904" y="1963"/>
                  </a:lnTo>
                  <a:lnTo>
                    <a:pt x="2931" y="1971"/>
                  </a:lnTo>
                  <a:lnTo>
                    <a:pt x="2970" y="1976"/>
                  </a:lnTo>
                  <a:lnTo>
                    <a:pt x="3002" y="1982"/>
                  </a:lnTo>
                  <a:lnTo>
                    <a:pt x="3026" y="1986"/>
                  </a:lnTo>
                  <a:lnTo>
                    <a:pt x="3045" y="1992"/>
                  </a:lnTo>
                  <a:lnTo>
                    <a:pt x="3059" y="1994"/>
                  </a:lnTo>
                  <a:lnTo>
                    <a:pt x="3072" y="1996"/>
                  </a:lnTo>
                  <a:lnTo>
                    <a:pt x="3086" y="1998"/>
                  </a:lnTo>
                  <a:lnTo>
                    <a:pt x="3101" y="2002"/>
                  </a:lnTo>
                  <a:lnTo>
                    <a:pt x="3109" y="2004"/>
                  </a:lnTo>
                  <a:lnTo>
                    <a:pt x="3117" y="2006"/>
                  </a:lnTo>
                  <a:lnTo>
                    <a:pt x="3132" y="2011"/>
                  </a:lnTo>
                  <a:lnTo>
                    <a:pt x="3148" y="2013"/>
                  </a:lnTo>
                  <a:lnTo>
                    <a:pt x="3169" y="2019"/>
                  </a:lnTo>
                  <a:lnTo>
                    <a:pt x="3194" y="2023"/>
                  </a:lnTo>
                  <a:lnTo>
                    <a:pt x="3227" y="2033"/>
                  </a:lnTo>
                  <a:close/>
                  <a:moveTo>
                    <a:pt x="2314" y="1901"/>
                  </a:moveTo>
                  <a:lnTo>
                    <a:pt x="2337" y="1901"/>
                  </a:lnTo>
                  <a:lnTo>
                    <a:pt x="2361" y="1901"/>
                  </a:lnTo>
                  <a:lnTo>
                    <a:pt x="2384" y="1901"/>
                  </a:lnTo>
                  <a:lnTo>
                    <a:pt x="2409" y="1901"/>
                  </a:lnTo>
                  <a:lnTo>
                    <a:pt x="2432" y="1901"/>
                  </a:lnTo>
                  <a:lnTo>
                    <a:pt x="2456" y="1901"/>
                  </a:lnTo>
                  <a:lnTo>
                    <a:pt x="2479" y="1901"/>
                  </a:lnTo>
                  <a:lnTo>
                    <a:pt x="2504" y="1901"/>
                  </a:lnTo>
                  <a:lnTo>
                    <a:pt x="2512" y="1899"/>
                  </a:lnTo>
                  <a:lnTo>
                    <a:pt x="2520" y="1897"/>
                  </a:lnTo>
                  <a:lnTo>
                    <a:pt x="2522" y="1879"/>
                  </a:lnTo>
                  <a:lnTo>
                    <a:pt x="2525" y="1870"/>
                  </a:lnTo>
                  <a:lnTo>
                    <a:pt x="2527" y="1862"/>
                  </a:lnTo>
                  <a:lnTo>
                    <a:pt x="2529" y="1850"/>
                  </a:lnTo>
                  <a:lnTo>
                    <a:pt x="2529" y="1839"/>
                  </a:lnTo>
                  <a:lnTo>
                    <a:pt x="2531" y="1827"/>
                  </a:lnTo>
                  <a:lnTo>
                    <a:pt x="2533" y="1808"/>
                  </a:lnTo>
                  <a:lnTo>
                    <a:pt x="2535" y="1784"/>
                  </a:lnTo>
                  <a:lnTo>
                    <a:pt x="2537" y="1763"/>
                  </a:lnTo>
                  <a:lnTo>
                    <a:pt x="2543" y="1740"/>
                  </a:lnTo>
                  <a:lnTo>
                    <a:pt x="2547" y="1711"/>
                  </a:lnTo>
                  <a:lnTo>
                    <a:pt x="2554" y="1676"/>
                  </a:lnTo>
                  <a:lnTo>
                    <a:pt x="2560" y="1631"/>
                  </a:lnTo>
                  <a:lnTo>
                    <a:pt x="2572" y="1579"/>
                  </a:lnTo>
                  <a:lnTo>
                    <a:pt x="2584" y="1515"/>
                  </a:lnTo>
                  <a:lnTo>
                    <a:pt x="2599" y="1441"/>
                  </a:lnTo>
                  <a:lnTo>
                    <a:pt x="2599" y="1429"/>
                  </a:lnTo>
                  <a:lnTo>
                    <a:pt x="2599" y="1420"/>
                  </a:lnTo>
                  <a:lnTo>
                    <a:pt x="2599" y="1412"/>
                  </a:lnTo>
                  <a:lnTo>
                    <a:pt x="2599" y="1404"/>
                  </a:lnTo>
                  <a:lnTo>
                    <a:pt x="2599" y="1393"/>
                  </a:lnTo>
                  <a:lnTo>
                    <a:pt x="2601" y="1383"/>
                  </a:lnTo>
                  <a:lnTo>
                    <a:pt x="2603" y="1367"/>
                  </a:lnTo>
                  <a:lnTo>
                    <a:pt x="2609" y="1352"/>
                  </a:lnTo>
                  <a:lnTo>
                    <a:pt x="2601" y="1336"/>
                  </a:lnTo>
                  <a:lnTo>
                    <a:pt x="2599" y="1327"/>
                  </a:lnTo>
                  <a:lnTo>
                    <a:pt x="2593" y="1321"/>
                  </a:lnTo>
                  <a:lnTo>
                    <a:pt x="2587" y="1319"/>
                  </a:lnTo>
                  <a:lnTo>
                    <a:pt x="2578" y="1313"/>
                  </a:lnTo>
                  <a:lnTo>
                    <a:pt x="2566" y="1311"/>
                  </a:lnTo>
                  <a:lnTo>
                    <a:pt x="2545" y="1303"/>
                  </a:lnTo>
                  <a:lnTo>
                    <a:pt x="2518" y="1296"/>
                  </a:lnTo>
                  <a:lnTo>
                    <a:pt x="2479" y="1284"/>
                  </a:lnTo>
                  <a:lnTo>
                    <a:pt x="2430" y="1272"/>
                  </a:lnTo>
                  <a:lnTo>
                    <a:pt x="2409" y="1268"/>
                  </a:lnTo>
                  <a:lnTo>
                    <a:pt x="2388" y="1268"/>
                  </a:lnTo>
                  <a:lnTo>
                    <a:pt x="2366" y="1265"/>
                  </a:lnTo>
                  <a:lnTo>
                    <a:pt x="2347" y="1265"/>
                  </a:lnTo>
                  <a:lnTo>
                    <a:pt x="2326" y="1261"/>
                  </a:lnTo>
                  <a:lnTo>
                    <a:pt x="2306" y="1261"/>
                  </a:lnTo>
                  <a:lnTo>
                    <a:pt x="2285" y="1257"/>
                  </a:lnTo>
                  <a:lnTo>
                    <a:pt x="2266" y="1257"/>
                  </a:lnTo>
                  <a:lnTo>
                    <a:pt x="2234" y="1257"/>
                  </a:lnTo>
                  <a:lnTo>
                    <a:pt x="2205" y="1257"/>
                  </a:lnTo>
                  <a:lnTo>
                    <a:pt x="2176" y="1257"/>
                  </a:lnTo>
                  <a:lnTo>
                    <a:pt x="2147" y="1257"/>
                  </a:lnTo>
                  <a:lnTo>
                    <a:pt x="2118" y="1257"/>
                  </a:lnTo>
                  <a:lnTo>
                    <a:pt x="2089" y="1257"/>
                  </a:lnTo>
                  <a:lnTo>
                    <a:pt x="2062" y="1259"/>
                  </a:lnTo>
                  <a:lnTo>
                    <a:pt x="2035" y="1263"/>
                  </a:lnTo>
                  <a:lnTo>
                    <a:pt x="2017" y="1268"/>
                  </a:lnTo>
                  <a:lnTo>
                    <a:pt x="2002" y="1278"/>
                  </a:lnTo>
                  <a:lnTo>
                    <a:pt x="1986" y="1286"/>
                  </a:lnTo>
                  <a:lnTo>
                    <a:pt x="1971" y="1296"/>
                  </a:lnTo>
                  <a:lnTo>
                    <a:pt x="1953" y="1303"/>
                  </a:lnTo>
                  <a:lnTo>
                    <a:pt x="1938" y="1313"/>
                  </a:lnTo>
                  <a:lnTo>
                    <a:pt x="1922" y="1321"/>
                  </a:lnTo>
                  <a:lnTo>
                    <a:pt x="1907" y="1331"/>
                  </a:lnTo>
                  <a:lnTo>
                    <a:pt x="1887" y="1342"/>
                  </a:lnTo>
                  <a:lnTo>
                    <a:pt x="1870" y="1354"/>
                  </a:lnTo>
                  <a:lnTo>
                    <a:pt x="1852" y="1365"/>
                  </a:lnTo>
                  <a:lnTo>
                    <a:pt x="1835" y="1377"/>
                  </a:lnTo>
                  <a:lnTo>
                    <a:pt x="1818" y="1389"/>
                  </a:lnTo>
                  <a:lnTo>
                    <a:pt x="1800" y="1400"/>
                  </a:lnTo>
                  <a:lnTo>
                    <a:pt x="1785" y="1412"/>
                  </a:lnTo>
                  <a:lnTo>
                    <a:pt x="1769" y="1426"/>
                  </a:lnTo>
                  <a:lnTo>
                    <a:pt x="1754" y="1437"/>
                  </a:lnTo>
                  <a:lnTo>
                    <a:pt x="1740" y="1449"/>
                  </a:lnTo>
                  <a:lnTo>
                    <a:pt x="1726" y="1461"/>
                  </a:lnTo>
                  <a:lnTo>
                    <a:pt x="1713" y="1472"/>
                  </a:lnTo>
                  <a:lnTo>
                    <a:pt x="1699" y="1482"/>
                  </a:lnTo>
                  <a:lnTo>
                    <a:pt x="1688" y="1493"/>
                  </a:lnTo>
                  <a:lnTo>
                    <a:pt x="1676" y="1505"/>
                  </a:lnTo>
                  <a:lnTo>
                    <a:pt x="1664" y="1517"/>
                  </a:lnTo>
                  <a:lnTo>
                    <a:pt x="1637" y="1542"/>
                  </a:lnTo>
                  <a:lnTo>
                    <a:pt x="1610" y="1569"/>
                  </a:lnTo>
                  <a:lnTo>
                    <a:pt x="1583" y="1596"/>
                  </a:lnTo>
                  <a:lnTo>
                    <a:pt x="1558" y="1623"/>
                  </a:lnTo>
                  <a:lnTo>
                    <a:pt x="1530" y="1649"/>
                  </a:lnTo>
                  <a:lnTo>
                    <a:pt x="1503" y="1676"/>
                  </a:lnTo>
                  <a:lnTo>
                    <a:pt x="1476" y="1703"/>
                  </a:lnTo>
                  <a:lnTo>
                    <a:pt x="1453" y="1732"/>
                  </a:lnTo>
                  <a:lnTo>
                    <a:pt x="1439" y="1744"/>
                  </a:lnTo>
                  <a:lnTo>
                    <a:pt x="1428" y="1759"/>
                  </a:lnTo>
                  <a:lnTo>
                    <a:pt x="1416" y="1771"/>
                  </a:lnTo>
                  <a:lnTo>
                    <a:pt x="1404" y="1786"/>
                  </a:lnTo>
                  <a:lnTo>
                    <a:pt x="1393" y="1800"/>
                  </a:lnTo>
                  <a:lnTo>
                    <a:pt x="1381" y="1814"/>
                  </a:lnTo>
                  <a:lnTo>
                    <a:pt x="1370" y="1827"/>
                  </a:lnTo>
                  <a:lnTo>
                    <a:pt x="1358" y="1843"/>
                  </a:lnTo>
                  <a:lnTo>
                    <a:pt x="1358" y="1850"/>
                  </a:lnTo>
                  <a:lnTo>
                    <a:pt x="1358" y="1860"/>
                  </a:lnTo>
                  <a:lnTo>
                    <a:pt x="1474" y="1864"/>
                  </a:lnTo>
                  <a:lnTo>
                    <a:pt x="1594" y="1870"/>
                  </a:lnTo>
                  <a:lnTo>
                    <a:pt x="1715" y="1876"/>
                  </a:lnTo>
                  <a:lnTo>
                    <a:pt x="1835" y="1881"/>
                  </a:lnTo>
                  <a:lnTo>
                    <a:pt x="1953" y="1885"/>
                  </a:lnTo>
                  <a:lnTo>
                    <a:pt x="2074" y="1891"/>
                  </a:lnTo>
                  <a:lnTo>
                    <a:pt x="2194" y="1895"/>
                  </a:lnTo>
                  <a:lnTo>
                    <a:pt x="2314" y="1901"/>
                  </a:lnTo>
                  <a:close/>
                  <a:moveTo>
                    <a:pt x="5471" y="1901"/>
                  </a:moveTo>
                  <a:lnTo>
                    <a:pt x="5483" y="1899"/>
                  </a:lnTo>
                  <a:lnTo>
                    <a:pt x="5491" y="1899"/>
                  </a:lnTo>
                  <a:lnTo>
                    <a:pt x="5495" y="1897"/>
                  </a:lnTo>
                  <a:lnTo>
                    <a:pt x="5502" y="1897"/>
                  </a:lnTo>
                  <a:lnTo>
                    <a:pt x="5502" y="1879"/>
                  </a:lnTo>
                  <a:lnTo>
                    <a:pt x="5502" y="1870"/>
                  </a:lnTo>
                  <a:lnTo>
                    <a:pt x="5495" y="1862"/>
                  </a:lnTo>
                  <a:lnTo>
                    <a:pt x="5493" y="1860"/>
                  </a:lnTo>
                  <a:lnTo>
                    <a:pt x="5400" y="1848"/>
                  </a:lnTo>
                  <a:lnTo>
                    <a:pt x="5310" y="1839"/>
                  </a:lnTo>
                  <a:lnTo>
                    <a:pt x="5219" y="1829"/>
                  </a:lnTo>
                  <a:lnTo>
                    <a:pt x="5130" y="1821"/>
                  </a:lnTo>
                  <a:lnTo>
                    <a:pt x="5041" y="1812"/>
                  </a:lnTo>
                  <a:lnTo>
                    <a:pt x="4952" y="1806"/>
                  </a:lnTo>
                  <a:lnTo>
                    <a:pt x="4862" y="1796"/>
                  </a:lnTo>
                  <a:lnTo>
                    <a:pt x="4775" y="1790"/>
                  </a:lnTo>
                  <a:lnTo>
                    <a:pt x="4761" y="1784"/>
                  </a:lnTo>
                  <a:lnTo>
                    <a:pt x="4730" y="1782"/>
                  </a:lnTo>
                  <a:lnTo>
                    <a:pt x="4686" y="1779"/>
                  </a:lnTo>
                  <a:lnTo>
                    <a:pt x="4630" y="1777"/>
                  </a:lnTo>
                  <a:lnTo>
                    <a:pt x="4564" y="1771"/>
                  </a:lnTo>
                  <a:lnTo>
                    <a:pt x="4496" y="1767"/>
                  </a:lnTo>
                  <a:lnTo>
                    <a:pt x="4426" y="1763"/>
                  </a:lnTo>
                  <a:lnTo>
                    <a:pt x="4362" y="1759"/>
                  </a:lnTo>
                  <a:lnTo>
                    <a:pt x="4296" y="1759"/>
                  </a:lnTo>
                  <a:lnTo>
                    <a:pt x="4230" y="1759"/>
                  </a:lnTo>
                  <a:lnTo>
                    <a:pt x="4166" y="1759"/>
                  </a:lnTo>
                  <a:lnTo>
                    <a:pt x="4102" y="1759"/>
                  </a:lnTo>
                  <a:lnTo>
                    <a:pt x="4038" y="1759"/>
                  </a:lnTo>
                  <a:lnTo>
                    <a:pt x="3976" y="1759"/>
                  </a:lnTo>
                  <a:lnTo>
                    <a:pt x="3912" y="1761"/>
                  </a:lnTo>
                  <a:lnTo>
                    <a:pt x="3850" y="1765"/>
                  </a:lnTo>
                  <a:lnTo>
                    <a:pt x="3827" y="1765"/>
                  </a:lnTo>
                  <a:lnTo>
                    <a:pt x="3805" y="1767"/>
                  </a:lnTo>
                  <a:lnTo>
                    <a:pt x="3784" y="1769"/>
                  </a:lnTo>
                  <a:lnTo>
                    <a:pt x="3763" y="1771"/>
                  </a:lnTo>
                  <a:lnTo>
                    <a:pt x="3739" y="1773"/>
                  </a:lnTo>
                  <a:lnTo>
                    <a:pt x="3718" y="1775"/>
                  </a:lnTo>
                  <a:lnTo>
                    <a:pt x="3697" y="1777"/>
                  </a:lnTo>
                  <a:lnTo>
                    <a:pt x="3675" y="1781"/>
                  </a:lnTo>
                  <a:lnTo>
                    <a:pt x="3668" y="1786"/>
                  </a:lnTo>
                  <a:lnTo>
                    <a:pt x="3660" y="1790"/>
                  </a:lnTo>
                  <a:lnTo>
                    <a:pt x="3668" y="1806"/>
                  </a:lnTo>
                  <a:lnTo>
                    <a:pt x="3672" y="1821"/>
                  </a:lnTo>
                  <a:lnTo>
                    <a:pt x="3734" y="1819"/>
                  </a:lnTo>
                  <a:lnTo>
                    <a:pt x="3784" y="1817"/>
                  </a:lnTo>
                  <a:lnTo>
                    <a:pt x="3825" y="1817"/>
                  </a:lnTo>
                  <a:lnTo>
                    <a:pt x="3866" y="1817"/>
                  </a:lnTo>
                  <a:lnTo>
                    <a:pt x="3904" y="1817"/>
                  </a:lnTo>
                  <a:lnTo>
                    <a:pt x="3953" y="1817"/>
                  </a:lnTo>
                  <a:lnTo>
                    <a:pt x="4011" y="1819"/>
                  </a:lnTo>
                  <a:lnTo>
                    <a:pt x="4089" y="1821"/>
                  </a:lnTo>
                  <a:lnTo>
                    <a:pt x="4141" y="1823"/>
                  </a:lnTo>
                  <a:lnTo>
                    <a:pt x="4195" y="1825"/>
                  </a:lnTo>
                  <a:lnTo>
                    <a:pt x="4242" y="1827"/>
                  </a:lnTo>
                  <a:lnTo>
                    <a:pt x="4290" y="1829"/>
                  </a:lnTo>
                  <a:lnTo>
                    <a:pt x="4333" y="1829"/>
                  </a:lnTo>
                  <a:lnTo>
                    <a:pt x="4376" y="1829"/>
                  </a:lnTo>
                  <a:lnTo>
                    <a:pt x="4416" y="1829"/>
                  </a:lnTo>
                  <a:lnTo>
                    <a:pt x="4457" y="1833"/>
                  </a:lnTo>
                  <a:lnTo>
                    <a:pt x="4463" y="1827"/>
                  </a:lnTo>
                  <a:lnTo>
                    <a:pt x="4469" y="1821"/>
                  </a:lnTo>
                  <a:lnTo>
                    <a:pt x="4476" y="1819"/>
                  </a:lnTo>
                  <a:lnTo>
                    <a:pt x="4484" y="1817"/>
                  </a:lnTo>
                  <a:lnTo>
                    <a:pt x="4498" y="1817"/>
                  </a:lnTo>
                  <a:lnTo>
                    <a:pt x="4519" y="1817"/>
                  </a:lnTo>
                  <a:lnTo>
                    <a:pt x="4548" y="1817"/>
                  </a:lnTo>
                  <a:lnTo>
                    <a:pt x="4591" y="1819"/>
                  </a:lnTo>
                  <a:lnTo>
                    <a:pt x="4649" y="1821"/>
                  </a:lnTo>
                  <a:lnTo>
                    <a:pt x="4727" y="1827"/>
                  </a:lnTo>
                  <a:lnTo>
                    <a:pt x="4732" y="1827"/>
                  </a:lnTo>
                  <a:lnTo>
                    <a:pt x="4748" y="1829"/>
                  </a:lnTo>
                  <a:lnTo>
                    <a:pt x="4777" y="1833"/>
                  </a:lnTo>
                  <a:lnTo>
                    <a:pt x="4829" y="1839"/>
                  </a:lnTo>
                  <a:lnTo>
                    <a:pt x="4911" y="1845"/>
                  </a:lnTo>
                  <a:lnTo>
                    <a:pt x="5033" y="1856"/>
                  </a:lnTo>
                  <a:lnTo>
                    <a:pt x="5202" y="1870"/>
                  </a:lnTo>
                  <a:lnTo>
                    <a:pt x="5429" y="1891"/>
                  </a:lnTo>
                  <a:lnTo>
                    <a:pt x="5431" y="1893"/>
                  </a:lnTo>
                  <a:lnTo>
                    <a:pt x="5438" y="1895"/>
                  </a:lnTo>
                  <a:lnTo>
                    <a:pt x="5440" y="1895"/>
                  </a:lnTo>
                  <a:lnTo>
                    <a:pt x="5448" y="1897"/>
                  </a:lnTo>
                  <a:lnTo>
                    <a:pt x="5458" y="1899"/>
                  </a:lnTo>
                  <a:lnTo>
                    <a:pt x="5471" y="1901"/>
                  </a:lnTo>
                  <a:close/>
                  <a:moveTo>
                    <a:pt x="4019" y="1300"/>
                  </a:moveTo>
                  <a:lnTo>
                    <a:pt x="4028" y="1296"/>
                  </a:lnTo>
                  <a:lnTo>
                    <a:pt x="4034" y="1294"/>
                  </a:lnTo>
                  <a:lnTo>
                    <a:pt x="4036" y="1284"/>
                  </a:lnTo>
                  <a:lnTo>
                    <a:pt x="4038" y="1274"/>
                  </a:lnTo>
                  <a:lnTo>
                    <a:pt x="4038" y="1265"/>
                  </a:lnTo>
                  <a:lnTo>
                    <a:pt x="4040" y="1257"/>
                  </a:lnTo>
                  <a:lnTo>
                    <a:pt x="4052" y="1253"/>
                  </a:lnTo>
                  <a:lnTo>
                    <a:pt x="4065" y="1251"/>
                  </a:lnTo>
                  <a:lnTo>
                    <a:pt x="4075" y="1251"/>
                  </a:lnTo>
                  <a:lnTo>
                    <a:pt x="4089" y="1251"/>
                  </a:lnTo>
                  <a:lnTo>
                    <a:pt x="4102" y="1249"/>
                  </a:lnTo>
                  <a:lnTo>
                    <a:pt x="4122" y="1249"/>
                  </a:lnTo>
                  <a:lnTo>
                    <a:pt x="4145" y="1247"/>
                  </a:lnTo>
                  <a:lnTo>
                    <a:pt x="4178" y="1247"/>
                  </a:lnTo>
                  <a:lnTo>
                    <a:pt x="4215" y="1247"/>
                  </a:lnTo>
                  <a:lnTo>
                    <a:pt x="4251" y="1249"/>
                  </a:lnTo>
                  <a:lnTo>
                    <a:pt x="4288" y="1251"/>
                  </a:lnTo>
                  <a:lnTo>
                    <a:pt x="4325" y="1253"/>
                  </a:lnTo>
                  <a:lnTo>
                    <a:pt x="4360" y="1255"/>
                  </a:lnTo>
                  <a:lnTo>
                    <a:pt x="4397" y="1257"/>
                  </a:lnTo>
                  <a:lnTo>
                    <a:pt x="4432" y="1259"/>
                  </a:lnTo>
                  <a:lnTo>
                    <a:pt x="4469" y="1263"/>
                  </a:lnTo>
                  <a:lnTo>
                    <a:pt x="4519" y="1268"/>
                  </a:lnTo>
                  <a:lnTo>
                    <a:pt x="4560" y="1274"/>
                  </a:lnTo>
                  <a:lnTo>
                    <a:pt x="4591" y="1280"/>
                  </a:lnTo>
                  <a:lnTo>
                    <a:pt x="4618" y="1286"/>
                  </a:lnTo>
                  <a:lnTo>
                    <a:pt x="4635" y="1288"/>
                  </a:lnTo>
                  <a:lnTo>
                    <a:pt x="4651" y="1290"/>
                  </a:lnTo>
                  <a:lnTo>
                    <a:pt x="4663" y="1292"/>
                  </a:lnTo>
                  <a:lnTo>
                    <a:pt x="4674" y="1294"/>
                  </a:lnTo>
                  <a:lnTo>
                    <a:pt x="4668" y="1278"/>
                  </a:lnTo>
                  <a:lnTo>
                    <a:pt x="4668" y="1268"/>
                  </a:lnTo>
                  <a:lnTo>
                    <a:pt x="4661" y="1257"/>
                  </a:lnTo>
                  <a:lnTo>
                    <a:pt x="4653" y="1247"/>
                  </a:lnTo>
                  <a:lnTo>
                    <a:pt x="4618" y="1241"/>
                  </a:lnTo>
                  <a:lnTo>
                    <a:pt x="4591" y="1239"/>
                  </a:lnTo>
                  <a:lnTo>
                    <a:pt x="4562" y="1234"/>
                  </a:lnTo>
                  <a:lnTo>
                    <a:pt x="4529" y="1232"/>
                  </a:lnTo>
                  <a:lnTo>
                    <a:pt x="4480" y="1226"/>
                  </a:lnTo>
                  <a:lnTo>
                    <a:pt x="4420" y="1222"/>
                  </a:lnTo>
                  <a:lnTo>
                    <a:pt x="4337" y="1214"/>
                  </a:lnTo>
                  <a:lnTo>
                    <a:pt x="4230" y="1204"/>
                  </a:lnTo>
                  <a:lnTo>
                    <a:pt x="4205" y="1203"/>
                  </a:lnTo>
                  <a:lnTo>
                    <a:pt x="4182" y="1203"/>
                  </a:lnTo>
                  <a:lnTo>
                    <a:pt x="4156" y="1201"/>
                  </a:lnTo>
                  <a:lnTo>
                    <a:pt x="4131" y="1201"/>
                  </a:lnTo>
                  <a:lnTo>
                    <a:pt x="4106" y="1199"/>
                  </a:lnTo>
                  <a:lnTo>
                    <a:pt x="4081" y="1199"/>
                  </a:lnTo>
                  <a:lnTo>
                    <a:pt x="4058" y="1199"/>
                  </a:lnTo>
                  <a:lnTo>
                    <a:pt x="4034" y="1199"/>
                  </a:lnTo>
                  <a:lnTo>
                    <a:pt x="4021" y="1201"/>
                  </a:lnTo>
                  <a:lnTo>
                    <a:pt x="4007" y="1204"/>
                  </a:lnTo>
                  <a:lnTo>
                    <a:pt x="3992" y="1204"/>
                  </a:lnTo>
                  <a:lnTo>
                    <a:pt x="3978" y="1210"/>
                  </a:lnTo>
                  <a:lnTo>
                    <a:pt x="3972" y="1224"/>
                  </a:lnTo>
                  <a:lnTo>
                    <a:pt x="3966" y="1236"/>
                  </a:lnTo>
                  <a:lnTo>
                    <a:pt x="3968" y="1251"/>
                  </a:lnTo>
                  <a:lnTo>
                    <a:pt x="3972" y="1263"/>
                  </a:lnTo>
                  <a:lnTo>
                    <a:pt x="3978" y="1263"/>
                  </a:lnTo>
                  <a:lnTo>
                    <a:pt x="3990" y="1265"/>
                  </a:lnTo>
                  <a:lnTo>
                    <a:pt x="3999" y="1267"/>
                  </a:lnTo>
                  <a:lnTo>
                    <a:pt x="4009" y="1268"/>
                  </a:lnTo>
                  <a:lnTo>
                    <a:pt x="4015" y="1282"/>
                  </a:lnTo>
                  <a:lnTo>
                    <a:pt x="4019" y="1300"/>
                  </a:lnTo>
                  <a:close/>
                  <a:moveTo>
                    <a:pt x="2778" y="1156"/>
                  </a:moveTo>
                  <a:lnTo>
                    <a:pt x="2785" y="1160"/>
                  </a:lnTo>
                  <a:lnTo>
                    <a:pt x="2799" y="1162"/>
                  </a:lnTo>
                  <a:lnTo>
                    <a:pt x="2799" y="1150"/>
                  </a:lnTo>
                  <a:lnTo>
                    <a:pt x="2799" y="1139"/>
                  </a:lnTo>
                  <a:lnTo>
                    <a:pt x="2799" y="1127"/>
                  </a:lnTo>
                  <a:lnTo>
                    <a:pt x="2799" y="1119"/>
                  </a:lnTo>
                  <a:lnTo>
                    <a:pt x="2779" y="1102"/>
                  </a:lnTo>
                  <a:lnTo>
                    <a:pt x="2760" y="1088"/>
                  </a:lnTo>
                  <a:lnTo>
                    <a:pt x="2741" y="1076"/>
                  </a:lnTo>
                  <a:lnTo>
                    <a:pt x="2731" y="1067"/>
                  </a:lnTo>
                  <a:lnTo>
                    <a:pt x="2694" y="1049"/>
                  </a:lnTo>
                  <a:lnTo>
                    <a:pt x="2651" y="1034"/>
                  </a:lnTo>
                  <a:lnTo>
                    <a:pt x="2605" y="1016"/>
                  </a:lnTo>
                  <a:lnTo>
                    <a:pt x="2560" y="999"/>
                  </a:lnTo>
                  <a:lnTo>
                    <a:pt x="2516" y="981"/>
                  </a:lnTo>
                  <a:lnTo>
                    <a:pt x="2481" y="968"/>
                  </a:lnTo>
                  <a:lnTo>
                    <a:pt x="2454" y="956"/>
                  </a:lnTo>
                  <a:lnTo>
                    <a:pt x="2446" y="950"/>
                  </a:lnTo>
                  <a:lnTo>
                    <a:pt x="2434" y="945"/>
                  </a:lnTo>
                  <a:lnTo>
                    <a:pt x="2423" y="941"/>
                  </a:lnTo>
                  <a:lnTo>
                    <a:pt x="2411" y="935"/>
                  </a:lnTo>
                  <a:lnTo>
                    <a:pt x="2399" y="931"/>
                  </a:lnTo>
                  <a:lnTo>
                    <a:pt x="2386" y="923"/>
                  </a:lnTo>
                  <a:lnTo>
                    <a:pt x="2372" y="917"/>
                  </a:lnTo>
                  <a:lnTo>
                    <a:pt x="2353" y="910"/>
                  </a:lnTo>
                  <a:lnTo>
                    <a:pt x="2335" y="904"/>
                  </a:lnTo>
                  <a:lnTo>
                    <a:pt x="2324" y="906"/>
                  </a:lnTo>
                  <a:lnTo>
                    <a:pt x="2314" y="908"/>
                  </a:lnTo>
                  <a:lnTo>
                    <a:pt x="2300" y="917"/>
                  </a:lnTo>
                  <a:lnTo>
                    <a:pt x="2289" y="929"/>
                  </a:lnTo>
                  <a:lnTo>
                    <a:pt x="2277" y="939"/>
                  </a:lnTo>
                  <a:lnTo>
                    <a:pt x="2266" y="950"/>
                  </a:lnTo>
                  <a:lnTo>
                    <a:pt x="2248" y="970"/>
                  </a:lnTo>
                  <a:lnTo>
                    <a:pt x="2234" y="987"/>
                  </a:lnTo>
                  <a:lnTo>
                    <a:pt x="2223" y="1001"/>
                  </a:lnTo>
                  <a:lnTo>
                    <a:pt x="2215" y="1014"/>
                  </a:lnTo>
                  <a:lnTo>
                    <a:pt x="2205" y="1024"/>
                  </a:lnTo>
                  <a:lnTo>
                    <a:pt x="2198" y="1036"/>
                  </a:lnTo>
                  <a:lnTo>
                    <a:pt x="2190" y="1047"/>
                  </a:lnTo>
                  <a:lnTo>
                    <a:pt x="2182" y="1061"/>
                  </a:lnTo>
                  <a:lnTo>
                    <a:pt x="2180" y="1069"/>
                  </a:lnTo>
                  <a:lnTo>
                    <a:pt x="2178" y="1078"/>
                  </a:lnTo>
                  <a:lnTo>
                    <a:pt x="2176" y="1088"/>
                  </a:lnTo>
                  <a:lnTo>
                    <a:pt x="2176" y="1098"/>
                  </a:lnTo>
                  <a:lnTo>
                    <a:pt x="2227" y="1100"/>
                  </a:lnTo>
                  <a:lnTo>
                    <a:pt x="2277" y="1106"/>
                  </a:lnTo>
                  <a:lnTo>
                    <a:pt x="2326" y="1109"/>
                  </a:lnTo>
                  <a:lnTo>
                    <a:pt x="2380" y="1115"/>
                  </a:lnTo>
                  <a:lnTo>
                    <a:pt x="2438" y="1119"/>
                  </a:lnTo>
                  <a:lnTo>
                    <a:pt x="2510" y="1125"/>
                  </a:lnTo>
                  <a:lnTo>
                    <a:pt x="2591" y="1131"/>
                  </a:lnTo>
                  <a:lnTo>
                    <a:pt x="2688" y="1140"/>
                  </a:lnTo>
                  <a:lnTo>
                    <a:pt x="2698" y="1140"/>
                  </a:lnTo>
                  <a:lnTo>
                    <a:pt x="2708" y="1144"/>
                  </a:lnTo>
                  <a:lnTo>
                    <a:pt x="2719" y="1144"/>
                  </a:lnTo>
                  <a:lnTo>
                    <a:pt x="2731" y="1148"/>
                  </a:lnTo>
                  <a:lnTo>
                    <a:pt x="2743" y="1148"/>
                  </a:lnTo>
                  <a:lnTo>
                    <a:pt x="2754" y="1152"/>
                  </a:lnTo>
                  <a:lnTo>
                    <a:pt x="2766" y="1152"/>
                  </a:lnTo>
                  <a:lnTo>
                    <a:pt x="2778" y="1156"/>
                  </a:lnTo>
                  <a:close/>
                  <a:moveTo>
                    <a:pt x="2768" y="1030"/>
                  </a:moveTo>
                  <a:lnTo>
                    <a:pt x="2779" y="1030"/>
                  </a:lnTo>
                  <a:lnTo>
                    <a:pt x="2795" y="1030"/>
                  </a:lnTo>
                  <a:lnTo>
                    <a:pt x="2810" y="1014"/>
                  </a:lnTo>
                  <a:lnTo>
                    <a:pt x="2826" y="999"/>
                  </a:lnTo>
                  <a:lnTo>
                    <a:pt x="2832" y="987"/>
                  </a:lnTo>
                  <a:lnTo>
                    <a:pt x="2836" y="978"/>
                  </a:lnTo>
                  <a:lnTo>
                    <a:pt x="2847" y="968"/>
                  </a:lnTo>
                  <a:lnTo>
                    <a:pt x="2863" y="958"/>
                  </a:lnTo>
                  <a:lnTo>
                    <a:pt x="2873" y="947"/>
                  </a:lnTo>
                  <a:lnTo>
                    <a:pt x="2886" y="933"/>
                  </a:lnTo>
                  <a:lnTo>
                    <a:pt x="2906" y="915"/>
                  </a:lnTo>
                  <a:lnTo>
                    <a:pt x="2931" y="892"/>
                  </a:lnTo>
                  <a:lnTo>
                    <a:pt x="2942" y="875"/>
                  </a:lnTo>
                  <a:lnTo>
                    <a:pt x="2954" y="861"/>
                  </a:lnTo>
                  <a:lnTo>
                    <a:pt x="2968" y="846"/>
                  </a:lnTo>
                  <a:lnTo>
                    <a:pt x="2981" y="832"/>
                  </a:lnTo>
                  <a:lnTo>
                    <a:pt x="2993" y="815"/>
                  </a:lnTo>
                  <a:lnTo>
                    <a:pt x="3006" y="801"/>
                  </a:lnTo>
                  <a:lnTo>
                    <a:pt x="3018" y="786"/>
                  </a:lnTo>
                  <a:lnTo>
                    <a:pt x="3032" y="772"/>
                  </a:lnTo>
                  <a:lnTo>
                    <a:pt x="3037" y="758"/>
                  </a:lnTo>
                  <a:lnTo>
                    <a:pt x="3045" y="747"/>
                  </a:lnTo>
                  <a:lnTo>
                    <a:pt x="3053" y="735"/>
                  </a:lnTo>
                  <a:lnTo>
                    <a:pt x="3061" y="723"/>
                  </a:lnTo>
                  <a:lnTo>
                    <a:pt x="3066" y="712"/>
                  </a:lnTo>
                  <a:lnTo>
                    <a:pt x="3072" y="700"/>
                  </a:lnTo>
                  <a:lnTo>
                    <a:pt x="3080" y="689"/>
                  </a:lnTo>
                  <a:lnTo>
                    <a:pt x="3090" y="677"/>
                  </a:lnTo>
                  <a:lnTo>
                    <a:pt x="3096" y="661"/>
                  </a:lnTo>
                  <a:lnTo>
                    <a:pt x="3101" y="648"/>
                  </a:lnTo>
                  <a:lnTo>
                    <a:pt x="3107" y="634"/>
                  </a:lnTo>
                  <a:lnTo>
                    <a:pt x="3113" y="621"/>
                  </a:lnTo>
                  <a:lnTo>
                    <a:pt x="3119" y="607"/>
                  </a:lnTo>
                  <a:lnTo>
                    <a:pt x="3125" y="594"/>
                  </a:lnTo>
                  <a:lnTo>
                    <a:pt x="3130" y="582"/>
                  </a:lnTo>
                  <a:lnTo>
                    <a:pt x="3138" y="570"/>
                  </a:lnTo>
                  <a:lnTo>
                    <a:pt x="3138" y="551"/>
                  </a:lnTo>
                  <a:lnTo>
                    <a:pt x="3138" y="537"/>
                  </a:lnTo>
                  <a:lnTo>
                    <a:pt x="3138" y="526"/>
                  </a:lnTo>
                  <a:lnTo>
                    <a:pt x="3140" y="518"/>
                  </a:lnTo>
                  <a:lnTo>
                    <a:pt x="3138" y="506"/>
                  </a:lnTo>
                  <a:lnTo>
                    <a:pt x="3136" y="497"/>
                  </a:lnTo>
                  <a:lnTo>
                    <a:pt x="3134" y="483"/>
                  </a:lnTo>
                  <a:lnTo>
                    <a:pt x="3132" y="469"/>
                  </a:lnTo>
                  <a:lnTo>
                    <a:pt x="3123" y="456"/>
                  </a:lnTo>
                  <a:lnTo>
                    <a:pt x="3113" y="448"/>
                  </a:lnTo>
                  <a:lnTo>
                    <a:pt x="3107" y="444"/>
                  </a:lnTo>
                  <a:lnTo>
                    <a:pt x="3101" y="440"/>
                  </a:lnTo>
                  <a:lnTo>
                    <a:pt x="3094" y="434"/>
                  </a:lnTo>
                  <a:lnTo>
                    <a:pt x="3084" y="429"/>
                  </a:lnTo>
                  <a:lnTo>
                    <a:pt x="3072" y="427"/>
                  </a:lnTo>
                  <a:lnTo>
                    <a:pt x="3061" y="425"/>
                  </a:lnTo>
                  <a:lnTo>
                    <a:pt x="3049" y="423"/>
                  </a:lnTo>
                  <a:lnTo>
                    <a:pt x="3037" y="423"/>
                  </a:lnTo>
                  <a:lnTo>
                    <a:pt x="3022" y="425"/>
                  </a:lnTo>
                  <a:lnTo>
                    <a:pt x="3008" y="429"/>
                  </a:lnTo>
                  <a:lnTo>
                    <a:pt x="2993" y="433"/>
                  </a:lnTo>
                  <a:lnTo>
                    <a:pt x="2979" y="438"/>
                  </a:lnTo>
                  <a:lnTo>
                    <a:pt x="2962" y="440"/>
                  </a:lnTo>
                  <a:lnTo>
                    <a:pt x="2948" y="444"/>
                  </a:lnTo>
                  <a:lnTo>
                    <a:pt x="2933" y="448"/>
                  </a:lnTo>
                  <a:lnTo>
                    <a:pt x="2921" y="454"/>
                  </a:lnTo>
                  <a:lnTo>
                    <a:pt x="2911" y="458"/>
                  </a:lnTo>
                  <a:lnTo>
                    <a:pt x="2896" y="467"/>
                  </a:lnTo>
                  <a:lnTo>
                    <a:pt x="2873" y="479"/>
                  </a:lnTo>
                  <a:lnTo>
                    <a:pt x="2845" y="497"/>
                  </a:lnTo>
                  <a:lnTo>
                    <a:pt x="2810" y="516"/>
                  </a:lnTo>
                  <a:lnTo>
                    <a:pt x="2770" y="539"/>
                  </a:lnTo>
                  <a:lnTo>
                    <a:pt x="2725" y="566"/>
                  </a:lnTo>
                  <a:lnTo>
                    <a:pt x="2679" y="597"/>
                  </a:lnTo>
                  <a:lnTo>
                    <a:pt x="2653" y="615"/>
                  </a:lnTo>
                  <a:lnTo>
                    <a:pt x="2636" y="630"/>
                  </a:lnTo>
                  <a:lnTo>
                    <a:pt x="2622" y="640"/>
                  </a:lnTo>
                  <a:lnTo>
                    <a:pt x="2613" y="650"/>
                  </a:lnTo>
                  <a:lnTo>
                    <a:pt x="2601" y="656"/>
                  </a:lnTo>
                  <a:lnTo>
                    <a:pt x="2593" y="661"/>
                  </a:lnTo>
                  <a:lnTo>
                    <a:pt x="2582" y="667"/>
                  </a:lnTo>
                  <a:lnTo>
                    <a:pt x="2572" y="677"/>
                  </a:lnTo>
                  <a:lnTo>
                    <a:pt x="2568" y="687"/>
                  </a:lnTo>
                  <a:lnTo>
                    <a:pt x="2558" y="698"/>
                  </a:lnTo>
                  <a:lnTo>
                    <a:pt x="2547" y="706"/>
                  </a:lnTo>
                  <a:lnTo>
                    <a:pt x="2535" y="720"/>
                  </a:lnTo>
                  <a:lnTo>
                    <a:pt x="2516" y="737"/>
                  </a:lnTo>
                  <a:lnTo>
                    <a:pt x="2492" y="760"/>
                  </a:lnTo>
                  <a:lnTo>
                    <a:pt x="2481" y="772"/>
                  </a:lnTo>
                  <a:lnTo>
                    <a:pt x="2471" y="784"/>
                  </a:lnTo>
                  <a:lnTo>
                    <a:pt x="2459" y="797"/>
                  </a:lnTo>
                  <a:lnTo>
                    <a:pt x="2450" y="811"/>
                  </a:lnTo>
                  <a:lnTo>
                    <a:pt x="2438" y="824"/>
                  </a:lnTo>
                  <a:lnTo>
                    <a:pt x="2428" y="838"/>
                  </a:lnTo>
                  <a:lnTo>
                    <a:pt x="2417" y="851"/>
                  </a:lnTo>
                  <a:lnTo>
                    <a:pt x="2409" y="867"/>
                  </a:lnTo>
                  <a:lnTo>
                    <a:pt x="2413" y="875"/>
                  </a:lnTo>
                  <a:lnTo>
                    <a:pt x="2421" y="883"/>
                  </a:lnTo>
                  <a:lnTo>
                    <a:pt x="2425" y="884"/>
                  </a:lnTo>
                  <a:lnTo>
                    <a:pt x="2432" y="888"/>
                  </a:lnTo>
                  <a:lnTo>
                    <a:pt x="2442" y="892"/>
                  </a:lnTo>
                  <a:lnTo>
                    <a:pt x="2456" y="898"/>
                  </a:lnTo>
                  <a:lnTo>
                    <a:pt x="2469" y="910"/>
                  </a:lnTo>
                  <a:lnTo>
                    <a:pt x="2477" y="919"/>
                  </a:lnTo>
                  <a:lnTo>
                    <a:pt x="2492" y="925"/>
                  </a:lnTo>
                  <a:lnTo>
                    <a:pt x="2508" y="931"/>
                  </a:lnTo>
                  <a:lnTo>
                    <a:pt x="2525" y="937"/>
                  </a:lnTo>
                  <a:lnTo>
                    <a:pt x="2547" y="947"/>
                  </a:lnTo>
                  <a:lnTo>
                    <a:pt x="2547" y="941"/>
                  </a:lnTo>
                  <a:lnTo>
                    <a:pt x="2553" y="929"/>
                  </a:lnTo>
                  <a:lnTo>
                    <a:pt x="2556" y="914"/>
                  </a:lnTo>
                  <a:lnTo>
                    <a:pt x="2564" y="896"/>
                  </a:lnTo>
                  <a:lnTo>
                    <a:pt x="2570" y="873"/>
                  </a:lnTo>
                  <a:lnTo>
                    <a:pt x="2578" y="850"/>
                  </a:lnTo>
                  <a:lnTo>
                    <a:pt x="2587" y="826"/>
                  </a:lnTo>
                  <a:lnTo>
                    <a:pt x="2599" y="803"/>
                  </a:lnTo>
                  <a:lnTo>
                    <a:pt x="2611" y="784"/>
                  </a:lnTo>
                  <a:lnTo>
                    <a:pt x="2622" y="766"/>
                  </a:lnTo>
                  <a:lnTo>
                    <a:pt x="2634" y="749"/>
                  </a:lnTo>
                  <a:lnTo>
                    <a:pt x="2646" y="733"/>
                  </a:lnTo>
                  <a:lnTo>
                    <a:pt x="2655" y="716"/>
                  </a:lnTo>
                  <a:lnTo>
                    <a:pt x="2667" y="698"/>
                  </a:lnTo>
                  <a:lnTo>
                    <a:pt x="2677" y="681"/>
                  </a:lnTo>
                  <a:lnTo>
                    <a:pt x="2688" y="665"/>
                  </a:lnTo>
                  <a:lnTo>
                    <a:pt x="2704" y="656"/>
                  </a:lnTo>
                  <a:lnTo>
                    <a:pt x="2719" y="646"/>
                  </a:lnTo>
                  <a:lnTo>
                    <a:pt x="2735" y="634"/>
                  </a:lnTo>
                  <a:lnTo>
                    <a:pt x="2752" y="623"/>
                  </a:lnTo>
                  <a:lnTo>
                    <a:pt x="2762" y="621"/>
                  </a:lnTo>
                  <a:lnTo>
                    <a:pt x="2774" y="621"/>
                  </a:lnTo>
                  <a:lnTo>
                    <a:pt x="2785" y="621"/>
                  </a:lnTo>
                  <a:lnTo>
                    <a:pt x="2797" y="621"/>
                  </a:lnTo>
                  <a:lnTo>
                    <a:pt x="2807" y="619"/>
                  </a:lnTo>
                  <a:lnTo>
                    <a:pt x="2818" y="619"/>
                  </a:lnTo>
                  <a:lnTo>
                    <a:pt x="2830" y="619"/>
                  </a:lnTo>
                  <a:lnTo>
                    <a:pt x="2842" y="619"/>
                  </a:lnTo>
                  <a:lnTo>
                    <a:pt x="2853" y="628"/>
                  </a:lnTo>
                  <a:lnTo>
                    <a:pt x="2863" y="644"/>
                  </a:lnTo>
                  <a:lnTo>
                    <a:pt x="2863" y="652"/>
                  </a:lnTo>
                  <a:lnTo>
                    <a:pt x="2863" y="661"/>
                  </a:lnTo>
                  <a:lnTo>
                    <a:pt x="2863" y="671"/>
                  </a:lnTo>
                  <a:lnTo>
                    <a:pt x="2863" y="681"/>
                  </a:lnTo>
                  <a:lnTo>
                    <a:pt x="2853" y="692"/>
                  </a:lnTo>
                  <a:lnTo>
                    <a:pt x="2843" y="704"/>
                  </a:lnTo>
                  <a:lnTo>
                    <a:pt x="2834" y="716"/>
                  </a:lnTo>
                  <a:lnTo>
                    <a:pt x="2826" y="729"/>
                  </a:lnTo>
                  <a:lnTo>
                    <a:pt x="2818" y="741"/>
                  </a:lnTo>
                  <a:lnTo>
                    <a:pt x="2812" y="753"/>
                  </a:lnTo>
                  <a:lnTo>
                    <a:pt x="2805" y="764"/>
                  </a:lnTo>
                  <a:lnTo>
                    <a:pt x="2799" y="776"/>
                  </a:lnTo>
                  <a:lnTo>
                    <a:pt x="2807" y="776"/>
                  </a:lnTo>
                  <a:lnTo>
                    <a:pt x="2816" y="778"/>
                  </a:lnTo>
                  <a:lnTo>
                    <a:pt x="2822" y="778"/>
                  </a:lnTo>
                  <a:lnTo>
                    <a:pt x="2828" y="784"/>
                  </a:lnTo>
                  <a:lnTo>
                    <a:pt x="2836" y="787"/>
                  </a:lnTo>
                  <a:lnTo>
                    <a:pt x="2847" y="797"/>
                  </a:lnTo>
                  <a:lnTo>
                    <a:pt x="2847" y="805"/>
                  </a:lnTo>
                  <a:lnTo>
                    <a:pt x="2849" y="813"/>
                  </a:lnTo>
                  <a:lnTo>
                    <a:pt x="2851" y="822"/>
                  </a:lnTo>
                  <a:lnTo>
                    <a:pt x="2853" y="834"/>
                  </a:lnTo>
                  <a:lnTo>
                    <a:pt x="2838" y="842"/>
                  </a:lnTo>
                  <a:lnTo>
                    <a:pt x="2826" y="850"/>
                  </a:lnTo>
                  <a:lnTo>
                    <a:pt x="2810" y="859"/>
                  </a:lnTo>
                  <a:lnTo>
                    <a:pt x="2799" y="871"/>
                  </a:lnTo>
                  <a:lnTo>
                    <a:pt x="2785" y="871"/>
                  </a:lnTo>
                  <a:lnTo>
                    <a:pt x="2774" y="875"/>
                  </a:lnTo>
                  <a:lnTo>
                    <a:pt x="2762" y="877"/>
                  </a:lnTo>
                  <a:lnTo>
                    <a:pt x="2750" y="881"/>
                  </a:lnTo>
                  <a:lnTo>
                    <a:pt x="2739" y="883"/>
                  </a:lnTo>
                  <a:lnTo>
                    <a:pt x="2727" y="886"/>
                  </a:lnTo>
                  <a:lnTo>
                    <a:pt x="2715" y="888"/>
                  </a:lnTo>
                  <a:lnTo>
                    <a:pt x="2704" y="892"/>
                  </a:lnTo>
                  <a:lnTo>
                    <a:pt x="2692" y="890"/>
                  </a:lnTo>
                  <a:lnTo>
                    <a:pt x="2682" y="890"/>
                  </a:lnTo>
                  <a:lnTo>
                    <a:pt x="2671" y="890"/>
                  </a:lnTo>
                  <a:lnTo>
                    <a:pt x="2661" y="890"/>
                  </a:lnTo>
                  <a:lnTo>
                    <a:pt x="2650" y="888"/>
                  </a:lnTo>
                  <a:lnTo>
                    <a:pt x="2638" y="888"/>
                  </a:lnTo>
                  <a:lnTo>
                    <a:pt x="2626" y="888"/>
                  </a:lnTo>
                  <a:lnTo>
                    <a:pt x="2615" y="888"/>
                  </a:lnTo>
                  <a:lnTo>
                    <a:pt x="2609" y="906"/>
                  </a:lnTo>
                  <a:lnTo>
                    <a:pt x="2609" y="925"/>
                  </a:lnTo>
                  <a:lnTo>
                    <a:pt x="2607" y="943"/>
                  </a:lnTo>
                  <a:lnTo>
                    <a:pt x="2605" y="962"/>
                  </a:lnTo>
                  <a:lnTo>
                    <a:pt x="2628" y="972"/>
                  </a:lnTo>
                  <a:lnTo>
                    <a:pt x="2651" y="981"/>
                  </a:lnTo>
                  <a:lnTo>
                    <a:pt x="2671" y="991"/>
                  </a:lnTo>
                  <a:lnTo>
                    <a:pt x="2692" y="1001"/>
                  </a:lnTo>
                  <a:lnTo>
                    <a:pt x="2710" y="1009"/>
                  </a:lnTo>
                  <a:lnTo>
                    <a:pt x="2727" y="1016"/>
                  </a:lnTo>
                  <a:lnTo>
                    <a:pt x="2745" y="1022"/>
                  </a:lnTo>
                  <a:lnTo>
                    <a:pt x="2768" y="1030"/>
                  </a:lnTo>
                  <a:close/>
                  <a:moveTo>
                    <a:pt x="3255" y="956"/>
                  </a:moveTo>
                  <a:lnTo>
                    <a:pt x="3268" y="956"/>
                  </a:lnTo>
                  <a:lnTo>
                    <a:pt x="3280" y="956"/>
                  </a:lnTo>
                  <a:lnTo>
                    <a:pt x="3286" y="943"/>
                  </a:lnTo>
                  <a:lnTo>
                    <a:pt x="3291" y="935"/>
                  </a:lnTo>
                  <a:lnTo>
                    <a:pt x="3282" y="919"/>
                  </a:lnTo>
                  <a:lnTo>
                    <a:pt x="3272" y="906"/>
                  </a:lnTo>
                  <a:lnTo>
                    <a:pt x="3260" y="892"/>
                  </a:lnTo>
                  <a:lnTo>
                    <a:pt x="3247" y="879"/>
                  </a:lnTo>
                  <a:lnTo>
                    <a:pt x="3229" y="859"/>
                  </a:lnTo>
                  <a:lnTo>
                    <a:pt x="3206" y="834"/>
                  </a:lnTo>
                  <a:lnTo>
                    <a:pt x="3189" y="834"/>
                  </a:lnTo>
                  <a:lnTo>
                    <a:pt x="3181" y="834"/>
                  </a:lnTo>
                  <a:lnTo>
                    <a:pt x="3173" y="834"/>
                  </a:lnTo>
                  <a:lnTo>
                    <a:pt x="3169" y="840"/>
                  </a:lnTo>
                  <a:lnTo>
                    <a:pt x="3173" y="855"/>
                  </a:lnTo>
                  <a:lnTo>
                    <a:pt x="3175" y="867"/>
                  </a:lnTo>
                  <a:lnTo>
                    <a:pt x="3185" y="879"/>
                  </a:lnTo>
                  <a:lnTo>
                    <a:pt x="3202" y="898"/>
                  </a:lnTo>
                  <a:lnTo>
                    <a:pt x="3214" y="910"/>
                  </a:lnTo>
                  <a:lnTo>
                    <a:pt x="3226" y="923"/>
                  </a:lnTo>
                  <a:lnTo>
                    <a:pt x="3239" y="937"/>
                  </a:lnTo>
                  <a:lnTo>
                    <a:pt x="3255" y="956"/>
                  </a:lnTo>
                  <a:close/>
                  <a:moveTo>
                    <a:pt x="2330" y="935"/>
                  </a:moveTo>
                  <a:lnTo>
                    <a:pt x="2337" y="929"/>
                  </a:lnTo>
                  <a:lnTo>
                    <a:pt x="2345" y="929"/>
                  </a:lnTo>
                  <a:lnTo>
                    <a:pt x="2339" y="921"/>
                  </a:lnTo>
                  <a:lnTo>
                    <a:pt x="2335" y="914"/>
                  </a:lnTo>
                  <a:lnTo>
                    <a:pt x="2331" y="923"/>
                  </a:lnTo>
                  <a:lnTo>
                    <a:pt x="2330" y="935"/>
                  </a:lnTo>
                  <a:close/>
                  <a:moveTo>
                    <a:pt x="2679" y="846"/>
                  </a:moveTo>
                  <a:lnTo>
                    <a:pt x="2684" y="848"/>
                  </a:lnTo>
                  <a:lnTo>
                    <a:pt x="2696" y="850"/>
                  </a:lnTo>
                  <a:lnTo>
                    <a:pt x="2708" y="850"/>
                  </a:lnTo>
                  <a:lnTo>
                    <a:pt x="2721" y="851"/>
                  </a:lnTo>
                  <a:lnTo>
                    <a:pt x="2739" y="844"/>
                  </a:lnTo>
                  <a:lnTo>
                    <a:pt x="2752" y="840"/>
                  </a:lnTo>
                  <a:lnTo>
                    <a:pt x="2762" y="836"/>
                  </a:lnTo>
                  <a:lnTo>
                    <a:pt x="2772" y="834"/>
                  </a:lnTo>
                  <a:lnTo>
                    <a:pt x="2783" y="828"/>
                  </a:lnTo>
                  <a:lnTo>
                    <a:pt x="2795" y="824"/>
                  </a:lnTo>
                  <a:lnTo>
                    <a:pt x="2785" y="815"/>
                  </a:lnTo>
                  <a:lnTo>
                    <a:pt x="2783" y="813"/>
                  </a:lnTo>
                  <a:lnTo>
                    <a:pt x="2770" y="813"/>
                  </a:lnTo>
                  <a:lnTo>
                    <a:pt x="2756" y="815"/>
                  </a:lnTo>
                  <a:lnTo>
                    <a:pt x="2743" y="817"/>
                  </a:lnTo>
                  <a:lnTo>
                    <a:pt x="2731" y="819"/>
                  </a:lnTo>
                  <a:lnTo>
                    <a:pt x="2712" y="824"/>
                  </a:lnTo>
                  <a:lnTo>
                    <a:pt x="2698" y="830"/>
                  </a:lnTo>
                  <a:lnTo>
                    <a:pt x="2688" y="834"/>
                  </a:lnTo>
                  <a:lnTo>
                    <a:pt x="2684" y="838"/>
                  </a:lnTo>
                  <a:lnTo>
                    <a:pt x="2679" y="840"/>
                  </a:lnTo>
                  <a:lnTo>
                    <a:pt x="2679" y="846"/>
                  </a:lnTo>
                  <a:close/>
                  <a:moveTo>
                    <a:pt x="2667" y="793"/>
                  </a:moveTo>
                  <a:lnTo>
                    <a:pt x="2682" y="784"/>
                  </a:lnTo>
                  <a:lnTo>
                    <a:pt x="2702" y="774"/>
                  </a:lnTo>
                  <a:lnTo>
                    <a:pt x="2719" y="762"/>
                  </a:lnTo>
                  <a:lnTo>
                    <a:pt x="2737" y="754"/>
                  </a:lnTo>
                  <a:lnTo>
                    <a:pt x="2754" y="733"/>
                  </a:lnTo>
                  <a:lnTo>
                    <a:pt x="2776" y="716"/>
                  </a:lnTo>
                  <a:lnTo>
                    <a:pt x="2795" y="694"/>
                  </a:lnTo>
                  <a:lnTo>
                    <a:pt x="2816" y="677"/>
                  </a:lnTo>
                  <a:lnTo>
                    <a:pt x="2816" y="667"/>
                  </a:lnTo>
                  <a:lnTo>
                    <a:pt x="2816" y="659"/>
                  </a:lnTo>
                  <a:lnTo>
                    <a:pt x="2803" y="659"/>
                  </a:lnTo>
                  <a:lnTo>
                    <a:pt x="2795" y="661"/>
                  </a:lnTo>
                  <a:lnTo>
                    <a:pt x="2787" y="663"/>
                  </a:lnTo>
                  <a:lnTo>
                    <a:pt x="2781" y="667"/>
                  </a:lnTo>
                  <a:lnTo>
                    <a:pt x="2772" y="667"/>
                  </a:lnTo>
                  <a:lnTo>
                    <a:pt x="2764" y="673"/>
                  </a:lnTo>
                  <a:lnTo>
                    <a:pt x="2750" y="677"/>
                  </a:lnTo>
                  <a:lnTo>
                    <a:pt x="2737" y="687"/>
                  </a:lnTo>
                  <a:lnTo>
                    <a:pt x="2719" y="706"/>
                  </a:lnTo>
                  <a:lnTo>
                    <a:pt x="2704" y="725"/>
                  </a:lnTo>
                  <a:lnTo>
                    <a:pt x="2688" y="745"/>
                  </a:lnTo>
                  <a:lnTo>
                    <a:pt x="2673" y="766"/>
                  </a:lnTo>
                  <a:lnTo>
                    <a:pt x="2667" y="778"/>
                  </a:lnTo>
                  <a:lnTo>
                    <a:pt x="2667" y="793"/>
                  </a:lnTo>
                  <a:close/>
                  <a:moveTo>
                    <a:pt x="3449" y="603"/>
                  </a:moveTo>
                  <a:lnTo>
                    <a:pt x="3464" y="603"/>
                  </a:lnTo>
                  <a:lnTo>
                    <a:pt x="3482" y="603"/>
                  </a:lnTo>
                  <a:lnTo>
                    <a:pt x="3483" y="594"/>
                  </a:lnTo>
                  <a:lnTo>
                    <a:pt x="3485" y="592"/>
                  </a:lnTo>
                  <a:lnTo>
                    <a:pt x="3485" y="580"/>
                  </a:lnTo>
                  <a:lnTo>
                    <a:pt x="3485" y="568"/>
                  </a:lnTo>
                  <a:lnTo>
                    <a:pt x="3485" y="557"/>
                  </a:lnTo>
                  <a:lnTo>
                    <a:pt x="3485" y="545"/>
                  </a:lnTo>
                  <a:lnTo>
                    <a:pt x="3466" y="541"/>
                  </a:lnTo>
                  <a:lnTo>
                    <a:pt x="3452" y="539"/>
                  </a:lnTo>
                  <a:lnTo>
                    <a:pt x="3443" y="539"/>
                  </a:lnTo>
                  <a:lnTo>
                    <a:pt x="3439" y="539"/>
                  </a:lnTo>
                  <a:lnTo>
                    <a:pt x="3429" y="535"/>
                  </a:lnTo>
                  <a:lnTo>
                    <a:pt x="3427" y="533"/>
                  </a:lnTo>
                  <a:lnTo>
                    <a:pt x="3406" y="528"/>
                  </a:lnTo>
                  <a:lnTo>
                    <a:pt x="3392" y="524"/>
                  </a:lnTo>
                  <a:lnTo>
                    <a:pt x="3379" y="520"/>
                  </a:lnTo>
                  <a:lnTo>
                    <a:pt x="3369" y="518"/>
                  </a:lnTo>
                  <a:lnTo>
                    <a:pt x="3357" y="516"/>
                  </a:lnTo>
                  <a:lnTo>
                    <a:pt x="3346" y="514"/>
                  </a:lnTo>
                  <a:lnTo>
                    <a:pt x="3332" y="512"/>
                  </a:lnTo>
                  <a:lnTo>
                    <a:pt x="3317" y="512"/>
                  </a:lnTo>
                  <a:lnTo>
                    <a:pt x="3311" y="520"/>
                  </a:lnTo>
                  <a:lnTo>
                    <a:pt x="3307" y="524"/>
                  </a:lnTo>
                  <a:lnTo>
                    <a:pt x="3307" y="531"/>
                  </a:lnTo>
                  <a:lnTo>
                    <a:pt x="3307" y="537"/>
                  </a:lnTo>
                  <a:lnTo>
                    <a:pt x="3309" y="541"/>
                  </a:lnTo>
                  <a:lnTo>
                    <a:pt x="3317" y="549"/>
                  </a:lnTo>
                  <a:lnTo>
                    <a:pt x="3328" y="555"/>
                  </a:lnTo>
                  <a:lnTo>
                    <a:pt x="3346" y="561"/>
                  </a:lnTo>
                  <a:lnTo>
                    <a:pt x="3357" y="562"/>
                  </a:lnTo>
                  <a:lnTo>
                    <a:pt x="3375" y="568"/>
                  </a:lnTo>
                  <a:lnTo>
                    <a:pt x="3396" y="572"/>
                  </a:lnTo>
                  <a:lnTo>
                    <a:pt x="3427" y="582"/>
                  </a:lnTo>
                  <a:lnTo>
                    <a:pt x="3441" y="592"/>
                  </a:lnTo>
                  <a:lnTo>
                    <a:pt x="3449" y="603"/>
                  </a:lnTo>
                  <a:close/>
                  <a:moveTo>
                    <a:pt x="2514" y="365"/>
                  </a:moveTo>
                  <a:lnTo>
                    <a:pt x="2508" y="357"/>
                  </a:lnTo>
                  <a:lnTo>
                    <a:pt x="2504" y="349"/>
                  </a:lnTo>
                  <a:lnTo>
                    <a:pt x="2506" y="337"/>
                  </a:lnTo>
                  <a:lnTo>
                    <a:pt x="2512" y="328"/>
                  </a:lnTo>
                  <a:lnTo>
                    <a:pt x="2518" y="314"/>
                  </a:lnTo>
                  <a:lnTo>
                    <a:pt x="2525" y="301"/>
                  </a:lnTo>
                  <a:lnTo>
                    <a:pt x="2533" y="281"/>
                  </a:lnTo>
                  <a:lnTo>
                    <a:pt x="2547" y="260"/>
                  </a:lnTo>
                  <a:lnTo>
                    <a:pt x="2560" y="231"/>
                  </a:lnTo>
                  <a:lnTo>
                    <a:pt x="2578" y="196"/>
                  </a:lnTo>
                  <a:lnTo>
                    <a:pt x="2586" y="184"/>
                  </a:lnTo>
                  <a:lnTo>
                    <a:pt x="2593" y="175"/>
                  </a:lnTo>
                  <a:lnTo>
                    <a:pt x="2601" y="176"/>
                  </a:lnTo>
                  <a:lnTo>
                    <a:pt x="2609" y="184"/>
                  </a:lnTo>
                  <a:lnTo>
                    <a:pt x="2609" y="196"/>
                  </a:lnTo>
                  <a:lnTo>
                    <a:pt x="2609" y="211"/>
                  </a:lnTo>
                  <a:lnTo>
                    <a:pt x="2603" y="223"/>
                  </a:lnTo>
                  <a:lnTo>
                    <a:pt x="2599" y="237"/>
                  </a:lnTo>
                  <a:lnTo>
                    <a:pt x="2593" y="246"/>
                  </a:lnTo>
                  <a:lnTo>
                    <a:pt x="2591" y="258"/>
                  </a:lnTo>
                  <a:lnTo>
                    <a:pt x="2587" y="270"/>
                  </a:lnTo>
                  <a:lnTo>
                    <a:pt x="2584" y="285"/>
                  </a:lnTo>
                  <a:lnTo>
                    <a:pt x="2578" y="305"/>
                  </a:lnTo>
                  <a:lnTo>
                    <a:pt x="2572" y="334"/>
                  </a:lnTo>
                  <a:lnTo>
                    <a:pt x="2562" y="336"/>
                  </a:lnTo>
                  <a:lnTo>
                    <a:pt x="2556" y="339"/>
                  </a:lnTo>
                  <a:lnTo>
                    <a:pt x="2551" y="345"/>
                  </a:lnTo>
                  <a:lnTo>
                    <a:pt x="2547" y="359"/>
                  </a:lnTo>
                  <a:lnTo>
                    <a:pt x="2529" y="359"/>
                  </a:lnTo>
                  <a:lnTo>
                    <a:pt x="2514" y="365"/>
                  </a:lnTo>
                  <a:close/>
                  <a:moveTo>
                    <a:pt x="3249" y="301"/>
                  </a:moveTo>
                  <a:lnTo>
                    <a:pt x="3245" y="285"/>
                  </a:lnTo>
                  <a:lnTo>
                    <a:pt x="3243" y="270"/>
                  </a:lnTo>
                  <a:lnTo>
                    <a:pt x="3262" y="252"/>
                  </a:lnTo>
                  <a:lnTo>
                    <a:pt x="3282" y="237"/>
                  </a:lnTo>
                  <a:lnTo>
                    <a:pt x="3299" y="219"/>
                  </a:lnTo>
                  <a:lnTo>
                    <a:pt x="3317" y="202"/>
                  </a:lnTo>
                  <a:lnTo>
                    <a:pt x="3328" y="188"/>
                  </a:lnTo>
                  <a:lnTo>
                    <a:pt x="3340" y="175"/>
                  </a:lnTo>
                  <a:lnTo>
                    <a:pt x="3354" y="161"/>
                  </a:lnTo>
                  <a:lnTo>
                    <a:pt x="3367" y="147"/>
                  </a:lnTo>
                  <a:lnTo>
                    <a:pt x="3379" y="132"/>
                  </a:lnTo>
                  <a:lnTo>
                    <a:pt x="3392" y="118"/>
                  </a:lnTo>
                  <a:lnTo>
                    <a:pt x="3404" y="103"/>
                  </a:lnTo>
                  <a:lnTo>
                    <a:pt x="3418" y="89"/>
                  </a:lnTo>
                  <a:lnTo>
                    <a:pt x="3425" y="85"/>
                  </a:lnTo>
                  <a:lnTo>
                    <a:pt x="3439" y="80"/>
                  </a:lnTo>
                  <a:lnTo>
                    <a:pt x="3439" y="89"/>
                  </a:lnTo>
                  <a:lnTo>
                    <a:pt x="3441" y="97"/>
                  </a:lnTo>
                  <a:lnTo>
                    <a:pt x="3441" y="103"/>
                  </a:lnTo>
                  <a:lnTo>
                    <a:pt x="3443" y="111"/>
                  </a:lnTo>
                  <a:lnTo>
                    <a:pt x="3443" y="116"/>
                  </a:lnTo>
                  <a:lnTo>
                    <a:pt x="3443" y="122"/>
                  </a:lnTo>
                  <a:lnTo>
                    <a:pt x="3443" y="130"/>
                  </a:lnTo>
                  <a:lnTo>
                    <a:pt x="3445" y="144"/>
                  </a:lnTo>
                  <a:lnTo>
                    <a:pt x="3429" y="155"/>
                  </a:lnTo>
                  <a:lnTo>
                    <a:pt x="3418" y="167"/>
                  </a:lnTo>
                  <a:lnTo>
                    <a:pt x="3408" y="175"/>
                  </a:lnTo>
                  <a:lnTo>
                    <a:pt x="3400" y="186"/>
                  </a:lnTo>
                  <a:lnTo>
                    <a:pt x="3390" y="194"/>
                  </a:lnTo>
                  <a:lnTo>
                    <a:pt x="3381" y="208"/>
                  </a:lnTo>
                  <a:lnTo>
                    <a:pt x="3367" y="221"/>
                  </a:lnTo>
                  <a:lnTo>
                    <a:pt x="3354" y="242"/>
                  </a:lnTo>
                  <a:lnTo>
                    <a:pt x="3342" y="248"/>
                  </a:lnTo>
                  <a:lnTo>
                    <a:pt x="3330" y="254"/>
                  </a:lnTo>
                  <a:lnTo>
                    <a:pt x="3321" y="262"/>
                  </a:lnTo>
                  <a:lnTo>
                    <a:pt x="3311" y="270"/>
                  </a:lnTo>
                  <a:lnTo>
                    <a:pt x="3299" y="275"/>
                  </a:lnTo>
                  <a:lnTo>
                    <a:pt x="3290" y="283"/>
                  </a:lnTo>
                  <a:lnTo>
                    <a:pt x="3280" y="291"/>
                  </a:lnTo>
                  <a:lnTo>
                    <a:pt x="3270" y="301"/>
                  </a:lnTo>
                  <a:lnTo>
                    <a:pt x="3258" y="301"/>
                  </a:lnTo>
                  <a:lnTo>
                    <a:pt x="3249" y="301"/>
                  </a:lnTo>
                  <a:close/>
                  <a:moveTo>
                    <a:pt x="2869" y="242"/>
                  </a:moveTo>
                  <a:lnTo>
                    <a:pt x="2859" y="237"/>
                  </a:lnTo>
                  <a:lnTo>
                    <a:pt x="2853" y="233"/>
                  </a:lnTo>
                  <a:lnTo>
                    <a:pt x="2853" y="219"/>
                  </a:lnTo>
                  <a:lnTo>
                    <a:pt x="2855" y="208"/>
                  </a:lnTo>
                  <a:lnTo>
                    <a:pt x="2855" y="196"/>
                  </a:lnTo>
                  <a:lnTo>
                    <a:pt x="2857" y="184"/>
                  </a:lnTo>
                  <a:lnTo>
                    <a:pt x="2857" y="173"/>
                  </a:lnTo>
                  <a:lnTo>
                    <a:pt x="2857" y="161"/>
                  </a:lnTo>
                  <a:lnTo>
                    <a:pt x="2859" y="149"/>
                  </a:lnTo>
                  <a:lnTo>
                    <a:pt x="2863" y="138"/>
                  </a:lnTo>
                  <a:lnTo>
                    <a:pt x="2861" y="107"/>
                  </a:lnTo>
                  <a:lnTo>
                    <a:pt x="2861" y="83"/>
                  </a:lnTo>
                  <a:lnTo>
                    <a:pt x="2859" y="64"/>
                  </a:lnTo>
                  <a:lnTo>
                    <a:pt x="2859" y="48"/>
                  </a:lnTo>
                  <a:lnTo>
                    <a:pt x="2859" y="35"/>
                  </a:lnTo>
                  <a:lnTo>
                    <a:pt x="2859" y="27"/>
                  </a:lnTo>
                  <a:lnTo>
                    <a:pt x="2859" y="17"/>
                  </a:lnTo>
                  <a:lnTo>
                    <a:pt x="2863" y="12"/>
                  </a:lnTo>
                  <a:lnTo>
                    <a:pt x="2865" y="6"/>
                  </a:lnTo>
                  <a:lnTo>
                    <a:pt x="2871" y="6"/>
                  </a:lnTo>
                  <a:lnTo>
                    <a:pt x="2876" y="2"/>
                  </a:lnTo>
                  <a:lnTo>
                    <a:pt x="2890" y="0"/>
                  </a:lnTo>
                  <a:lnTo>
                    <a:pt x="2894" y="10"/>
                  </a:lnTo>
                  <a:lnTo>
                    <a:pt x="2898" y="23"/>
                  </a:lnTo>
                  <a:lnTo>
                    <a:pt x="2898" y="33"/>
                  </a:lnTo>
                  <a:lnTo>
                    <a:pt x="2898" y="50"/>
                  </a:lnTo>
                  <a:lnTo>
                    <a:pt x="2898" y="72"/>
                  </a:lnTo>
                  <a:lnTo>
                    <a:pt x="2900" y="101"/>
                  </a:lnTo>
                  <a:lnTo>
                    <a:pt x="2900" y="114"/>
                  </a:lnTo>
                  <a:lnTo>
                    <a:pt x="2900" y="130"/>
                  </a:lnTo>
                  <a:lnTo>
                    <a:pt x="2900" y="145"/>
                  </a:lnTo>
                  <a:lnTo>
                    <a:pt x="2900" y="161"/>
                  </a:lnTo>
                  <a:lnTo>
                    <a:pt x="2900" y="175"/>
                  </a:lnTo>
                  <a:lnTo>
                    <a:pt x="2900" y="188"/>
                  </a:lnTo>
                  <a:lnTo>
                    <a:pt x="2900" y="202"/>
                  </a:lnTo>
                  <a:lnTo>
                    <a:pt x="2900" y="217"/>
                  </a:lnTo>
                  <a:lnTo>
                    <a:pt x="2888" y="223"/>
                  </a:lnTo>
                  <a:lnTo>
                    <a:pt x="2880" y="231"/>
                  </a:lnTo>
                  <a:lnTo>
                    <a:pt x="2874" y="235"/>
                  </a:lnTo>
                  <a:lnTo>
                    <a:pt x="2873" y="239"/>
                  </a:lnTo>
                  <a:lnTo>
                    <a:pt x="2869" y="240"/>
                  </a:lnTo>
                  <a:lnTo>
                    <a:pt x="2869" y="242"/>
                  </a:lnTo>
                  <a:close/>
                  <a:moveTo>
                    <a:pt x="2403" y="5117"/>
                  </a:moveTo>
                  <a:lnTo>
                    <a:pt x="2386" y="5115"/>
                  </a:lnTo>
                  <a:lnTo>
                    <a:pt x="2370" y="5113"/>
                  </a:lnTo>
                  <a:lnTo>
                    <a:pt x="2355" y="5111"/>
                  </a:lnTo>
                  <a:lnTo>
                    <a:pt x="2339" y="5111"/>
                  </a:lnTo>
                  <a:lnTo>
                    <a:pt x="2324" y="5109"/>
                  </a:lnTo>
                  <a:lnTo>
                    <a:pt x="2310" y="5109"/>
                  </a:lnTo>
                  <a:lnTo>
                    <a:pt x="2295" y="5107"/>
                  </a:lnTo>
                  <a:lnTo>
                    <a:pt x="2283" y="5107"/>
                  </a:lnTo>
                  <a:lnTo>
                    <a:pt x="2269" y="5103"/>
                  </a:lnTo>
                  <a:lnTo>
                    <a:pt x="2258" y="5101"/>
                  </a:lnTo>
                  <a:lnTo>
                    <a:pt x="2246" y="5097"/>
                  </a:lnTo>
                  <a:lnTo>
                    <a:pt x="2234" y="5095"/>
                  </a:lnTo>
                  <a:lnTo>
                    <a:pt x="2223" y="5091"/>
                  </a:lnTo>
                  <a:lnTo>
                    <a:pt x="2211" y="5090"/>
                  </a:lnTo>
                  <a:lnTo>
                    <a:pt x="2200" y="5086"/>
                  </a:lnTo>
                  <a:lnTo>
                    <a:pt x="2188" y="5086"/>
                  </a:lnTo>
                  <a:lnTo>
                    <a:pt x="2172" y="5080"/>
                  </a:lnTo>
                  <a:lnTo>
                    <a:pt x="2157" y="5074"/>
                  </a:lnTo>
                  <a:lnTo>
                    <a:pt x="2141" y="5068"/>
                  </a:lnTo>
                  <a:lnTo>
                    <a:pt x="2128" y="5064"/>
                  </a:lnTo>
                  <a:lnTo>
                    <a:pt x="2112" y="5059"/>
                  </a:lnTo>
                  <a:lnTo>
                    <a:pt x="2099" y="5053"/>
                  </a:lnTo>
                  <a:lnTo>
                    <a:pt x="2083" y="5047"/>
                  </a:lnTo>
                  <a:lnTo>
                    <a:pt x="2072" y="5043"/>
                  </a:lnTo>
                  <a:lnTo>
                    <a:pt x="2050" y="5031"/>
                  </a:lnTo>
                  <a:lnTo>
                    <a:pt x="2029" y="5022"/>
                  </a:lnTo>
                  <a:lnTo>
                    <a:pt x="2008" y="5012"/>
                  </a:lnTo>
                  <a:lnTo>
                    <a:pt x="1988" y="5002"/>
                  </a:lnTo>
                  <a:lnTo>
                    <a:pt x="1965" y="4993"/>
                  </a:lnTo>
                  <a:lnTo>
                    <a:pt x="1946" y="4983"/>
                  </a:lnTo>
                  <a:lnTo>
                    <a:pt x="1924" y="4973"/>
                  </a:lnTo>
                  <a:lnTo>
                    <a:pt x="1907" y="4963"/>
                  </a:lnTo>
                  <a:lnTo>
                    <a:pt x="1880" y="4946"/>
                  </a:lnTo>
                  <a:lnTo>
                    <a:pt x="1858" y="4934"/>
                  </a:lnTo>
                  <a:lnTo>
                    <a:pt x="1839" y="4921"/>
                  </a:lnTo>
                  <a:lnTo>
                    <a:pt x="1823" y="4911"/>
                  </a:lnTo>
                  <a:lnTo>
                    <a:pt x="1808" y="4899"/>
                  </a:lnTo>
                  <a:lnTo>
                    <a:pt x="1796" y="4890"/>
                  </a:lnTo>
                  <a:lnTo>
                    <a:pt x="1783" y="4880"/>
                  </a:lnTo>
                  <a:lnTo>
                    <a:pt x="1769" y="4874"/>
                  </a:lnTo>
                  <a:lnTo>
                    <a:pt x="1742" y="4855"/>
                  </a:lnTo>
                  <a:lnTo>
                    <a:pt x="1717" y="4837"/>
                  </a:lnTo>
                  <a:lnTo>
                    <a:pt x="1691" y="4818"/>
                  </a:lnTo>
                  <a:lnTo>
                    <a:pt x="1668" y="4799"/>
                  </a:lnTo>
                  <a:lnTo>
                    <a:pt x="1643" y="4777"/>
                  </a:lnTo>
                  <a:lnTo>
                    <a:pt x="1618" y="4760"/>
                  </a:lnTo>
                  <a:lnTo>
                    <a:pt x="1593" y="4738"/>
                  </a:lnTo>
                  <a:lnTo>
                    <a:pt x="1569" y="4721"/>
                  </a:lnTo>
                  <a:lnTo>
                    <a:pt x="1554" y="4704"/>
                  </a:lnTo>
                  <a:lnTo>
                    <a:pt x="1540" y="4688"/>
                  </a:lnTo>
                  <a:lnTo>
                    <a:pt x="1527" y="4673"/>
                  </a:lnTo>
                  <a:lnTo>
                    <a:pt x="1513" y="4657"/>
                  </a:lnTo>
                  <a:lnTo>
                    <a:pt x="1498" y="4640"/>
                  </a:lnTo>
                  <a:lnTo>
                    <a:pt x="1482" y="4622"/>
                  </a:lnTo>
                  <a:lnTo>
                    <a:pt x="1466" y="4605"/>
                  </a:lnTo>
                  <a:lnTo>
                    <a:pt x="1453" y="4589"/>
                  </a:lnTo>
                  <a:lnTo>
                    <a:pt x="1439" y="4577"/>
                  </a:lnTo>
                  <a:lnTo>
                    <a:pt x="1426" y="4566"/>
                  </a:lnTo>
                  <a:lnTo>
                    <a:pt x="1412" y="4554"/>
                  </a:lnTo>
                  <a:lnTo>
                    <a:pt x="1401" y="4543"/>
                  </a:lnTo>
                  <a:lnTo>
                    <a:pt x="1385" y="4517"/>
                  </a:lnTo>
                  <a:lnTo>
                    <a:pt x="1373" y="4498"/>
                  </a:lnTo>
                  <a:lnTo>
                    <a:pt x="1364" y="4482"/>
                  </a:lnTo>
                  <a:lnTo>
                    <a:pt x="1358" y="4473"/>
                  </a:lnTo>
                  <a:lnTo>
                    <a:pt x="1350" y="4455"/>
                  </a:lnTo>
                  <a:lnTo>
                    <a:pt x="1348" y="4442"/>
                  </a:lnTo>
                  <a:lnTo>
                    <a:pt x="1329" y="4420"/>
                  </a:lnTo>
                  <a:lnTo>
                    <a:pt x="1317" y="4405"/>
                  </a:lnTo>
                  <a:lnTo>
                    <a:pt x="1306" y="4387"/>
                  </a:lnTo>
                  <a:lnTo>
                    <a:pt x="1294" y="4372"/>
                  </a:lnTo>
                  <a:lnTo>
                    <a:pt x="1280" y="4349"/>
                  </a:lnTo>
                  <a:lnTo>
                    <a:pt x="1263" y="4323"/>
                  </a:lnTo>
                  <a:lnTo>
                    <a:pt x="1242" y="4287"/>
                  </a:lnTo>
                  <a:lnTo>
                    <a:pt x="1216" y="4240"/>
                  </a:lnTo>
                  <a:lnTo>
                    <a:pt x="1201" y="4207"/>
                  </a:lnTo>
                  <a:lnTo>
                    <a:pt x="1185" y="4176"/>
                  </a:lnTo>
                  <a:lnTo>
                    <a:pt x="1170" y="4143"/>
                  </a:lnTo>
                  <a:lnTo>
                    <a:pt x="1156" y="4112"/>
                  </a:lnTo>
                  <a:lnTo>
                    <a:pt x="1141" y="4079"/>
                  </a:lnTo>
                  <a:lnTo>
                    <a:pt x="1125" y="4046"/>
                  </a:lnTo>
                  <a:lnTo>
                    <a:pt x="1110" y="4013"/>
                  </a:lnTo>
                  <a:lnTo>
                    <a:pt x="1094" y="3982"/>
                  </a:lnTo>
                  <a:lnTo>
                    <a:pt x="1083" y="3945"/>
                  </a:lnTo>
                  <a:lnTo>
                    <a:pt x="1073" y="3910"/>
                  </a:lnTo>
                  <a:lnTo>
                    <a:pt x="1063" y="3873"/>
                  </a:lnTo>
                  <a:lnTo>
                    <a:pt x="1053" y="3838"/>
                  </a:lnTo>
                  <a:lnTo>
                    <a:pt x="1042" y="3802"/>
                  </a:lnTo>
                  <a:lnTo>
                    <a:pt x="1034" y="3767"/>
                  </a:lnTo>
                  <a:lnTo>
                    <a:pt x="1022" y="3732"/>
                  </a:lnTo>
                  <a:lnTo>
                    <a:pt x="1015" y="3697"/>
                  </a:lnTo>
                  <a:lnTo>
                    <a:pt x="1011" y="3679"/>
                  </a:lnTo>
                  <a:lnTo>
                    <a:pt x="1009" y="3664"/>
                  </a:lnTo>
                  <a:lnTo>
                    <a:pt x="1007" y="3648"/>
                  </a:lnTo>
                  <a:lnTo>
                    <a:pt x="1005" y="3633"/>
                  </a:lnTo>
                  <a:lnTo>
                    <a:pt x="1001" y="3615"/>
                  </a:lnTo>
                  <a:lnTo>
                    <a:pt x="999" y="3600"/>
                  </a:lnTo>
                  <a:lnTo>
                    <a:pt x="995" y="3584"/>
                  </a:lnTo>
                  <a:lnTo>
                    <a:pt x="993" y="3571"/>
                  </a:lnTo>
                  <a:lnTo>
                    <a:pt x="997" y="3495"/>
                  </a:lnTo>
                  <a:lnTo>
                    <a:pt x="1001" y="3439"/>
                  </a:lnTo>
                  <a:lnTo>
                    <a:pt x="1005" y="3398"/>
                  </a:lnTo>
                  <a:lnTo>
                    <a:pt x="1009" y="3369"/>
                  </a:lnTo>
                  <a:lnTo>
                    <a:pt x="1011" y="3348"/>
                  </a:lnTo>
                  <a:lnTo>
                    <a:pt x="1015" y="3332"/>
                  </a:lnTo>
                  <a:lnTo>
                    <a:pt x="1017" y="3321"/>
                  </a:lnTo>
                  <a:lnTo>
                    <a:pt x="1020" y="3311"/>
                  </a:lnTo>
                  <a:lnTo>
                    <a:pt x="1026" y="3295"/>
                  </a:lnTo>
                  <a:lnTo>
                    <a:pt x="1032" y="3282"/>
                  </a:lnTo>
                  <a:lnTo>
                    <a:pt x="1038" y="3270"/>
                  </a:lnTo>
                  <a:lnTo>
                    <a:pt x="1044" y="3259"/>
                  </a:lnTo>
                  <a:lnTo>
                    <a:pt x="1050" y="3247"/>
                  </a:lnTo>
                  <a:lnTo>
                    <a:pt x="1055" y="3235"/>
                  </a:lnTo>
                  <a:lnTo>
                    <a:pt x="1061" y="3224"/>
                  </a:lnTo>
                  <a:lnTo>
                    <a:pt x="1067" y="3212"/>
                  </a:lnTo>
                  <a:lnTo>
                    <a:pt x="1075" y="3198"/>
                  </a:lnTo>
                  <a:lnTo>
                    <a:pt x="1088" y="3185"/>
                  </a:lnTo>
                  <a:lnTo>
                    <a:pt x="1100" y="3175"/>
                  </a:lnTo>
                  <a:lnTo>
                    <a:pt x="1115" y="3165"/>
                  </a:lnTo>
                  <a:lnTo>
                    <a:pt x="1127" y="3156"/>
                  </a:lnTo>
                  <a:lnTo>
                    <a:pt x="1143" y="3148"/>
                  </a:lnTo>
                  <a:lnTo>
                    <a:pt x="1156" y="3138"/>
                  </a:lnTo>
                  <a:lnTo>
                    <a:pt x="1170" y="3129"/>
                  </a:lnTo>
                  <a:lnTo>
                    <a:pt x="1183" y="3119"/>
                  </a:lnTo>
                  <a:lnTo>
                    <a:pt x="1199" y="3111"/>
                  </a:lnTo>
                  <a:lnTo>
                    <a:pt x="1212" y="3105"/>
                  </a:lnTo>
                  <a:lnTo>
                    <a:pt x="1228" y="3101"/>
                  </a:lnTo>
                  <a:lnTo>
                    <a:pt x="1240" y="3098"/>
                  </a:lnTo>
                  <a:lnTo>
                    <a:pt x="1257" y="3096"/>
                  </a:lnTo>
                  <a:lnTo>
                    <a:pt x="1267" y="3092"/>
                  </a:lnTo>
                  <a:lnTo>
                    <a:pt x="1278" y="3090"/>
                  </a:lnTo>
                  <a:lnTo>
                    <a:pt x="1290" y="3090"/>
                  </a:lnTo>
                  <a:lnTo>
                    <a:pt x="1302" y="3090"/>
                  </a:lnTo>
                  <a:lnTo>
                    <a:pt x="1311" y="3088"/>
                  </a:lnTo>
                  <a:lnTo>
                    <a:pt x="1323" y="3086"/>
                  </a:lnTo>
                  <a:lnTo>
                    <a:pt x="1335" y="3084"/>
                  </a:lnTo>
                  <a:lnTo>
                    <a:pt x="1348" y="3084"/>
                  </a:lnTo>
                  <a:lnTo>
                    <a:pt x="1393" y="3096"/>
                  </a:lnTo>
                  <a:lnTo>
                    <a:pt x="1430" y="3107"/>
                  </a:lnTo>
                  <a:lnTo>
                    <a:pt x="1461" y="3117"/>
                  </a:lnTo>
                  <a:lnTo>
                    <a:pt x="1490" y="3127"/>
                  </a:lnTo>
                  <a:lnTo>
                    <a:pt x="1517" y="3134"/>
                  </a:lnTo>
                  <a:lnTo>
                    <a:pt x="1548" y="3146"/>
                  </a:lnTo>
                  <a:lnTo>
                    <a:pt x="1587" y="3160"/>
                  </a:lnTo>
                  <a:lnTo>
                    <a:pt x="1637" y="3179"/>
                  </a:lnTo>
                  <a:lnTo>
                    <a:pt x="1719" y="3218"/>
                  </a:lnTo>
                  <a:lnTo>
                    <a:pt x="1785" y="3249"/>
                  </a:lnTo>
                  <a:lnTo>
                    <a:pt x="1831" y="3272"/>
                  </a:lnTo>
                  <a:lnTo>
                    <a:pt x="1864" y="3292"/>
                  </a:lnTo>
                  <a:lnTo>
                    <a:pt x="1885" y="3301"/>
                  </a:lnTo>
                  <a:lnTo>
                    <a:pt x="1899" y="3309"/>
                  </a:lnTo>
                  <a:lnTo>
                    <a:pt x="1909" y="3313"/>
                  </a:lnTo>
                  <a:lnTo>
                    <a:pt x="1918" y="3317"/>
                  </a:lnTo>
                  <a:lnTo>
                    <a:pt x="1936" y="3326"/>
                  </a:lnTo>
                  <a:lnTo>
                    <a:pt x="1951" y="3336"/>
                  </a:lnTo>
                  <a:lnTo>
                    <a:pt x="1961" y="3344"/>
                  </a:lnTo>
                  <a:lnTo>
                    <a:pt x="1973" y="3352"/>
                  </a:lnTo>
                  <a:lnTo>
                    <a:pt x="1980" y="3356"/>
                  </a:lnTo>
                  <a:lnTo>
                    <a:pt x="1992" y="3359"/>
                  </a:lnTo>
                  <a:lnTo>
                    <a:pt x="2002" y="3365"/>
                  </a:lnTo>
                  <a:lnTo>
                    <a:pt x="2017" y="3375"/>
                  </a:lnTo>
                  <a:lnTo>
                    <a:pt x="2039" y="3390"/>
                  </a:lnTo>
                  <a:lnTo>
                    <a:pt x="2060" y="3408"/>
                  </a:lnTo>
                  <a:lnTo>
                    <a:pt x="2077" y="3421"/>
                  </a:lnTo>
                  <a:lnTo>
                    <a:pt x="2097" y="3437"/>
                  </a:lnTo>
                  <a:lnTo>
                    <a:pt x="2112" y="3447"/>
                  </a:lnTo>
                  <a:lnTo>
                    <a:pt x="2128" y="3456"/>
                  </a:lnTo>
                  <a:lnTo>
                    <a:pt x="2141" y="3466"/>
                  </a:lnTo>
                  <a:lnTo>
                    <a:pt x="2155" y="3476"/>
                  </a:lnTo>
                  <a:lnTo>
                    <a:pt x="2159" y="3476"/>
                  </a:lnTo>
                  <a:lnTo>
                    <a:pt x="2165" y="3480"/>
                  </a:lnTo>
                  <a:lnTo>
                    <a:pt x="2172" y="3484"/>
                  </a:lnTo>
                  <a:lnTo>
                    <a:pt x="2186" y="3491"/>
                  </a:lnTo>
                  <a:lnTo>
                    <a:pt x="2200" y="3501"/>
                  </a:lnTo>
                  <a:lnTo>
                    <a:pt x="2223" y="3515"/>
                  </a:lnTo>
                  <a:lnTo>
                    <a:pt x="2252" y="3532"/>
                  </a:lnTo>
                  <a:lnTo>
                    <a:pt x="2293" y="3555"/>
                  </a:lnTo>
                  <a:lnTo>
                    <a:pt x="2304" y="3567"/>
                  </a:lnTo>
                  <a:lnTo>
                    <a:pt x="2316" y="3579"/>
                  </a:lnTo>
                  <a:lnTo>
                    <a:pt x="2328" y="3590"/>
                  </a:lnTo>
                  <a:lnTo>
                    <a:pt x="2339" y="3602"/>
                  </a:lnTo>
                  <a:lnTo>
                    <a:pt x="2349" y="3604"/>
                  </a:lnTo>
                  <a:lnTo>
                    <a:pt x="2361" y="3610"/>
                  </a:lnTo>
                  <a:lnTo>
                    <a:pt x="2370" y="3612"/>
                  </a:lnTo>
                  <a:lnTo>
                    <a:pt x="2382" y="3617"/>
                  </a:lnTo>
                  <a:lnTo>
                    <a:pt x="2421" y="3658"/>
                  </a:lnTo>
                  <a:lnTo>
                    <a:pt x="2461" y="3703"/>
                  </a:lnTo>
                  <a:lnTo>
                    <a:pt x="2498" y="3745"/>
                  </a:lnTo>
                  <a:lnTo>
                    <a:pt x="2537" y="3786"/>
                  </a:lnTo>
                  <a:lnTo>
                    <a:pt x="2566" y="3821"/>
                  </a:lnTo>
                  <a:lnTo>
                    <a:pt x="2593" y="3852"/>
                  </a:lnTo>
                  <a:lnTo>
                    <a:pt x="2613" y="3873"/>
                  </a:lnTo>
                  <a:lnTo>
                    <a:pt x="2626" y="3887"/>
                  </a:lnTo>
                  <a:lnTo>
                    <a:pt x="2640" y="3904"/>
                  </a:lnTo>
                  <a:lnTo>
                    <a:pt x="2655" y="3924"/>
                  </a:lnTo>
                  <a:lnTo>
                    <a:pt x="2663" y="3934"/>
                  </a:lnTo>
                  <a:lnTo>
                    <a:pt x="2671" y="3943"/>
                  </a:lnTo>
                  <a:lnTo>
                    <a:pt x="2679" y="3955"/>
                  </a:lnTo>
                  <a:lnTo>
                    <a:pt x="2688" y="3967"/>
                  </a:lnTo>
                  <a:lnTo>
                    <a:pt x="2698" y="3988"/>
                  </a:lnTo>
                  <a:lnTo>
                    <a:pt x="2708" y="4005"/>
                  </a:lnTo>
                  <a:lnTo>
                    <a:pt x="2715" y="4017"/>
                  </a:lnTo>
                  <a:lnTo>
                    <a:pt x="2723" y="4029"/>
                  </a:lnTo>
                  <a:lnTo>
                    <a:pt x="2729" y="4036"/>
                  </a:lnTo>
                  <a:lnTo>
                    <a:pt x="2735" y="4046"/>
                  </a:lnTo>
                  <a:lnTo>
                    <a:pt x="2741" y="4054"/>
                  </a:lnTo>
                  <a:lnTo>
                    <a:pt x="2752" y="4067"/>
                  </a:lnTo>
                  <a:lnTo>
                    <a:pt x="2766" y="4096"/>
                  </a:lnTo>
                  <a:lnTo>
                    <a:pt x="2783" y="4126"/>
                  </a:lnTo>
                  <a:lnTo>
                    <a:pt x="2797" y="4155"/>
                  </a:lnTo>
                  <a:lnTo>
                    <a:pt x="2814" y="4184"/>
                  </a:lnTo>
                  <a:lnTo>
                    <a:pt x="2828" y="4213"/>
                  </a:lnTo>
                  <a:lnTo>
                    <a:pt x="2843" y="4244"/>
                  </a:lnTo>
                  <a:lnTo>
                    <a:pt x="2857" y="4273"/>
                  </a:lnTo>
                  <a:lnTo>
                    <a:pt x="2873" y="4304"/>
                  </a:lnTo>
                  <a:lnTo>
                    <a:pt x="2878" y="4321"/>
                  </a:lnTo>
                  <a:lnTo>
                    <a:pt x="2884" y="4341"/>
                  </a:lnTo>
                  <a:lnTo>
                    <a:pt x="2890" y="4360"/>
                  </a:lnTo>
                  <a:lnTo>
                    <a:pt x="2898" y="4380"/>
                  </a:lnTo>
                  <a:lnTo>
                    <a:pt x="2904" y="4397"/>
                  </a:lnTo>
                  <a:lnTo>
                    <a:pt x="2909" y="4416"/>
                  </a:lnTo>
                  <a:lnTo>
                    <a:pt x="2917" y="4436"/>
                  </a:lnTo>
                  <a:lnTo>
                    <a:pt x="2927" y="4457"/>
                  </a:lnTo>
                  <a:lnTo>
                    <a:pt x="2927" y="4473"/>
                  </a:lnTo>
                  <a:lnTo>
                    <a:pt x="2927" y="4488"/>
                  </a:lnTo>
                  <a:lnTo>
                    <a:pt x="2927" y="4504"/>
                  </a:lnTo>
                  <a:lnTo>
                    <a:pt x="2929" y="4519"/>
                  </a:lnTo>
                  <a:lnTo>
                    <a:pt x="2929" y="4533"/>
                  </a:lnTo>
                  <a:lnTo>
                    <a:pt x="2931" y="4548"/>
                  </a:lnTo>
                  <a:lnTo>
                    <a:pt x="2933" y="4564"/>
                  </a:lnTo>
                  <a:lnTo>
                    <a:pt x="2937" y="4579"/>
                  </a:lnTo>
                  <a:lnTo>
                    <a:pt x="2935" y="4612"/>
                  </a:lnTo>
                  <a:lnTo>
                    <a:pt x="2935" y="4640"/>
                  </a:lnTo>
                  <a:lnTo>
                    <a:pt x="2935" y="4657"/>
                  </a:lnTo>
                  <a:lnTo>
                    <a:pt x="2935" y="4673"/>
                  </a:lnTo>
                  <a:lnTo>
                    <a:pt x="2933" y="4686"/>
                  </a:lnTo>
                  <a:lnTo>
                    <a:pt x="2931" y="4696"/>
                  </a:lnTo>
                  <a:lnTo>
                    <a:pt x="2929" y="4709"/>
                  </a:lnTo>
                  <a:lnTo>
                    <a:pt x="2929" y="4727"/>
                  </a:lnTo>
                  <a:lnTo>
                    <a:pt x="2927" y="4742"/>
                  </a:lnTo>
                  <a:lnTo>
                    <a:pt x="2927" y="4764"/>
                  </a:lnTo>
                  <a:lnTo>
                    <a:pt x="2915" y="4781"/>
                  </a:lnTo>
                  <a:lnTo>
                    <a:pt x="2909" y="4797"/>
                  </a:lnTo>
                  <a:lnTo>
                    <a:pt x="2904" y="4810"/>
                  </a:lnTo>
                  <a:lnTo>
                    <a:pt x="2900" y="4824"/>
                  </a:lnTo>
                  <a:lnTo>
                    <a:pt x="2896" y="4835"/>
                  </a:lnTo>
                  <a:lnTo>
                    <a:pt x="2892" y="4853"/>
                  </a:lnTo>
                  <a:lnTo>
                    <a:pt x="2888" y="4872"/>
                  </a:lnTo>
                  <a:lnTo>
                    <a:pt x="2884" y="4901"/>
                  </a:lnTo>
                  <a:lnTo>
                    <a:pt x="2873" y="4915"/>
                  </a:lnTo>
                  <a:lnTo>
                    <a:pt x="2863" y="4930"/>
                  </a:lnTo>
                  <a:lnTo>
                    <a:pt x="2853" y="4942"/>
                  </a:lnTo>
                  <a:lnTo>
                    <a:pt x="2847" y="4960"/>
                  </a:lnTo>
                  <a:lnTo>
                    <a:pt x="2824" y="4973"/>
                  </a:lnTo>
                  <a:lnTo>
                    <a:pt x="2809" y="4987"/>
                  </a:lnTo>
                  <a:lnTo>
                    <a:pt x="2795" y="4995"/>
                  </a:lnTo>
                  <a:lnTo>
                    <a:pt x="2785" y="5002"/>
                  </a:lnTo>
                  <a:lnTo>
                    <a:pt x="2774" y="5006"/>
                  </a:lnTo>
                  <a:lnTo>
                    <a:pt x="2766" y="5012"/>
                  </a:lnTo>
                  <a:lnTo>
                    <a:pt x="2752" y="5018"/>
                  </a:lnTo>
                  <a:lnTo>
                    <a:pt x="2741" y="5027"/>
                  </a:lnTo>
                  <a:lnTo>
                    <a:pt x="2719" y="5033"/>
                  </a:lnTo>
                  <a:lnTo>
                    <a:pt x="2702" y="5039"/>
                  </a:lnTo>
                  <a:lnTo>
                    <a:pt x="2688" y="5045"/>
                  </a:lnTo>
                  <a:lnTo>
                    <a:pt x="2675" y="5051"/>
                  </a:lnTo>
                  <a:lnTo>
                    <a:pt x="2657" y="5057"/>
                  </a:lnTo>
                  <a:lnTo>
                    <a:pt x="2640" y="5064"/>
                  </a:lnTo>
                  <a:lnTo>
                    <a:pt x="2617" y="5076"/>
                  </a:lnTo>
                  <a:lnTo>
                    <a:pt x="2587" y="5091"/>
                  </a:lnTo>
                  <a:lnTo>
                    <a:pt x="2566" y="5093"/>
                  </a:lnTo>
                  <a:lnTo>
                    <a:pt x="2547" y="5099"/>
                  </a:lnTo>
                  <a:lnTo>
                    <a:pt x="2535" y="5101"/>
                  </a:lnTo>
                  <a:lnTo>
                    <a:pt x="2525" y="5105"/>
                  </a:lnTo>
                  <a:lnTo>
                    <a:pt x="2514" y="5107"/>
                  </a:lnTo>
                  <a:lnTo>
                    <a:pt x="2504" y="5113"/>
                  </a:lnTo>
                  <a:lnTo>
                    <a:pt x="2490" y="5113"/>
                  </a:lnTo>
                  <a:lnTo>
                    <a:pt x="2479" y="5113"/>
                  </a:lnTo>
                  <a:lnTo>
                    <a:pt x="2465" y="5113"/>
                  </a:lnTo>
                  <a:lnTo>
                    <a:pt x="2454" y="5113"/>
                  </a:lnTo>
                  <a:lnTo>
                    <a:pt x="2440" y="5113"/>
                  </a:lnTo>
                  <a:lnTo>
                    <a:pt x="2426" y="5113"/>
                  </a:lnTo>
                  <a:lnTo>
                    <a:pt x="2415" y="5115"/>
                  </a:lnTo>
                  <a:lnTo>
                    <a:pt x="2403" y="5117"/>
                  </a:lnTo>
                  <a:close/>
                  <a:moveTo>
                    <a:pt x="4246" y="5049"/>
                  </a:moveTo>
                  <a:lnTo>
                    <a:pt x="4261" y="5049"/>
                  </a:lnTo>
                  <a:lnTo>
                    <a:pt x="4281" y="5049"/>
                  </a:lnTo>
                  <a:lnTo>
                    <a:pt x="4298" y="5049"/>
                  </a:lnTo>
                  <a:lnTo>
                    <a:pt x="4319" y="5049"/>
                  </a:lnTo>
                  <a:lnTo>
                    <a:pt x="4335" y="5043"/>
                  </a:lnTo>
                  <a:lnTo>
                    <a:pt x="4350" y="5041"/>
                  </a:lnTo>
                  <a:lnTo>
                    <a:pt x="4364" y="5035"/>
                  </a:lnTo>
                  <a:lnTo>
                    <a:pt x="4378" y="5033"/>
                  </a:lnTo>
                  <a:lnTo>
                    <a:pt x="4387" y="5027"/>
                  </a:lnTo>
                  <a:lnTo>
                    <a:pt x="4399" y="5024"/>
                  </a:lnTo>
                  <a:lnTo>
                    <a:pt x="4410" y="5018"/>
                  </a:lnTo>
                  <a:lnTo>
                    <a:pt x="4422" y="5014"/>
                  </a:lnTo>
                  <a:lnTo>
                    <a:pt x="4432" y="5008"/>
                  </a:lnTo>
                  <a:lnTo>
                    <a:pt x="4443" y="5002"/>
                  </a:lnTo>
                  <a:lnTo>
                    <a:pt x="4455" y="4998"/>
                  </a:lnTo>
                  <a:lnTo>
                    <a:pt x="4469" y="4996"/>
                  </a:lnTo>
                  <a:lnTo>
                    <a:pt x="4484" y="4983"/>
                  </a:lnTo>
                  <a:lnTo>
                    <a:pt x="4500" y="4971"/>
                  </a:lnTo>
                  <a:lnTo>
                    <a:pt x="4513" y="4962"/>
                  </a:lnTo>
                  <a:lnTo>
                    <a:pt x="4527" y="4954"/>
                  </a:lnTo>
                  <a:lnTo>
                    <a:pt x="4538" y="4938"/>
                  </a:lnTo>
                  <a:lnTo>
                    <a:pt x="4554" y="4925"/>
                  </a:lnTo>
                  <a:lnTo>
                    <a:pt x="4566" y="4913"/>
                  </a:lnTo>
                  <a:lnTo>
                    <a:pt x="4581" y="4901"/>
                  </a:lnTo>
                  <a:lnTo>
                    <a:pt x="4593" y="4888"/>
                  </a:lnTo>
                  <a:lnTo>
                    <a:pt x="4606" y="4874"/>
                  </a:lnTo>
                  <a:lnTo>
                    <a:pt x="4618" y="4861"/>
                  </a:lnTo>
                  <a:lnTo>
                    <a:pt x="4632" y="4849"/>
                  </a:lnTo>
                  <a:lnTo>
                    <a:pt x="4643" y="4826"/>
                  </a:lnTo>
                  <a:lnTo>
                    <a:pt x="4657" y="4802"/>
                  </a:lnTo>
                  <a:lnTo>
                    <a:pt x="4670" y="4779"/>
                  </a:lnTo>
                  <a:lnTo>
                    <a:pt x="4684" y="4758"/>
                  </a:lnTo>
                  <a:lnTo>
                    <a:pt x="4696" y="4735"/>
                  </a:lnTo>
                  <a:lnTo>
                    <a:pt x="4709" y="4711"/>
                  </a:lnTo>
                  <a:lnTo>
                    <a:pt x="4723" y="4690"/>
                  </a:lnTo>
                  <a:lnTo>
                    <a:pt x="4738" y="4669"/>
                  </a:lnTo>
                  <a:lnTo>
                    <a:pt x="4740" y="4640"/>
                  </a:lnTo>
                  <a:lnTo>
                    <a:pt x="4744" y="4612"/>
                  </a:lnTo>
                  <a:lnTo>
                    <a:pt x="4746" y="4585"/>
                  </a:lnTo>
                  <a:lnTo>
                    <a:pt x="4750" y="4560"/>
                  </a:lnTo>
                  <a:lnTo>
                    <a:pt x="4750" y="4533"/>
                  </a:lnTo>
                  <a:lnTo>
                    <a:pt x="4754" y="4508"/>
                  </a:lnTo>
                  <a:lnTo>
                    <a:pt x="4754" y="4481"/>
                  </a:lnTo>
                  <a:lnTo>
                    <a:pt x="4758" y="4457"/>
                  </a:lnTo>
                  <a:lnTo>
                    <a:pt x="4752" y="4436"/>
                  </a:lnTo>
                  <a:lnTo>
                    <a:pt x="4748" y="4416"/>
                  </a:lnTo>
                  <a:lnTo>
                    <a:pt x="4742" y="4397"/>
                  </a:lnTo>
                  <a:lnTo>
                    <a:pt x="4738" y="4380"/>
                  </a:lnTo>
                  <a:lnTo>
                    <a:pt x="4732" y="4360"/>
                  </a:lnTo>
                  <a:lnTo>
                    <a:pt x="4729" y="4341"/>
                  </a:lnTo>
                  <a:lnTo>
                    <a:pt x="4725" y="4321"/>
                  </a:lnTo>
                  <a:lnTo>
                    <a:pt x="4721" y="4304"/>
                  </a:lnTo>
                  <a:lnTo>
                    <a:pt x="4715" y="4288"/>
                  </a:lnTo>
                  <a:lnTo>
                    <a:pt x="4711" y="4275"/>
                  </a:lnTo>
                  <a:lnTo>
                    <a:pt x="4705" y="4261"/>
                  </a:lnTo>
                  <a:lnTo>
                    <a:pt x="4701" y="4248"/>
                  </a:lnTo>
                  <a:lnTo>
                    <a:pt x="4696" y="4232"/>
                  </a:lnTo>
                  <a:lnTo>
                    <a:pt x="4690" y="4221"/>
                  </a:lnTo>
                  <a:lnTo>
                    <a:pt x="4684" y="4205"/>
                  </a:lnTo>
                  <a:lnTo>
                    <a:pt x="4680" y="4193"/>
                  </a:lnTo>
                  <a:lnTo>
                    <a:pt x="4649" y="4131"/>
                  </a:lnTo>
                  <a:lnTo>
                    <a:pt x="4626" y="4079"/>
                  </a:lnTo>
                  <a:lnTo>
                    <a:pt x="4601" y="4032"/>
                  </a:lnTo>
                  <a:lnTo>
                    <a:pt x="4583" y="3996"/>
                  </a:lnTo>
                  <a:lnTo>
                    <a:pt x="4564" y="3959"/>
                  </a:lnTo>
                  <a:lnTo>
                    <a:pt x="4548" y="3930"/>
                  </a:lnTo>
                  <a:lnTo>
                    <a:pt x="4533" y="3899"/>
                  </a:lnTo>
                  <a:lnTo>
                    <a:pt x="4521" y="3871"/>
                  </a:lnTo>
                  <a:lnTo>
                    <a:pt x="4509" y="3860"/>
                  </a:lnTo>
                  <a:lnTo>
                    <a:pt x="4500" y="3850"/>
                  </a:lnTo>
                  <a:lnTo>
                    <a:pt x="4490" y="3838"/>
                  </a:lnTo>
                  <a:lnTo>
                    <a:pt x="4482" y="3829"/>
                  </a:lnTo>
                  <a:lnTo>
                    <a:pt x="4473" y="3817"/>
                  </a:lnTo>
                  <a:lnTo>
                    <a:pt x="4465" y="3806"/>
                  </a:lnTo>
                  <a:lnTo>
                    <a:pt x="4455" y="3796"/>
                  </a:lnTo>
                  <a:lnTo>
                    <a:pt x="4447" y="3786"/>
                  </a:lnTo>
                  <a:lnTo>
                    <a:pt x="4441" y="3774"/>
                  </a:lnTo>
                  <a:lnTo>
                    <a:pt x="4438" y="3763"/>
                  </a:lnTo>
                  <a:lnTo>
                    <a:pt x="4434" y="3751"/>
                  </a:lnTo>
                  <a:lnTo>
                    <a:pt x="4432" y="3745"/>
                  </a:lnTo>
                  <a:lnTo>
                    <a:pt x="4426" y="3738"/>
                  </a:lnTo>
                  <a:lnTo>
                    <a:pt x="4420" y="3732"/>
                  </a:lnTo>
                  <a:lnTo>
                    <a:pt x="4412" y="3722"/>
                  </a:lnTo>
                  <a:lnTo>
                    <a:pt x="4405" y="3710"/>
                  </a:lnTo>
                  <a:lnTo>
                    <a:pt x="4391" y="3691"/>
                  </a:lnTo>
                  <a:lnTo>
                    <a:pt x="4376" y="3668"/>
                  </a:lnTo>
                  <a:lnTo>
                    <a:pt x="4352" y="3637"/>
                  </a:lnTo>
                  <a:lnTo>
                    <a:pt x="4325" y="3602"/>
                  </a:lnTo>
                  <a:lnTo>
                    <a:pt x="4308" y="3590"/>
                  </a:lnTo>
                  <a:lnTo>
                    <a:pt x="4296" y="3579"/>
                  </a:lnTo>
                  <a:lnTo>
                    <a:pt x="4284" y="3567"/>
                  </a:lnTo>
                  <a:lnTo>
                    <a:pt x="4273" y="3555"/>
                  </a:lnTo>
                  <a:lnTo>
                    <a:pt x="4267" y="3538"/>
                  </a:lnTo>
                  <a:lnTo>
                    <a:pt x="4267" y="3528"/>
                  </a:lnTo>
                  <a:lnTo>
                    <a:pt x="4253" y="3520"/>
                  </a:lnTo>
                  <a:lnTo>
                    <a:pt x="4246" y="3517"/>
                  </a:lnTo>
                  <a:lnTo>
                    <a:pt x="4240" y="3511"/>
                  </a:lnTo>
                  <a:lnTo>
                    <a:pt x="4236" y="3507"/>
                  </a:lnTo>
                  <a:lnTo>
                    <a:pt x="4220" y="3503"/>
                  </a:lnTo>
                  <a:lnTo>
                    <a:pt x="4207" y="3501"/>
                  </a:lnTo>
                  <a:lnTo>
                    <a:pt x="4193" y="3499"/>
                  </a:lnTo>
                  <a:lnTo>
                    <a:pt x="4180" y="3499"/>
                  </a:lnTo>
                  <a:lnTo>
                    <a:pt x="4166" y="3495"/>
                  </a:lnTo>
                  <a:lnTo>
                    <a:pt x="4153" y="3493"/>
                  </a:lnTo>
                  <a:lnTo>
                    <a:pt x="4141" y="3491"/>
                  </a:lnTo>
                  <a:lnTo>
                    <a:pt x="4129" y="3491"/>
                  </a:lnTo>
                  <a:lnTo>
                    <a:pt x="4116" y="3485"/>
                  </a:lnTo>
                  <a:lnTo>
                    <a:pt x="4104" y="3480"/>
                  </a:lnTo>
                  <a:lnTo>
                    <a:pt x="4092" y="3474"/>
                  </a:lnTo>
                  <a:lnTo>
                    <a:pt x="4081" y="3470"/>
                  </a:lnTo>
                  <a:lnTo>
                    <a:pt x="4069" y="3464"/>
                  </a:lnTo>
                  <a:lnTo>
                    <a:pt x="4058" y="3458"/>
                  </a:lnTo>
                  <a:lnTo>
                    <a:pt x="4046" y="3453"/>
                  </a:lnTo>
                  <a:lnTo>
                    <a:pt x="4034" y="3449"/>
                  </a:lnTo>
                  <a:lnTo>
                    <a:pt x="4019" y="3437"/>
                  </a:lnTo>
                  <a:lnTo>
                    <a:pt x="4003" y="3427"/>
                  </a:lnTo>
                  <a:lnTo>
                    <a:pt x="3990" y="3416"/>
                  </a:lnTo>
                  <a:lnTo>
                    <a:pt x="3978" y="3406"/>
                  </a:lnTo>
                  <a:lnTo>
                    <a:pt x="3966" y="3390"/>
                  </a:lnTo>
                  <a:lnTo>
                    <a:pt x="3957" y="3377"/>
                  </a:lnTo>
                  <a:lnTo>
                    <a:pt x="3945" y="3359"/>
                  </a:lnTo>
                  <a:lnTo>
                    <a:pt x="3937" y="3344"/>
                  </a:lnTo>
                  <a:lnTo>
                    <a:pt x="3926" y="3328"/>
                  </a:lnTo>
                  <a:lnTo>
                    <a:pt x="3920" y="3317"/>
                  </a:lnTo>
                  <a:lnTo>
                    <a:pt x="3912" y="3305"/>
                  </a:lnTo>
                  <a:lnTo>
                    <a:pt x="3908" y="3301"/>
                  </a:lnTo>
                  <a:lnTo>
                    <a:pt x="3898" y="3282"/>
                  </a:lnTo>
                  <a:lnTo>
                    <a:pt x="3895" y="3270"/>
                  </a:lnTo>
                  <a:lnTo>
                    <a:pt x="3889" y="3259"/>
                  </a:lnTo>
                  <a:lnTo>
                    <a:pt x="3887" y="3251"/>
                  </a:lnTo>
                  <a:lnTo>
                    <a:pt x="3883" y="3237"/>
                  </a:lnTo>
                  <a:lnTo>
                    <a:pt x="3879" y="3226"/>
                  </a:lnTo>
                  <a:lnTo>
                    <a:pt x="3875" y="3210"/>
                  </a:lnTo>
                  <a:lnTo>
                    <a:pt x="3871" y="3191"/>
                  </a:lnTo>
                  <a:lnTo>
                    <a:pt x="3854" y="3177"/>
                  </a:lnTo>
                  <a:lnTo>
                    <a:pt x="3842" y="3167"/>
                  </a:lnTo>
                  <a:lnTo>
                    <a:pt x="3831" y="3158"/>
                  </a:lnTo>
                  <a:lnTo>
                    <a:pt x="3819" y="3148"/>
                  </a:lnTo>
                  <a:lnTo>
                    <a:pt x="3767" y="3119"/>
                  </a:lnTo>
                  <a:lnTo>
                    <a:pt x="3728" y="3098"/>
                  </a:lnTo>
                  <a:lnTo>
                    <a:pt x="3701" y="3080"/>
                  </a:lnTo>
                  <a:lnTo>
                    <a:pt x="3683" y="3070"/>
                  </a:lnTo>
                  <a:lnTo>
                    <a:pt x="3670" y="3063"/>
                  </a:lnTo>
                  <a:lnTo>
                    <a:pt x="3662" y="3059"/>
                  </a:lnTo>
                  <a:lnTo>
                    <a:pt x="3656" y="3055"/>
                  </a:lnTo>
                  <a:lnTo>
                    <a:pt x="3654" y="3053"/>
                  </a:lnTo>
                  <a:lnTo>
                    <a:pt x="3641" y="3043"/>
                  </a:lnTo>
                  <a:lnTo>
                    <a:pt x="3627" y="3035"/>
                  </a:lnTo>
                  <a:lnTo>
                    <a:pt x="3613" y="3028"/>
                  </a:lnTo>
                  <a:lnTo>
                    <a:pt x="3598" y="3020"/>
                  </a:lnTo>
                  <a:lnTo>
                    <a:pt x="3575" y="3006"/>
                  </a:lnTo>
                  <a:lnTo>
                    <a:pt x="3546" y="2993"/>
                  </a:lnTo>
                  <a:lnTo>
                    <a:pt x="3509" y="2975"/>
                  </a:lnTo>
                  <a:lnTo>
                    <a:pt x="3460" y="2952"/>
                  </a:lnTo>
                  <a:lnTo>
                    <a:pt x="3447" y="2946"/>
                  </a:lnTo>
                  <a:lnTo>
                    <a:pt x="3437" y="2944"/>
                  </a:lnTo>
                  <a:lnTo>
                    <a:pt x="3427" y="2942"/>
                  </a:lnTo>
                  <a:lnTo>
                    <a:pt x="3419" y="2940"/>
                  </a:lnTo>
                  <a:lnTo>
                    <a:pt x="3410" y="2937"/>
                  </a:lnTo>
                  <a:lnTo>
                    <a:pt x="3400" y="2933"/>
                  </a:lnTo>
                  <a:lnTo>
                    <a:pt x="3386" y="2927"/>
                  </a:lnTo>
                  <a:lnTo>
                    <a:pt x="3369" y="2921"/>
                  </a:lnTo>
                  <a:lnTo>
                    <a:pt x="3348" y="2915"/>
                  </a:lnTo>
                  <a:lnTo>
                    <a:pt x="3330" y="2911"/>
                  </a:lnTo>
                  <a:lnTo>
                    <a:pt x="3309" y="2907"/>
                  </a:lnTo>
                  <a:lnTo>
                    <a:pt x="3291" y="2906"/>
                  </a:lnTo>
                  <a:lnTo>
                    <a:pt x="3272" y="2902"/>
                  </a:lnTo>
                  <a:lnTo>
                    <a:pt x="3257" y="2902"/>
                  </a:lnTo>
                  <a:lnTo>
                    <a:pt x="3243" y="2902"/>
                  </a:lnTo>
                  <a:lnTo>
                    <a:pt x="3231" y="2902"/>
                  </a:lnTo>
                  <a:lnTo>
                    <a:pt x="3216" y="2902"/>
                  </a:lnTo>
                  <a:lnTo>
                    <a:pt x="3200" y="2904"/>
                  </a:lnTo>
                  <a:lnTo>
                    <a:pt x="3179" y="2904"/>
                  </a:lnTo>
                  <a:lnTo>
                    <a:pt x="3154" y="2906"/>
                  </a:lnTo>
                  <a:lnTo>
                    <a:pt x="3144" y="2907"/>
                  </a:lnTo>
                  <a:lnTo>
                    <a:pt x="3136" y="2911"/>
                  </a:lnTo>
                  <a:lnTo>
                    <a:pt x="3132" y="2915"/>
                  </a:lnTo>
                  <a:lnTo>
                    <a:pt x="3129" y="2921"/>
                  </a:lnTo>
                  <a:lnTo>
                    <a:pt x="3123" y="2929"/>
                  </a:lnTo>
                  <a:lnTo>
                    <a:pt x="3117" y="2942"/>
                  </a:lnTo>
                  <a:lnTo>
                    <a:pt x="3098" y="2948"/>
                  </a:lnTo>
                  <a:lnTo>
                    <a:pt x="3082" y="2954"/>
                  </a:lnTo>
                  <a:lnTo>
                    <a:pt x="3068" y="2960"/>
                  </a:lnTo>
                  <a:lnTo>
                    <a:pt x="3061" y="2966"/>
                  </a:lnTo>
                  <a:lnTo>
                    <a:pt x="3045" y="2970"/>
                  </a:lnTo>
                  <a:lnTo>
                    <a:pt x="3032" y="2973"/>
                  </a:lnTo>
                  <a:lnTo>
                    <a:pt x="3012" y="2989"/>
                  </a:lnTo>
                  <a:lnTo>
                    <a:pt x="2999" y="3003"/>
                  </a:lnTo>
                  <a:lnTo>
                    <a:pt x="2987" y="3014"/>
                  </a:lnTo>
                  <a:lnTo>
                    <a:pt x="2979" y="3026"/>
                  </a:lnTo>
                  <a:lnTo>
                    <a:pt x="2968" y="3034"/>
                  </a:lnTo>
                  <a:lnTo>
                    <a:pt x="2958" y="3045"/>
                  </a:lnTo>
                  <a:lnTo>
                    <a:pt x="2944" y="3059"/>
                  </a:lnTo>
                  <a:lnTo>
                    <a:pt x="2931" y="3078"/>
                  </a:lnTo>
                  <a:lnTo>
                    <a:pt x="2925" y="3088"/>
                  </a:lnTo>
                  <a:lnTo>
                    <a:pt x="2923" y="3099"/>
                  </a:lnTo>
                  <a:lnTo>
                    <a:pt x="2917" y="3111"/>
                  </a:lnTo>
                  <a:lnTo>
                    <a:pt x="2915" y="3123"/>
                  </a:lnTo>
                  <a:lnTo>
                    <a:pt x="2907" y="3142"/>
                  </a:lnTo>
                  <a:lnTo>
                    <a:pt x="2900" y="3164"/>
                  </a:lnTo>
                  <a:lnTo>
                    <a:pt x="2890" y="3191"/>
                  </a:lnTo>
                  <a:lnTo>
                    <a:pt x="2886" y="3214"/>
                  </a:lnTo>
                  <a:lnTo>
                    <a:pt x="2880" y="3229"/>
                  </a:lnTo>
                  <a:lnTo>
                    <a:pt x="2880" y="3241"/>
                  </a:lnTo>
                  <a:lnTo>
                    <a:pt x="2874" y="3253"/>
                  </a:lnTo>
                  <a:lnTo>
                    <a:pt x="2873" y="3259"/>
                  </a:lnTo>
                  <a:lnTo>
                    <a:pt x="2871" y="3284"/>
                  </a:lnTo>
                  <a:lnTo>
                    <a:pt x="2871" y="3305"/>
                  </a:lnTo>
                  <a:lnTo>
                    <a:pt x="2869" y="3326"/>
                  </a:lnTo>
                  <a:lnTo>
                    <a:pt x="2869" y="3348"/>
                  </a:lnTo>
                  <a:lnTo>
                    <a:pt x="2867" y="3369"/>
                  </a:lnTo>
                  <a:lnTo>
                    <a:pt x="2865" y="3398"/>
                  </a:lnTo>
                  <a:lnTo>
                    <a:pt x="2863" y="3433"/>
                  </a:lnTo>
                  <a:lnTo>
                    <a:pt x="2863" y="3480"/>
                  </a:lnTo>
                  <a:lnTo>
                    <a:pt x="2865" y="3503"/>
                  </a:lnTo>
                  <a:lnTo>
                    <a:pt x="2869" y="3526"/>
                  </a:lnTo>
                  <a:lnTo>
                    <a:pt x="2873" y="3549"/>
                  </a:lnTo>
                  <a:lnTo>
                    <a:pt x="2878" y="3573"/>
                  </a:lnTo>
                  <a:lnTo>
                    <a:pt x="2880" y="3594"/>
                  </a:lnTo>
                  <a:lnTo>
                    <a:pt x="2884" y="3617"/>
                  </a:lnTo>
                  <a:lnTo>
                    <a:pt x="2888" y="3641"/>
                  </a:lnTo>
                  <a:lnTo>
                    <a:pt x="2894" y="3666"/>
                  </a:lnTo>
                  <a:lnTo>
                    <a:pt x="2898" y="3683"/>
                  </a:lnTo>
                  <a:lnTo>
                    <a:pt x="2902" y="3701"/>
                  </a:lnTo>
                  <a:lnTo>
                    <a:pt x="2906" y="3718"/>
                  </a:lnTo>
                  <a:lnTo>
                    <a:pt x="2911" y="3738"/>
                  </a:lnTo>
                  <a:lnTo>
                    <a:pt x="2915" y="3755"/>
                  </a:lnTo>
                  <a:lnTo>
                    <a:pt x="2921" y="3774"/>
                  </a:lnTo>
                  <a:lnTo>
                    <a:pt x="2925" y="3794"/>
                  </a:lnTo>
                  <a:lnTo>
                    <a:pt x="2931" y="3813"/>
                  </a:lnTo>
                  <a:lnTo>
                    <a:pt x="2931" y="3815"/>
                  </a:lnTo>
                  <a:lnTo>
                    <a:pt x="2935" y="3825"/>
                  </a:lnTo>
                  <a:lnTo>
                    <a:pt x="2940" y="3838"/>
                  </a:lnTo>
                  <a:lnTo>
                    <a:pt x="2948" y="3862"/>
                  </a:lnTo>
                  <a:lnTo>
                    <a:pt x="2958" y="3889"/>
                  </a:lnTo>
                  <a:lnTo>
                    <a:pt x="2971" y="3926"/>
                  </a:lnTo>
                  <a:lnTo>
                    <a:pt x="2987" y="3972"/>
                  </a:lnTo>
                  <a:lnTo>
                    <a:pt x="3010" y="4031"/>
                  </a:lnTo>
                  <a:lnTo>
                    <a:pt x="3016" y="4044"/>
                  </a:lnTo>
                  <a:lnTo>
                    <a:pt x="3022" y="4058"/>
                  </a:lnTo>
                  <a:lnTo>
                    <a:pt x="3028" y="4069"/>
                  </a:lnTo>
                  <a:lnTo>
                    <a:pt x="3034" y="4083"/>
                  </a:lnTo>
                  <a:lnTo>
                    <a:pt x="3037" y="4095"/>
                  </a:lnTo>
                  <a:lnTo>
                    <a:pt x="3043" y="4108"/>
                  </a:lnTo>
                  <a:lnTo>
                    <a:pt x="3049" y="4120"/>
                  </a:lnTo>
                  <a:lnTo>
                    <a:pt x="3059" y="4135"/>
                  </a:lnTo>
                  <a:lnTo>
                    <a:pt x="3065" y="4151"/>
                  </a:lnTo>
                  <a:lnTo>
                    <a:pt x="3070" y="4164"/>
                  </a:lnTo>
                  <a:lnTo>
                    <a:pt x="3076" y="4176"/>
                  </a:lnTo>
                  <a:lnTo>
                    <a:pt x="3084" y="4188"/>
                  </a:lnTo>
                  <a:lnTo>
                    <a:pt x="3090" y="4197"/>
                  </a:lnTo>
                  <a:lnTo>
                    <a:pt x="3096" y="4209"/>
                  </a:lnTo>
                  <a:lnTo>
                    <a:pt x="3101" y="4223"/>
                  </a:lnTo>
                  <a:lnTo>
                    <a:pt x="3111" y="4240"/>
                  </a:lnTo>
                  <a:lnTo>
                    <a:pt x="3127" y="4259"/>
                  </a:lnTo>
                  <a:lnTo>
                    <a:pt x="3142" y="4279"/>
                  </a:lnTo>
                  <a:lnTo>
                    <a:pt x="3156" y="4296"/>
                  </a:lnTo>
                  <a:lnTo>
                    <a:pt x="3169" y="4316"/>
                  </a:lnTo>
                  <a:lnTo>
                    <a:pt x="3175" y="4327"/>
                  </a:lnTo>
                  <a:lnTo>
                    <a:pt x="3181" y="4339"/>
                  </a:lnTo>
                  <a:lnTo>
                    <a:pt x="3185" y="4351"/>
                  </a:lnTo>
                  <a:lnTo>
                    <a:pt x="3191" y="4362"/>
                  </a:lnTo>
                  <a:lnTo>
                    <a:pt x="3206" y="4385"/>
                  </a:lnTo>
                  <a:lnTo>
                    <a:pt x="3220" y="4405"/>
                  </a:lnTo>
                  <a:lnTo>
                    <a:pt x="3231" y="4420"/>
                  </a:lnTo>
                  <a:lnTo>
                    <a:pt x="3245" y="4436"/>
                  </a:lnTo>
                  <a:lnTo>
                    <a:pt x="3255" y="4449"/>
                  </a:lnTo>
                  <a:lnTo>
                    <a:pt x="3266" y="4465"/>
                  </a:lnTo>
                  <a:lnTo>
                    <a:pt x="3280" y="4482"/>
                  </a:lnTo>
                  <a:lnTo>
                    <a:pt x="3295" y="4506"/>
                  </a:lnTo>
                  <a:lnTo>
                    <a:pt x="3307" y="4519"/>
                  </a:lnTo>
                  <a:lnTo>
                    <a:pt x="3321" y="4533"/>
                  </a:lnTo>
                  <a:lnTo>
                    <a:pt x="3332" y="4546"/>
                  </a:lnTo>
                  <a:lnTo>
                    <a:pt x="3350" y="4562"/>
                  </a:lnTo>
                  <a:lnTo>
                    <a:pt x="3369" y="4581"/>
                  </a:lnTo>
                  <a:lnTo>
                    <a:pt x="3396" y="4607"/>
                  </a:lnTo>
                  <a:lnTo>
                    <a:pt x="3433" y="4640"/>
                  </a:lnTo>
                  <a:lnTo>
                    <a:pt x="3482" y="4684"/>
                  </a:lnTo>
                  <a:lnTo>
                    <a:pt x="3511" y="4705"/>
                  </a:lnTo>
                  <a:lnTo>
                    <a:pt x="3540" y="4727"/>
                  </a:lnTo>
                  <a:lnTo>
                    <a:pt x="3569" y="4748"/>
                  </a:lnTo>
                  <a:lnTo>
                    <a:pt x="3600" y="4771"/>
                  </a:lnTo>
                  <a:lnTo>
                    <a:pt x="3629" y="4793"/>
                  </a:lnTo>
                  <a:lnTo>
                    <a:pt x="3660" y="4816"/>
                  </a:lnTo>
                  <a:lnTo>
                    <a:pt x="3691" y="4839"/>
                  </a:lnTo>
                  <a:lnTo>
                    <a:pt x="3724" y="4865"/>
                  </a:lnTo>
                  <a:lnTo>
                    <a:pt x="3738" y="4868"/>
                  </a:lnTo>
                  <a:lnTo>
                    <a:pt x="3751" y="4872"/>
                  </a:lnTo>
                  <a:lnTo>
                    <a:pt x="3759" y="4876"/>
                  </a:lnTo>
                  <a:lnTo>
                    <a:pt x="3769" y="4880"/>
                  </a:lnTo>
                  <a:lnTo>
                    <a:pt x="3774" y="4882"/>
                  </a:lnTo>
                  <a:lnTo>
                    <a:pt x="3782" y="4888"/>
                  </a:lnTo>
                  <a:lnTo>
                    <a:pt x="3790" y="4892"/>
                  </a:lnTo>
                  <a:lnTo>
                    <a:pt x="3803" y="4901"/>
                  </a:lnTo>
                  <a:lnTo>
                    <a:pt x="3834" y="4915"/>
                  </a:lnTo>
                  <a:lnTo>
                    <a:pt x="3871" y="4930"/>
                  </a:lnTo>
                  <a:lnTo>
                    <a:pt x="3910" y="4946"/>
                  </a:lnTo>
                  <a:lnTo>
                    <a:pt x="3949" y="4962"/>
                  </a:lnTo>
                  <a:lnTo>
                    <a:pt x="3984" y="4975"/>
                  </a:lnTo>
                  <a:lnTo>
                    <a:pt x="4019" y="4989"/>
                  </a:lnTo>
                  <a:lnTo>
                    <a:pt x="4048" y="5000"/>
                  </a:lnTo>
                  <a:lnTo>
                    <a:pt x="4073" y="5012"/>
                  </a:lnTo>
                  <a:lnTo>
                    <a:pt x="4090" y="5018"/>
                  </a:lnTo>
                  <a:lnTo>
                    <a:pt x="4110" y="5024"/>
                  </a:lnTo>
                  <a:lnTo>
                    <a:pt x="4127" y="5027"/>
                  </a:lnTo>
                  <a:lnTo>
                    <a:pt x="4147" y="5033"/>
                  </a:lnTo>
                  <a:lnTo>
                    <a:pt x="4149" y="5035"/>
                  </a:lnTo>
                  <a:lnTo>
                    <a:pt x="4160" y="5039"/>
                  </a:lnTo>
                  <a:lnTo>
                    <a:pt x="4172" y="5039"/>
                  </a:lnTo>
                  <a:lnTo>
                    <a:pt x="4189" y="5041"/>
                  </a:lnTo>
                  <a:lnTo>
                    <a:pt x="4213" y="5043"/>
                  </a:lnTo>
                  <a:lnTo>
                    <a:pt x="4246" y="5049"/>
                  </a:lnTo>
                  <a:close/>
                  <a:moveTo>
                    <a:pt x="1686" y="4031"/>
                  </a:moveTo>
                  <a:lnTo>
                    <a:pt x="1699" y="4031"/>
                  </a:lnTo>
                  <a:lnTo>
                    <a:pt x="1715" y="4031"/>
                  </a:lnTo>
                  <a:lnTo>
                    <a:pt x="1726" y="4031"/>
                  </a:lnTo>
                  <a:lnTo>
                    <a:pt x="1744" y="4031"/>
                  </a:lnTo>
                  <a:lnTo>
                    <a:pt x="1759" y="4021"/>
                  </a:lnTo>
                  <a:lnTo>
                    <a:pt x="1775" y="4013"/>
                  </a:lnTo>
                  <a:lnTo>
                    <a:pt x="1788" y="4005"/>
                  </a:lnTo>
                  <a:lnTo>
                    <a:pt x="1802" y="3998"/>
                  </a:lnTo>
                  <a:lnTo>
                    <a:pt x="1818" y="3982"/>
                  </a:lnTo>
                  <a:lnTo>
                    <a:pt x="1833" y="3967"/>
                  </a:lnTo>
                  <a:lnTo>
                    <a:pt x="1841" y="3945"/>
                  </a:lnTo>
                  <a:lnTo>
                    <a:pt x="1849" y="3926"/>
                  </a:lnTo>
                  <a:lnTo>
                    <a:pt x="1854" y="3908"/>
                  </a:lnTo>
                  <a:lnTo>
                    <a:pt x="1860" y="3893"/>
                  </a:lnTo>
                  <a:lnTo>
                    <a:pt x="1858" y="3877"/>
                  </a:lnTo>
                  <a:lnTo>
                    <a:pt x="1858" y="3866"/>
                  </a:lnTo>
                  <a:lnTo>
                    <a:pt x="1858" y="3856"/>
                  </a:lnTo>
                  <a:lnTo>
                    <a:pt x="1858" y="3848"/>
                  </a:lnTo>
                  <a:lnTo>
                    <a:pt x="1856" y="3837"/>
                  </a:lnTo>
                  <a:lnTo>
                    <a:pt x="1854" y="3827"/>
                  </a:lnTo>
                  <a:lnTo>
                    <a:pt x="1850" y="3813"/>
                  </a:lnTo>
                  <a:lnTo>
                    <a:pt x="1849" y="3798"/>
                  </a:lnTo>
                  <a:lnTo>
                    <a:pt x="1843" y="3784"/>
                  </a:lnTo>
                  <a:lnTo>
                    <a:pt x="1839" y="3773"/>
                  </a:lnTo>
                  <a:lnTo>
                    <a:pt x="1835" y="3761"/>
                  </a:lnTo>
                  <a:lnTo>
                    <a:pt x="1831" y="3751"/>
                  </a:lnTo>
                  <a:lnTo>
                    <a:pt x="1821" y="3732"/>
                  </a:lnTo>
                  <a:lnTo>
                    <a:pt x="1812" y="3712"/>
                  </a:lnTo>
                  <a:lnTo>
                    <a:pt x="1790" y="3683"/>
                  </a:lnTo>
                  <a:lnTo>
                    <a:pt x="1777" y="3662"/>
                  </a:lnTo>
                  <a:lnTo>
                    <a:pt x="1763" y="3643"/>
                  </a:lnTo>
                  <a:lnTo>
                    <a:pt x="1754" y="3631"/>
                  </a:lnTo>
                  <a:lnTo>
                    <a:pt x="1742" y="3617"/>
                  </a:lnTo>
                  <a:lnTo>
                    <a:pt x="1730" y="3606"/>
                  </a:lnTo>
                  <a:lnTo>
                    <a:pt x="1717" y="3592"/>
                  </a:lnTo>
                  <a:lnTo>
                    <a:pt x="1701" y="3575"/>
                  </a:lnTo>
                  <a:lnTo>
                    <a:pt x="1684" y="3561"/>
                  </a:lnTo>
                  <a:lnTo>
                    <a:pt x="1668" y="3549"/>
                  </a:lnTo>
                  <a:lnTo>
                    <a:pt x="1653" y="3538"/>
                  </a:lnTo>
                  <a:lnTo>
                    <a:pt x="1639" y="3526"/>
                  </a:lnTo>
                  <a:lnTo>
                    <a:pt x="1624" y="3515"/>
                  </a:lnTo>
                  <a:lnTo>
                    <a:pt x="1608" y="3503"/>
                  </a:lnTo>
                  <a:lnTo>
                    <a:pt x="1593" y="3491"/>
                  </a:lnTo>
                  <a:lnTo>
                    <a:pt x="1579" y="3480"/>
                  </a:lnTo>
                  <a:lnTo>
                    <a:pt x="1567" y="3478"/>
                  </a:lnTo>
                  <a:lnTo>
                    <a:pt x="1560" y="3476"/>
                  </a:lnTo>
                  <a:lnTo>
                    <a:pt x="1554" y="3474"/>
                  </a:lnTo>
                  <a:lnTo>
                    <a:pt x="1550" y="3474"/>
                  </a:lnTo>
                  <a:lnTo>
                    <a:pt x="1540" y="3470"/>
                  </a:lnTo>
                  <a:lnTo>
                    <a:pt x="1532" y="3464"/>
                  </a:lnTo>
                  <a:lnTo>
                    <a:pt x="1517" y="3460"/>
                  </a:lnTo>
                  <a:lnTo>
                    <a:pt x="1503" y="3458"/>
                  </a:lnTo>
                  <a:lnTo>
                    <a:pt x="1492" y="3458"/>
                  </a:lnTo>
                  <a:lnTo>
                    <a:pt x="1480" y="3458"/>
                  </a:lnTo>
                  <a:lnTo>
                    <a:pt x="1466" y="3458"/>
                  </a:lnTo>
                  <a:lnTo>
                    <a:pt x="1455" y="3458"/>
                  </a:lnTo>
                  <a:lnTo>
                    <a:pt x="1443" y="3458"/>
                  </a:lnTo>
                  <a:lnTo>
                    <a:pt x="1432" y="3458"/>
                  </a:lnTo>
                  <a:lnTo>
                    <a:pt x="1416" y="3466"/>
                  </a:lnTo>
                  <a:lnTo>
                    <a:pt x="1401" y="3476"/>
                  </a:lnTo>
                  <a:lnTo>
                    <a:pt x="1383" y="3489"/>
                  </a:lnTo>
                  <a:lnTo>
                    <a:pt x="1373" y="3503"/>
                  </a:lnTo>
                  <a:lnTo>
                    <a:pt x="1368" y="3509"/>
                  </a:lnTo>
                  <a:lnTo>
                    <a:pt x="1364" y="3517"/>
                  </a:lnTo>
                  <a:lnTo>
                    <a:pt x="1358" y="3528"/>
                  </a:lnTo>
                  <a:lnTo>
                    <a:pt x="1352" y="3544"/>
                  </a:lnTo>
                  <a:lnTo>
                    <a:pt x="1350" y="3553"/>
                  </a:lnTo>
                  <a:lnTo>
                    <a:pt x="1348" y="3565"/>
                  </a:lnTo>
                  <a:lnTo>
                    <a:pt x="1348" y="3575"/>
                  </a:lnTo>
                  <a:lnTo>
                    <a:pt x="1348" y="3588"/>
                  </a:lnTo>
                  <a:lnTo>
                    <a:pt x="1348" y="3602"/>
                  </a:lnTo>
                  <a:lnTo>
                    <a:pt x="1348" y="3621"/>
                  </a:lnTo>
                  <a:lnTo>
                    <a:pt x="1350" y="3646"/>
                  </a:lnTo>
                  <a:lnTo>
                    <a:pt x="1352" y="3681"/>
                  </a:lnTo>
                  <a:lnTo>
                    <a:pt x="1354" y="3693"/>
                  </a:lnTo>
                  <a:lnTo>
                    <a:pt x="1360" y="3705"/>
                  </a:lnTo>
                  <a:lnTo>
                    <a:pt x="1362" y="3716"/>
                  </a:lnTo>
                  <a:lnTo>
                    <a:pt x="1368" y="3728"/>
                  </a:lnTo>
                  <a:lnTo>
                    <a:pt x="1371" y="3740"/>
                  </a:lnTo>
                  <a:lnTo>
                    <a:pt x="1375" y="3753"/>
                  </a:lnTo>
                  <a:lnTo>
                    <a:pt x="1379" y="3767"/>
                  </a:lnTo>
                  <a:lnTo>
                    <a:pt x="1385" y="3782"/>
                  </a:lnTo>
                  <a:lnTo>
                    <a:pt x="1401" y="3800"/>
                  </a:lnTo>
                  <a:lnTo>
                    <a:pt x="1418" y="3821"/>
                  </a:lnTo>
                  <a:lnTo>
                    <a:pt x="1435" y="3838"/>
                  </a:lnTo>
                  <a:lnTo>
                    <a:pt x="1453" y="3860"/>
                  </a:lnTo>
                  <a:lnTo>
                    <a:pt x="1468" y="3877"/>
                  </a:lnTo>
                  <a:lnTo>
                    <a:pt x="1486" y="3897"/>
                  </a:lnTo>
                  <a:lnTo>
                    <a:pt x="1503" y="3916"/>
                  </a:lnTo>
                  <a:lnTo>
                    <a:pt x="1521" y="3935"/>
                  </a:lnTo>
                  <a:lnTo>
                    <a:pt x="1523" y="3943"/>
                  </a:lnTo>
                  <a:lnTo>
                    <a:pt x="1527" y="3951"/>
                  </a:lnTo>
                  <a:lnTo>
                    <a:pt x="1534" y="3953"/>
                  </a:lnTo>
                  <a:lnTo>
                    <a:pt x="1538" y="3955"/>
                  </a:lnTo>
                  <a:lnTo>
                    <a:pt x="1556" y="3967"/>
                  </a:lnTo>
                  <a:lnTo>
                    <a:pt x="1575" y="3982"/>
                  </a:lnTo>
                  <a:lnTo>
                    <a:pt x="1593" y="3994"/>
                  </a:lnTo>
                  <a:lnTo>
                    <a:pt x="1612" y="4009"/>
                  </a:lnTo>
                  <a:lnTo>
                    <a:pt x="1629" y="4015"/>
                  </a:lnTo>
                  <a:lnTo>
                    <a:pt x="1647" y="4021"/>
                  </a:lnTo>
                  <a:lnTo>
                    <a:pt x="1664" y="4025"/>
                  </a:lnTo>
                  <a:lnTo>
                    <a:pt x="1686" y="4031"/>
                  </a:lnTo>
                  <a:close/>
                  <a:moveTo>
                    <a:pt x="5465" y="4003"/>
                  </a:moveTo>
                  <a:lnTo>
                    <a:pt x="5454" y="3998"/>
                  </a:lnTo>
                  <a:lnTo>
                    <a:pt x="5444" y="3994"/>
                  </a:lnTo>
                  <a:lnTo>
                    <a:pt x="5434" y="3988"/>
                  </a:lnTo>
                  <a:lnTo>
                    <a:pt x="5425" y="3982"/>
                  </a:lnTo>
                  <a:lnTo>
                    <a:pt x="5413" y="3967"/>
                  </a:lnTo>
                  <a:lnTo>
                    <a:pt x="5403" y="3953"/>
                  </a:lnTo>
                  <a:lnTo>
                    <a:pt x="5396" y="3939"/>
                  </a:lnTo>
                  <a:lnTo>
                    <a:pt x="5388" y="3926"/>
                  </a:lnTo>
                  <a:lnTo>
                    <a:pt x="5378" y="3906"/>
                  </a:lnTo>
                  <a:lnTo>
                    <a:pt x="5367" y="3881"/>
                  </a:lnTo>
                  <a:lnTo>
                    <a:pt x="5361" y="3864"/>
                  </a:lnTo>
                  <a:lnTo>
                    <a:pt x="5355" y="3850"/>
                  </a:lnTo>
                  <a:lnTo>
                    <a:pt x="5349" y="3833"/>
                  </a:lnTo>
                  <a:lnTo>
                    <a:pt x="5345" y="3819"/>
                  </a:lnTo>
                  <a:lnTo>
                    <a:pt x="5336" y="3819"/>
                  </a:lnTo>
                  <a:lnTo>
                    <a:pt x="5330" y="3819"/>
                  </a:lnTo>
                  <a:lnTo>
                    <a:pt x="5316" y="3825"/>
                  </a:lnTo>
                  <a:lnTo>
                    <a:pt x="5306" y="3831"/>
                  </a:lnTo>
                  <a:lnTo>
                    <a:pt x="5299" y="3835"/>
                  </a:lnTo>
                  <a:lnTo>
                    <a:pt x="5293" y="3838"/>
                  </a:lnTo>
                  <a:lnTo>
                    <a:pt x="5285" y="3846"/>
                  </a:lnTo>
                  <a:lnTo>
                    <a:pt x="5281" y="3856"/>
                  </a:lnTo>
                  <a:lnTo>
                    <a:pt x="5266" y="3850"/>
                  </a:lnTo>
                  <a:lnTo>
                    <a:pt x="5250" y="3844"/>
                  </a:lnTo>
                  <a:lnTo>
                    <a:pt x="5237" y="3833"/>
                  </a:lnTo>
                  <a:lnTo>
                    <a:pt x="5223" y="3819"/>
                  </a:lnTo>
                  <a:lnTo>
                    <a:pt x="5211" y="3796"/>
                  </a:lnTo>
                  <a:lnTo>
                    <a:pt x="5206" y="3780"/>
                  </a:lnTo>
                  <a:lnTo>
                    <a:pt x="5200" y="3767"/>
                  </a:lnTo>
                  <a:lnTo>
                    <a:pt x="5198" y="3759"/>
                  </a:lnTo>
                  <a:lnTo>
                    <a:pt x="5196" y="3745"/>
                  </a:lnTo>
                  <a:lnTo>
                    <a:pt x="5196" y="3734"/>
                  </a:lnTo>
                  <a:lnTo>
                    <a:pt x="5202" y="3728"/>
                  </a:lnTo>
                  <a:lnTo>
                    <a:pt x="5206" y="3724"/>
                  </a:lnTo>
                  <a:lnTo>
                    <a:pt x="5206" y="3716"/>
                  </a:lnTo>
                  <a:lnTo>
                    <a:pt x="5208" y="3710"/>
                  </a:lnTo>
                  <a:lnTo>
                    <a:pt x="5209" y="3701"/>
                  </a:lnTo>
                  <a:lnTo>
                    <a:pt x="5213" y="3691"/>
                  </a:lnTo>
                  <a:lnTo>
                    <a:pt x="5225" y="3674"/>
                  </a:lnTo>
                  <a:lnTo>
                    <a:pt x="5237" y="3664"/>
                  </a:lnTo>
                  <a:lnTo>
                    <a:pt x="5242" y="3658"/>
                  </a:lnTo>
                  <a:lnTo>
                    <a:pt x="5252" y="3654"/>
                  </a:lnTo>
                  <a:lnTo>
                    <a:pt x="5264" y="3646"/>
                  </a:lnTo>
                  <a:lnTo>
                    <a:pt x="5281" y="3639"/>
                  </a:lnTo>
                  <a:lnTo>
                    <a:pt x="5279" y="3623"/>
                  </a:lnTo>
                  <a:lnTo>
                    <a:pt x="5275" y="3608"/>
                  </a:lnTo>
                  <a:lnTo>
                    <a:pt x="5264" y="3602"/>
                  </a:lnTo>
                  <a:lnTo>
                    <a:pt x="5250" y="3596"/>
                  </a:lnTo>
                  <a:lnTo>
                    <a:pt x="5235" y="3573"/>
                  </a:lnTo>
                  <a:lnTo>
                    <a:pt x="5223" y="3555"/>
                  </a:lnTo>
                  <a:lnTo>
                    <a:pt x="5215" y="3540"/>
                  </a:lnTo>
                  <a:lnTo>
                    <a:pt x="5209" y="3532"/>
                  </a:lnTo>
                  <a:lnTo>
                    <a:pt x="5204" y="3520"/>
                  </a:lnTo>
                  <a:lnTo>
                    <a:pt x="5200" y="3513"/>
                  </a:lnTo>
                  <a:lnTo>
                    <a:pt x="5196" y="3501"/>
                  </a:lnTo>
                  <a:lnTo>
                    <a:pt x="5192" y="3491"/>
                  </a:lnTo>
                  <a:lnTo>
                    <a:pt x="5192" y="3478"/>
                  </a:lnTo>
                  <a:lnTo>
                    <a:pt x="5192" y="3468"/>
                  </a:lnTo>
                  <a:lnTo>
                    <a:pt x="5192" y="3460"/>
                  </a:lnTo>
                  <a:lnTo>
                    <a:pt x="5192" y="3456"/>
                  </a:lnTo>
                  <a:lnTo>
                    <a:pt x="5192" y="3449"/>
                  </a:lnTo>
                  <a:lnTo>
                    <a:pt x="5196" y="3443"/>
                  </a:lnTo>
                  <a:lnTo>
                    <a:pt x="5208" y="3443"/>
                  </a:lnTo>
                  <a:lnTo>
                    <a:pt x="5217" y="3443"/>
                  </a:lnTo>
                  <a:lnTo>
                    <a:pt x="5223" y="3443"/>
                  </a:lnTo>
                  <a:lnTo>
                    <a:pt x="5231" y="3443"/>
                  </a:lnTo>
                  <a:lnTo>
                    <a:pt x="5241" y="3443"/>
                  </a:lnTo>
                  <a:lnTo>
                    <a:pt x="5250" y="3449"/>
                  </a:lnTo>
                  <a:lnTo>
                    <a:pt x="5264" y="3468"/>
                  </a:lnTo>
                  <a:lnTo>
                    <a:pt x="5281" y="3487"/>
                  </a:lnTo>
                  <a:lnTo>
                    <a:pt x="5295" y="3507"/>
                  </a:lnTo>
                  <a:lnTo>
                    <a:pt x="5312" y="3528"/>
                  </a:lnTo>
                  <a:lnTo>
                    <a:pt x="5312" y="3538"/>
                  </a:lnTo>
                  <a:lnTo>
                    <a:pt x="5314" y="3546"/>
                  </a:lnTo>
                  <a:lnTo>
                    <a:pt x="5316" y="3549"/>
                  </a:lnTo>
                  <a:lnTo>
                    <a:pt x="5318" y="3555"/>
                  </a:lnTo>
                  <a:lnTo>
                    <a:pt x="5318" y="3563"/>
                  </a:lnTo>
                  <a:lnTo>
                    <a:pt x="5324" y="3571"/>
                  </a:lnTo>
                  <a:lnTo>
                    <a:pt x="5334" y="3567"/>
                  </a:lnTo>
                  <a:lnTo>
                    <a:pt x="5345" y="3565"/>
                  </a:lnTo>
                  <a:lnTo>
                    <a:pt x="5359" y="3548"/>
                  </a:lnTo>
                  <a:lnTo>
                    <a:pt x="5376" y="3536"/>
                  </a:lnTo>
                  <a:lnTo>
                    <a:pt x="5390" y="3520"/>
                  </a:lnTo>
                  <a:lnTo>
                    <a:pt x="5407" y="3507"/>
                  </a:lnTo>
                  <a:lnTo>
                    <a:pt x="5419" y="3505"/>
                  </a:lnTo>
                  <a:lnTo>
                    <a:pt x="5433" y="3505"/>
                  </a:lnTo>
                  <a:lnTo>
                    <a:pt x="5444" y="3503"/>
                  </a:lnTo>
                  <a:lnTo>
                    <a:pt x="5462" y="3501"/>
                  </a:lnTo>
                  <a:lnTo>
                    <a:pt x="5475" y="3509"/>
                  </a:lnTo>
                  <a:lnTo>
                    <a:pt x="5493" y="3513"/>
                  </a:lnTo>
                  <a:lnTo>
                    <a:pt x="5502" y="3524"/>
                  </a:lnTo>
                  <a:lnTo>
                    <a:pt x="5514" y="3538"/>
                  </a:lnTo>
                  <a:lnTo>
                    <a:pt x="5516" y="3549"/>
                  </a:lnTo>
                  <a:lnTo>
                    <a:pt x="5522" y="3565"/>
                  </a:lnTo>
                  <a:lnTo>
                    <a:pt x="5524" y="3577"/>
                  </a:lnTo>
                  <a:lnTo>
                    <a:pt x="5529" y="3592"/>
                  </a:lnTo>
                  <a:lnTo>
                    <a:pt x="5524" y="3602"/>
                  </a:lnTo>
                  <a:lnTo>
                    <a:pt x="5524" y="3612"/>
                  </a:lnTo>
                  <a:lnTo>
                    <a:pt x="5522" y="3621"/>
                  </a:lnTo>
                  <a:lnTo>
                    <a:pt x="5520" y="3633"/>
                  </a:lnTo>
                  <a:lnTo>
                    <a:pt x="5506" y="3645"/>
                  </a:lnTo>
                  <a:lnTo>
                    <a:pt x="5498" y="3654"/>
                  </a:lnTo>
                  <a:lnTo>
                    <a:pt x="5489" y="3664"/>
                  </a:lnTo>
                  <a:lnTo>
                    <a:pt x="5477" y="3681"/>
                  </a:lnTo>
                  <a:lnTo>
                    <a:pt x="5483" y="3685"/>
                  </a:lnTo>
                  <a:lnTo>
                    <a:pt x="5493" y="3691"/>
                  </a:lnTo>
                  <a:lnTo>
                    <a:pt x="5504" y="3687"/>
                  </a:lnTo>
                  <a:lnTo>
                    <a:pt x="5518" y="3683"/>
                  </a:lnTo>
                  <a:lnTo>
                    <a:pt x="5533" y="3679"/>
                  </a:lnTo>
                  <a:lnTo>
                    <a:pt x="5551" y="3676"/>
                  </a:lnTo>
                  <a:lnTo>
                    <a:pt x="5562" y="3676"/>
                  </a:lnTo>
                  <a:lnTo>
                    <a:pt x="5576" y="3676"/>
                  </a:lnTo>
                  <a:lnTo>
                    <a:pt x="5590" y="3676"/>
                  </a:lnTo>
                  <a:lnTo>
                    <a:pt x="5603" y="3681"/>
                  </a:lnTo>
                  <a:lnTo>
                    <a:pt x="5609" y="3691"/>
                  </a:lnTo>
                  <a:lnTo>
                    <a:pt x="5615" y="3707"/>
                  </a:lnTo>
                  <a:lnTo>
                    <a:pt x="5615" y="3716"/>
                  </a:lnTo>
                  <a:lnTo>
                    <a:pt x="5615" y="3728"/>
                  </a:lnTo>
                  <a:lnTo>
                    <a:pt x="5615" y="3738"/>
                  </a:lnTo>
                  <a:lnTo>
                    <a:pt x="5615" y="3749"/>
                  </a:lnTo>
                  <a:lnTo>
                    <a:pt x="5607" y="3757"/>
                  </a:lnTo>
                  <a:lnTo>
                    <a:pt x="5601" y="3769"/>
                  </a:lnTo>
                  <a:lnTo>
                    <a:pt x="5593" y="3780"/>
                  </a:lnTo>
                  <a:lnTo>
                    <a:pt x="5588" y="3792"/>
                  </a:lnTo>
                  <a:lnTo>
                    <a:pt x="5576" y="3800"/>
                  </a:lnTo>
                  <a:lnTo>
                    <a:pt x="5561" y="3813"/>
                  </a:lnTo>
                  <a:lnTo>
                    <a:pt x="5549" y="3813"/>
                  </a:lnTo>
                  <a:lnTo>
                    <a:pt x="5535" y="3819"/>
                  </a:lnTo>
                  <a:lnTo>
                    <a:pt x="5522" y="3813"/>
                  </a:lnTo>
                  <a:lnTo>
                    <a:pt x="5510" y="3807"/>
                  </a:lnTo>
                  <a:lnTo>
                    <a:pt x="5498" y="3802"/>
                  </a:lnTo>
                  <a:lnTo>
                    <a:pt x="5487" y="3798"/>
                  </a:lnTo>
                  <a:lnTo>
                    <a:pt x="5483" y="3800"/>
                  </a:lnTo>
                  <a:lnTo>
                    <a:pt x="5477" y="3802"/>
                  </a:lnTo>
                  <a:lnTo>
                    <a:pt x="5479" y="3817"/>
                  </a:lnTo>
                  <a:lnTo>
                    <a:pt x="5481" y="3835"/>
                  </a:lnTo>
                  <a:lnTo>
                    <a:pt x="5497" y="3846"/>
                  </a:lnTo>
                  <a:lnTo>
                    <a:pt x="5514" y="3860"/>
                  </a:lnTo>
                  <a:lnTo>
                    <a:pt x="5516" y="3871"/>
                  </a:lnTo>
                  <a:lnTo>
                    <a:pt x="5522" y="3885"/>
                  </a:lnTo>
                  <a:lnTo>
                    <a:pt x="5528" y="3897"/>
                  </a:lnTo>
                  <a:lnTo>
                    <a:pt x="5535" y="3914"/>
                  </a:lnTo>
                  <a:lnTo>
                    <a:pt x="5535" y="3926"/>
                  </a:lnTo>
                  <a:lnTo>
                    <a:pt x="5535" y="3937"/>
                  </a:lnTo>
                  <a:lnTo>
                    <a:pt x="5535" y="3949"/>
                  </a:lnTo>
                  <a:lnTo>
                    <a:pt x="5535" y="3961"/>
                  </a:lnTo>
                  <a:lnTo>
                    <a:pt x="5526" y="3970"/>
                  </a:lnTo>
                  <a:lnTo>
                    <a:pt x="5518" y="3982"/>
                  </a:lnTo>
                  <a:lnTo>
                    <a:pt x="5510" y="3992"/>
                  </a:lnTo>
                  <a:lnTo>
                    <a:pt x="5502" y="4003"/>
                  </a:lnTo>
                  <a:lnTo>
                    <a:pt x="5493" y="4003"/>
                  </a:lnTo>
                  <a:lnTo>
                    <a:pt x="5483" y="4003"/>
                  </a:lnTo>
                  <a:lnTo>
                    <a:pt x="5473" y="4003"/>
                  </a:lnTo>
                  <a:lnTo>
                    <a:pt x="5465" y="4003"/>
                  </a:lnTo>
                  <a:close/>
                  <a:moveTo>
                    <a:pt x="3617" y="3823"/>
                  </a:moveTo>
                  <a:lnTo>
                    <a:pt x="3613" y="3819"/>
                  </a:lnTo>
                  <a:lnTo>
                    <a:pt x="3608" y="3817"/>
                  </a:lnTo>
                  <a:lnTo>
                    <a:pt x="3602" y="3815"/>
                  </a:lnTo>
                  <a:lnTo>
                    <a:pt x="3596" y="3813"/>
                  </a:lnTo>
                  <a:lnTo>
                    <a:pt x="3586" y="3809"/>
                  </a:lnTo>
                  <a:lnTo>
                    <a:pt x="3577" y="3807"/>
                  </a:lnTo>
                  <a:lnTo>
                    <a:pt x="3555" y="3796"/>
                  </a:lnTo>
                  <a:lnTo>
                    <a:pt x="3538" y="3784"/>
                  </a:lnTo>
                  <a:lnTo>
                    <a:pt x="3522" y="3773"/>
                  </a:lnTo>
                  <a:lnTo>
                    <a:pt x="3507" y="3761"/>
                  </a:lnTo>
                  <a:lnTo>
                    <a:pt x="3491" y="3747"/>
                  </a:lnTo>
                  <a:lnTo>
                    <a:pt x="3478" y="3736"/>
                  </a:lnTo>
                  <a:lnTo>
                    <a:pt x="3466" y="3724"/>
                  </a:lnTo>
                  <a:lnTo>
                    <a:pt x="3454" y="3712"/>
                  </a:lnTo>
                  <a:lnTo>
                    <a:pt x="3441" y="3701"/>
                  </a:lnTo>
                  <a:lnTo>
                    <a:pt x="3429" y="3689"/>
                  </a:lnTo>
                  <a:lnTo>
                    <a:pt x="3418" y="3678"/>
                  </a:lnTo>
                  <a:lnTo>
                    <a:pt x="3406" y="3666"/>
                  </a:lnTo>
                  <a:lnTo>
                    <a:pt x="3388" y="3637"/>
                  </a:lnTo>
                  <a:lnTo>
                    <a:pt x="3377" y="3613"/>
                  </a:lnTo>
                  <a:lnTo>
                    <a:pt x="3365" y="3594"/>
                  </a:lnTo>
                  <a:lnTo>
                    <a:pt x="3357" y="3577"/>
                  </a:lnTo>
                  <a:lnTo>
                    <a:pt x="3346" y="3555"/>
                  </a:lnTo>
                  <a:lnTo>
                    <a:pt x="3336" y="3534"/>
                  </a:lnTo>
                  <a:lnTo>
                    <a:pt x="3322" y="3505"/>
                  </a:lnTo>
                  <a:lnTo>
                    <a:pt x="3307" y="3470"/>
                  </a:lnTo>
                  <a:lnTo>
                    <a:pt x="3301" y="3456"/>
                  </a:lnTo>
                  <a:lnTo>
                    <a:pt x="3301" y="3443"/>
                  </a:lnTo>
                  <a:lnTo>
                    <a:pt x="3297" y="3429"/>
                  </a:lnTo>
                  <a:lnTo>
                    <a:pt x="3295" y="3418"/>
                  </a:lnTo>
                  <a:lnTo>
                    <a:pt x="3299" y="3402"/>
                  </a:lnTo>
                  <a:lnTo>
                    <a:pt x="3305" y="3388"/>
                  </a:lnTo>
                  <a:lnTo>
                    <a:pt x="3311" y="3375"/>
                  </a:lnTo>
                  <a:lnTo>
                    <a:pt x="3317" y="3361"/>
                  </a:lnTo>
                  <a:lnTo>
                    <a:pt x="3321" y="3346"/>
                  </a:lnTo>
                  <a:lnTo>
                    <a:pt x="3326" y="3330"/>
                  </a:lnTo>
                  <a:lnTo>
                    <a:pt x="3332" y="3315"/>
                  </a:lnTo>
                  <a:lnTo>
                    <a:pt x="3338" y="3301"/>
                  </a:lnTo>
                  <a:lnTo>
                    <a:pt x="3346" y="3295"/>
                  </a:lnTo>
                  <a:lnTo>
                    <a:pt x="3354" y="3290"/>
                  </a:lnTo>
                  <a:lnTo>
                    <a:pt x="3363" y="3282"/>
                  </a:lnTo>
                  <a:lnTo>
                    <a:pt x="3375" y="3274"/>
                  </a:lnTo>
                  <a:lnTo>
                    <a:pt x="3385" y="3268"/>
                  </a:lnTo>
                  <a:lnTo>
                    <a:pt x="3392" y="3266"/>
                  </a:lnTo>
                  <a:lnTo>
                    <a:pt x="3400" y="3264"/>
                  </a:lnTo>
                  <a:lnTo>
                    <a:pt x="3408" y="3264"/>
                  </a:lnTo>
                  <a:lnTo>
                    <a:pt x="3416" y="3264"/>
                  </a:lnTo>
                  <a:lnTo>
                    <a:pt x="3427" y="3264"/>
                  </a:lnTo>
                  <a:lnTo>
                    <a:pt x="3441" y="3264"/>
                  </a:lnTo>
                  <a:lnTo>
                    <a:pt x="3460" y="3264"/>
                  </a:lnTo>
                  <a:lnTo>
                    <a:pt x="3474" y="3274"/>
                  </a:lnTo>
                  <a:lnTo>
                    <a:pt x="3491" y="3284"/>
                  </a:lnTo>
                  <a:lnTo>
                    <a:pt x="3505" y="3293"/>
                  </a:lnTo>
                  <a:lnTo>
                    <a:pt x="3522" y="3307"/>
                  </a:lnTo>
                  <a:lnTo>
                    <a:pt x="3542" y="3324"/>
                  </a:lnTo>
                  <a:lnTo>
                    <a:pt x="3561" y="3342"/>
                  </a:lnTo>
                  <a:lnTo>
                    <a:pt x="3580" y="3357"/>
                  </a:lnTo>
                  <a:lnTo>
                    <a:pt x="3602" y="3375"/>
                  </a:lnTo>
                  <a:lnTo>
                    <a:pt x="3604" y="3383"/>
                  </a:lnTo>
                  <a:lnTo>
                    <a:pt x="3611" y="3396"/>
                  </a:lnTo>
                  <a:lnTo>
                    <a:pt x="3621" y="3412"/>
                  </a:lnTo>
                  <a:lnTo>
                    <a:pt x="3635" y="3433"/>
                  </a:lnTo>
                  <a:lnTo>
                    <a:pt x="3646" y="3454"/>
                  </a:lnTo>
                  <a:lnTo>
                    <a:pt x="3664" y="3480"/>
                  </a:lnTo>
                  <a:lnTo>
                    <a:pt x="3679" y="3507"/>
                  </a:lnTo>
                  <a:lnTo>
                    <a:pt x="3697" y="3538"/>
                  </a:lnTo>
                  <a:lnTo>
                    <a:pt x="3699" y="3549"/>
                  </a:lnTo>
                  <a:lnTo>
                    <a:pt x="3705" y="3561"/>
                  </a:lnTo>
                  <a:lnTo>
                    <a:pt x="3706" y="3573"/>
                  </a:lnTo>
                  <a:lnTo>
                    <a:pt x="3712" y="3584"/>
                  </a:lnTo>
                  <a:lnTo>
                    <a:pt x="3716" y="3596"/>
                  </a:lnTo>
                  <a:lnTo>
                    <a:pt x="3720" y="3608"/>
                  </a:lnTo>
                  <a:lnTo>
                    <a:pt x="3724" y="3619"/>
                  </a:lnTo>
                  <a:lnTo>
                    <a:pt x="3730" y="3633"/>
                  </a:lnTo>
                  <a:lnTo>
                    <a:pt x="3730" y="3648"/>
                  </a:lnTo>
                  <a:lnTo>
                    <a:pt x="3730" y="3668"/>
                  </a:lnTo>
                  <a:lnTo>
                    <a:pt x="3730" y="3685"/>
                  </a:lnTo>
                  <a:lnTo>
                    <a:pt x="3730" y="3707"/>
                  </a:lnTo>
                  <a:lnTo>
                    <a:pt x="3724" y="3718"/>
                  </a:lnTo>
                  <a:lnTo>
                    <a:pt x="3720" y="3734"/>
                  </a:lnTo>
                  <a:lnTo>
                    <a:pt x="3716" y="3747"/>
                  </a:lnTo>
                  <a:lnTo>
                    <a:pt x="3712" y="3761"/>
                  </a:lnTo>
                  <a:lnTo>
                    <a:pt x="3706" y="3767"/>
                  </a:lnTo>
                  <a:lnTo>
                    <a:pt x="3701" y="3776"/>
                  </a:lnTo>
                  <a:lnTo>
                    <a:pt x="3693" y="3786"/>
                  </a:lnTo>
                  <a:lnTo>
                    <a:pt x="3687" y="3798"/>
                  </a:lnTo>
                  <a:lnTo>
                    <a:pt x="3674" y="3802"/>
                  </a:lnTo>
                  <a:lnTo>
                    <a:pt x="3662" y="3807"/>
                  </a:lnTo>
                  <a:lnTo>
                    <a:pt x="3650" y="3813"/>
                  </a:lnTo>
                  <a:lnTo>
                    <a:pt x="3639" y="3823"/>
                  </a:lnTo>
                  <a:lnTo>
                    <a:pt x="3627" y="3823"/>
                  </a:lnTo>
                  <a:lnTo>
                    <a:pt x="3617" y="3823"/>
                  </a:lnTo>
                  <a:close/>
                </a:path>
              </a:pathLst>
            </a:custGeom>
            <a:solidFill>
              <a:srgbClr val="8585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65000" y="3859560"/>
              <a:ext cx="2138400" cy="1055520"/>
            </a:xfrm>
            <a:custGeom>
              <a:avLst/>
              <a:gdLst/>
              <a:ahLst/>
              <a:rect l="l" t="t" r="r" b="b"/>
              <a:pathLst>
                <a:path w="5105" h="2038">
                  <a:moveTo>
                    <a:pt x="5048" y="2038"/>
                  </a:moveTo>
                  <a:lnTo>
                    <a:pt x="5035" y="2029"/>
                  </a:lnTo>
                  <a:lnTo>
                    <a:pt x="5025" y="2025"/>
                  </a:lnTo>
                  <a:lnTo>
                    <a:pt x="5016" y="2019"/>
                  </a:lnTo>
                  <a:lnTo>
                    <a:pt x="5010" y="2017"/>
                  </a:lnTo>
                  <a:lnTo>
                    <a:pt x="4998" y="2007"/>
                  </a:lnTo>
                  <a:lnTo>
                    <a:pt x="4984" y="1996"/>
                  </a:lnTo>
                  <a:lnTo>
                    <a:pt x="4973" y="1982"/>
                  </a:lnTo>
                  <a:lnTo>
                    <a:pt x="4967" y="1971"/>
                  </a:lnTo>
                  <a:lnTo>
                    <a:pt x="4961" y="1961"/>
                  </a:lnTo>
                  <a:lnTo>
                    <a:pt x="4955" y="1953"/>
                  </a:lnTo>
                  <a:lnTo>
                    <a:pt x="4946" y="1940"/>
                  </a:lnTo>
                  <a:lnTo>
                    <a:pt x="4938" y="1922"/>
                  </a:lnTo>
                  <a:lnTo>
                    <a:pt x="4926" y="1901"/>
                  </a:lnTo>
                  <a:lnTo>
                    <a:pt x="4915" y="1876"/>
                  </a:lnTo>
                  <a:lnTo>
                    <a:pt x="4909" y="1858"/>
                  </a:lnTo>
                  <a:lnTo>
                    <a:pt x="4903" y="1843"/>
                  </a:lnTo>
                  <a:lnTo>
                    <a:pt x="4897" y="1827"/>
                  </a:lnTo>
                  <a:lnTo>
                    <a:pt x="4891" y="1812"/>
                  </a:lnTo>
                  <a:lnTo>
                    <a:pt x="4886" y="1794"/>
                  </a:lnTo>
                  <a:lnTo>
                    <a:pt x="4880" y="1779"/>
                  </a:lnTo>
                  <a:lnTo>
                    <a:pt x="4876" y="1763"/>
                  </a:lnTo>
                  <a:lnTo>
                    <a:pt x="4874" y="1747"/>
                  </a:lnTo>
                  <a:lnTo>
                    <a:pt x="4864" y="1738"/>
                  </a:lnTo>
                  <a:lnTo>
                    <a:pt x="4858" y="1726"/>
                  </a:lnTo>
                  <a:lnTo>
                    <a:pt x="4847" y="1728"/>
                  </a:lnTo>
                  <a:lnTo>
                    <a:pt x="4841" y="1732"/>
                  </a:lnTo>
                  <a:lnTo>
                    <a:pt x="4839" y="1734"/>
                  </a:lnTo>
                  <a:lnTo>
                    <a:pt x="4837" y="1742"/>
                  </a:lnTo>
                  <a:lnTo>
                    <a:pt x="4841" y="1753"/>
                  </a:lnTo>
                  <a:lnTo>
                    <a:pt x="4845" y="1763"/>
                  </a:lnTo>
                  <a:lnTo>
                    <a:pt x="4847" y="1769"/>
                  </a:lnTo>
                  <a:lnTo>
                    <a:pt x="4851" y="1777"/>
                  </a:lnTo>
                  <a:lnTo>
                    <a:pt x="4853" y="1786"/>
                  </a:lnTo>
                  <a:lnTo>
                    <a:pt x="4858" y="1796"/>
                  </a:lnTo>
                  <a:lnTo>
                    <a:pt x="4845" y="1792"/>
                  </a:lnTo>
                  <a:lnTo>
                    <a:pt x="4833" y="1790"/>
                  </a:lnTo>
                  <a:lnTo>
                    <a:pt x="4824" y="1788"/>
                  </a:lnTo>
                  <a:lnTo>
                    <a:pt x="4816" y="1786"/>
                  </a:lnTo>
                  <a:lnTo>
                    <a:pt x="4804" y="1782"/>
                  </a:lnTo>
                  <a:lnTo>
                    <a:pt x="4794" y="1780"/>
                  </a:lnTo>
                  <a:lnTo>
                    <a:pt x="4781" y="1777"/>
                  </a:lnTo>
                  <a:lnTo>
                    <a:pt x="4767" y="1775"/>
                  </a:lnTo>
                  <a:lnTo>
                    <a:pt x="4752" y="1767"/>
                  </a:lnTo>
                  <a:lnTo>
                    <a:pt x="4740" y="1761"/>
                  </a:lnTo>
                  <a:lnTo>
                    <a:pt x="4728" y="1755"/>
                  </a:lnTo>
                  <a:lnTo>
                    <a:pt x="4717" y="1749"/>
                  </a:lnTo>
                  <a:lnTo>
                    <a:pt x="4703" y="1740"/>
                  </a:lnTo>
                  <a:lnTo>
                    <a:pt x="4688" y="1730"/>
                  </a:lnTo>
                  <a:lnTo>
                    <a:pt x="4666" y="1718"/>
                  </a:lnTo>
                  <a:lnTo>
                    <a:pt x="4641" y="1705"/>
                  </a:lnTo>
                  <a:lnTo>
                    <a:pt x="4620" y="1687"/>
                  </a:lnTo>
                  <a:lnTo>
                    <a:pt x="4600" y="1672"/>
                  </a:lnTo>
                  <a:lnTo>
                    <a:pt x="4579" y="1656"/>
                  </a:lnTo>
                  <a:lnTo>
                    <a:pt x="4560" y="1641"/>
                  </a:lnTo>
                  <a:lnTo>
                    <a:pt x="4538" y="1625"/>
                  </a:lnTo>
                  <a:lnTo>
                    <a:pt x="4519" y="1610"/>
                  </a:lnTo>
                  <a:lnTo>
                    <a:pt x="4498" y="1594"/>
                  </a:lnTo>
                  <a:lnTo>
                    <a:pt x="4478" y="1579"/>
                  </a:lnTo>
                  <a:lnTo>
                    <a:pt x="4465" y="1563"/>
                  </a:lnTo>
                  <a:lnTo>
                    <a:pt x="4451" y="1550"/>
                  </a:lnTo>
                  <a:lnTo>
                    <a:pt x="4438" y="1536"/>
                  </a:lnTo>
                  <a:lnTo>
                    <a:pt x="4426" y="1523"/>
                  </a:lnTo>
                  <a:lnTo>
                    <a:pt x="4410" y="1509"/>
                  </a:lnTo>
                  <a:lnTo>
                    <a:pt x="4399" y="1497"/>
                  </a:lnTo>
                  <a:lnTo>
                    <a:pt x="4383" y="1486"/>
                  </a:lnTo>
                  <a:lnTo>
                    <a:pt x="4372" y="1474"/>
                  </a:lnTo>
                  <a:lnTo>
                    <a:pt x="4364" y="1460"/>
                  </a:lnTo>
                  <a:lnTo>
                    <a:pt x="4358" y="1449"/>
                  </a:lnTo>
                  <a:lnTo>
                    <a:pt x="4350" y="1437"/>
                  </a:lnTo>
                  <a:lnTo>
                    <a:pt x="4345" y="1426"/>
                  </a:lnTo>
                  <a:lnTo>
                    <a:pt x="4335" y="1414"/>
                  </a:lnTo>
                  <a:lnTo>
                    <a:pt x="4329" y="1402"/>
                  </a:lnTo>
                  <a:lnTo>
                    <a:pt x="4319" y="1393"/>
                  </a:lnTo>
                  <a:lnTo>
                    <a:pt x="4313" y="1383"/>
                  </a:lnTo>
                  <a:lnTo>
                    <a:pt x="4313" y="1367"/>
                  </a:lnTo>
                  <a:lnTo>
                    <a:pt x="4319" y="1352"/>
                  </a:lnTo>
                  <a:lnTo>
                    <a:pt x="4335" y="1352"/>
                  </a:lnTo>
                  <a:lnTo>
                    <a:pt x="4350" y="1352"/>
                  </a:lnTo>
                  <a:lnTo>
                    <a:pt x="4366" y="1352"/>
                  </a:lnTo>
                  <a:lnTo>
                    <a:pt x="4381" y="1352"/>
                  </a:lnTo>
                  <a:lnTo>
                    <a:pt x="4395" y="1367"/>
                  </a:lnTo>
                  <a:lnTo>
                    <a:pt x="4410" y="1383"/>
                  </a:lnTo>
                  <a:lnTo>
                    <a:pt x="4422" y="1398"/>
                  </a:lnTo>
                  <a:lnTo>
                    <a:pt x="4436" y="1416"/>
                  </a:lnTo>
                  <a:lnTo>
                    <a:pt x="4451" y="1427"/>
                  </a:lnTo>
                  <a:lnTo>
                    <a:pt x="4465" y="1437"/>
                  </a:lnTo>
                  <a:lnTo>
                    <a:pt x="4476" y="1445"/>
                  </a:lnTo>
                  <a:lnTo>
                    <a:pt x="4488" y="1455"/>
                  </a:lnTo>
                  <a:lnTo>
                    <a:pt x="4498" y="1460"/>
                  </a:lnTo>
                  <a:lnTo>
                    <a:pt x="4511" y="1468"/>
                  </a:lnTo>
                  <a:lnTo>
                    <a:pt x="4525" y="1476"/>
                  </a:lnTo>
                  <a:lnTo>
                    <a:pt x="4546" y="1490"/>
                  </a:lnTo>
                  <a:lnTo>
                    <a:pt x="4556" y="1490"/>
                  </a:lnTo>
                  <a:lnTo>
                    <a:pt x="4568" y="1490"/>
                  </a:lnTo>
                  <a:lnTo>
                    <a:pt x="4579" y="1490"/>
                  </a:lnTo>
                  <a:lnTo>
                    <a:pt x="4591" y="1491"/>
                  </a:lnTo>
                  <a:lnTo>
                    <a:pt x="4600" y="1491"/>
                  </a:lnTo>
                  <a:lnTo>
                    <a:pt x="4612" y="1493"/>
                  </a:lnTo>
                  <a:lnTo>
                    <a:pt x="4624" y="1493"/>
                  </a:lnTo>
                  <a:lnTo>
                    <a:pt x="4635" y="1495"/>
                  </a:lnTo>
                  <a:lnTo>
                    <a:pt x="4651" y="1490"/>
                  </a:lnTo>
                  <a:lnTo>
                    <a:pt x="4668" y="1484"/>
                  </a:lnTo>
                  <a:lnTo>
                    <a:pt x="4694" y="1464"/>
                  </a:lnTo>
                  <a:lnTo>
                    <a:pt x="4715" y="1451"/>
                  </a:lnTo>
                  <a:lnTo>
                    <a:pt x="4730" y="1441"/>
                  </a:lnTo>
                  <a:lnTo>
                    <a:pt x="4744" y="1435"/>
                  </a:lnTo>
                  <a:lnTo>
                    <a:pt x="4761" y="1426"/>
                  </a:lnTo>
                  <a:lnTo>
                    <a:pt x="4779" y="1420"/>
                  </a:lnTo>
                  <a:lnTo>
                    <a:pt x="4779" y="1429"/>
                  </a:lnTo>
                  <a:lnTo>
                    <a:pt x="4781" y="1441"/>
                  </a:lnTo>
                  <a:lnTo>
                    <a:pt x="4781" y="1451"/>
                  </a:lnTo>
                  <a:lnTo>
                    <a:pt x="4783" y="1462"/>
                  </a:lnTo>
                  <a:lnTo>
                    <a:pt x="4798" y="1462"/>
                  </a:lnTo>
                  <a:lnTo>
                    <a:pt x="4810" y="1462"/>
                  </a:lnTo>
                  <a:lnTo>
                    <a:pt x="4806" y="1426"/>
                  </a:lnTo>
                  <a:lnTo>
                    <a:pt x="4804" y="1400"/>
                  </a:lnTo>
                  <a:lnTo>
                    <a:pt x="4804" y="1379"/>
                  </a:lnTo>
                  <a:lnTo>
                    <a:pt x="4804" y="1363"/>
                  </a:lnTo>
                  <a:lnTo>
                    <a:pt x="4804" y="1348"/>
                  </a:lnTo>
                  <a:lnTo>
                    <a:pt x="4804" y="1336"/>
                  </a:lnTo>
                  <a:lnTo>
                    <a:pt x="4806" y="1321"/>
                  </a:lnTo>
                  <a:lnTo>
                    <a:pt x="4810" y="1303"/>
                  </a:lnTo>
                  <a:lnTo>
                    <a:pt x="4812" y="1296"/>
                  </a:lnTo>
                  <a:lnTo>
                    <a:pt x="4814" y="1288"/>
                  </a:lnTo>
                  <a:lnTo>
                    <a:pt x="4816" y="1276"/>
                  </a:lnTo>
                  <a:lnTo>
                    <a:pt x="4820" y="1266"/>
                  </a:lnTo>
                  <a:lnTo>
                    <a:pt x="4833" y="1259"/>
                  </a:lnTo>
                  <a:lnTo>
                    <a:pt x="4847" y="1247"/>
                  </a:lnTo>
                  <a:lnTo>
                    <a:pt x="4855" y="1245"/>
                  </a:lnTo>
                  <a:lnTo>
                    <a:pt x="4864" y="1245"/>
                  </a:lnTo>
                  <a:lnTo>
                    <a:pt x="4874" y="1243"/>
                  </a:lnTo>
                  <a:lnTo>
                    <a:pt x="4884" y="1241"/>
                  </a:lnTo>
                  <a:lnTo>
                    <a:pt x="4889" y="1251"/>
                  </a:lnTo>
                  <a:lnTo>
                    <a:pt x="4895" y="1261"/>
                  </a:lnTo>
                  <a:lnTo>
                    <a:pt x="4899" y="1266"/>
                  </a:lnTo>
                  <a:lnTo>
                    <a:pt x="4903" y="1274"/>
                  </a:lnTo>
                  <a:lnTo>
                    <a:pt x="4911" y="1278"/>
                  </a:lnTo>
                  <a:lnTo>
                    <a:pt x="4920" y="1284"/>
                  </a:lnTo>
                  <a:lnTo>
                    <a:pt x="4930" y="1301"/>
                  </a:lnTo>
                  <a:lnTo>
                    <a:pt x="4940" y="1321"/>
                  </a:lnTo>
                  <a:lnTo>
                    <a:pt x="4952" y="1338"/>
                  </a:lnTo>
                  <a:lnTo>
                    <a:pt x="4963" y="1358"/>
                  </a:lnTo>
                  <a:lnTo>
                    <a:pt x="4973" y="1375"/>
                  </a:lnTo>
                  <a:lnTo>
                    <a:pt x="4984" y="1394"/>
                  </a:lnTo>
                  <a:lnTo>
                    <a:pt x="4994" y="1412"/>
                  </a:lnTo>
                  <a:lnTo>
                    <a:pt x="5006" y="1431"/>
                  </a:lnTo>
                  <a:lnTo>
                    <a:pt x="5016" y="1457"/>
                  </a:lnTo>
                  <a:lnTo>
                    <a:pt x="5023" y="1478"/>
                  </a:lnTo>
                  <a:lnTo>
                    <a:pt x="5029" y="1497"/>
                  </a:lnTo>
                  <a:lnTo>
                    <a:pt x="5037" y="1517"/>
                  </a:lnTo>
                  <a:lnTo>
                    <a:pt x="5043" y="1538"/>
                  </a:lnTo>
                  <a:lnTo>
                    <a:pt x="5050" y="1565"/>
                  </a:lnTo>
                  <a:lnTo>
                    <a:pt x="5060" y="1600"/>
                  </a:lnTo>
                  <a:lnTo>
                    <a:pt x="5074" y="1647"/>
                  </a:lnTo>
                  <a:lnTo>
                    <a:pt x="5076" y="1666"/>
                  </a:lnTo>
                  <a:lnTo>
                    <a:pt x="5081" y="1689"/>
                  </a:lnTo>
                  <a:lnTo>
                    <a:pt x="5083" y="1709"/>
                  </a:lnTo>
                  <a:lnTo>
                    <a:pt x="5089" y="1732"/>
                  </a:lnTo>
                  <a:lnTo>
                    <a:pt x="5091" y="1751"/>
                  </a:lnTo>
                  <a:lnTo>
                    <a:pt x="5097" y="1773"/>
                  </a:lnTo>
                  <a:lnTo>
                    <a:pt x="5099" y="1794"/>
                  </a:lnTo>
                  <a:lnTo>
                    <a:pt x="5105" y="1817"/>
                  </a:lnTo>
                  <a:lnTo>
                    <a:pt x="5103" y="1827"/>
                  </a:lnTo>
                  <a:lnTo>
                    <a:pt x="5103" y="1839"/>
                  </a:lnTo>
                  <a:lnTo>
                    <a:pt x="5103" y="1850"/>
                  </a:lnTo>
                  <a:lnTo>
                    <a:pt x="5103" y="1862"/>
                  </a:lnTo>
                  <a:lnTo>
                    <a:pt x="5101" y="1872"/>
                  </a:lnTo>
                  <a:lnTo>
                    <a:pt x="5101" y="1883"/>
                  </a:lnTo>
                  <a:lnTo>
                    <a:pt x="5101" y="1895"/>
                  </a:lnTo>
                  <a:lnTo>
                    <a:pt x="5101" y="1907"/>
                  </a:lnTo>
                  <a:lnTo>
                    <a:pt x="5097" y="1918"/>
                  </a:lnTo>
                  <a:lnTo>
                    <a:pt x="5095" y="1934"/>
                  </a:lnTo>
                  <a:lnTo>
                    <a:pt x="5093" y="1945"/>
                  </a:lnTo>
                  <a:lnTo>
                    <a:pt x="5091" y="1961"/>
                  </a:lnTo>
                  <a:lnTo>
                    <a:pt x="5087" y="1974"/>
                  </a:lnTo>
                  <a:lnTo>
                    <a:pt x="5085" y="1988"/>
                  </a:lnTo>
                  <a:lnTo>
                    <a:pt x="5081" y="2002"/>
                  </a:lnTo>
                  <a:lnTo>
                    <a:pt x="5080" y="2017"/>
                  </a:lnTo>
                  <a:lnTo>
                    <a:pt x="5062" y="2029"/>
                  </a:lnTo>
                  <a:lnTo>
                    <a:pt x="5054" y="2035"/>
                  </a:lnTo>
                  <a:lnTo>
                    <a:pt x="5050" y="2036"/>
                  </a:lnTo>
                  <a:lnTo>
                    <a:pt x="5048" y="2038"/>
                  </a:lnTo>
                  <a:close/>
                  <a:moveTo>
                    <a:pt x="5016" y="1928"/>
                  </a:moveTo>
                  <a:lnTo>
                    <a:pt x="5017" y="1926"/>
                  </a:lnTo>
                  <a:lnTo>
                    <a:pt x="5021" y="1924"/>
                  </a:lnTo>
                  <a:lnTo>
                    <a:pt x="5027" y="1918"/>
                  </a:lnTo>
                  <a:lnTo>
                    <a:pt x="5037" y="1907"/>
                  </a:lnTo>
                  <a:lnTo>
                    <a:pt x="5035" y="1899"/>
                  </a:lnTo>
                  <a:lnTo>
                    <a:pt x="5035" y="1893"/>
                  </a:lnTo>
                  <a:lnTo>
                    <a:pt x="5029" y="1877"/>
                  </a:lnTo>
                  <a:lnTo>
                    <a:pt x="5021" y="1858"/>
                  </a:lnTo>
                  <a:lnTo>
                    <a:pt x="5008" y="1823"/>
                  </a:lnTo>
                  <a:lnTo>
                    <a:pt x="4988" y="1775"/>
                  </a:lnTo>
                  <a:lnTo>
                    <a:pt x="4961" y="1705"/>
                  </a:lnTo>
                  <a:lnTo>
                    <a:pt x="4926" y="1616"/>
                  </a:lnTo>
                  <a:lnTo>
                    <a:pt x="4922" y="1594"/>
                  </a:lnTo>
                  <a:lnTo>
                    <a:pt x="4920" y="1575"/>
                  </a:lnTo>
                  <a:lnTo>
                    <a:pt x="4919" y="1555"/>
                  </a:lnTo>
                  <a:lnTo>
                    <a:pt x="4917" y="1536"/>
                  </a:lnTo>
                  <a:lnTo>
                    <a:pt x="4913" y="1515"/>
                  </a:lnTo>
                  <a:lnTo>
                    <a:pt x="4911" y="1495"/>
                  </a:lnTo>
                  <a:lnTo>
                    <a:pt x="4907" y="1476"/>
                  </a:lnTo>
                  <a:lnTo>
                    <a:pt x="4905" y="1457"/>
                  </a:lnTo>
                  <a:lnTo>
                    <a:pt x="4907" y="1441"/>
                  </a:lnTo>
                  <a:lnTo>
                    <a:pt x="4909" y="1426"/>
                  </a:lnTo>
                  <a:lnTo>
                    <a:pt x="4909" y="1412"/>
                  </a:lnTo>
                  <a:lnTo>
                    <a:pt x="4911" y="1400"/>
                  </a:lnTo>
                  <a:lnTo>
                    <a:pt x="4920" y="1410"/>
                  </a:lnTo>
                  <a:lnTo>
                    <a:pt x="4932" y="1426"/>
                  </a:lnTo>
                  <a:lnTo>
                    <a:pt x="4942" y="1426"/>
                  </a:lnTo>
                  <a:lnTo>
                    <a:pt x="4953" y="1426"/>
                  </a:lnTo>
                  <a:lnTo>
                    <a:pt x="4953" y="1412"/>
                  </a:lnTo>
                  <a:lnTo>
                    <a:pt x="4953" y="1400"/>
                  </a:lnTo>
                  <a:lnTo>
                    <a:pt x="4940" y="1383"/>
                  </a:lnTo>
                  <a:lnTo>
                    <a:pt x="4928" y="1367"/>
                  </a:lnTo>
                  <a:lnTo>
                    <a:pt x="4917" y="1352"/>
                  </a:lnTo>
                  <a:lnTo>
                    <a:pt x="4905" y="1336"/>
                  </a:lnTo>
                  <a:lnTo>
                    <a:pt x="4889" y="1336"/>
                  </a:lnTo>
                  <a:lnTo>
                    <a:pt x="4874" y="1336"/>
                  </a:lnTo>
                  <a:lnTo>
                    <a:pt x="4870" y="1338"/>
                  </a:lnTo>
                  <a:lnTo>
                    <a:pt x="4868" y="1346"/>
                  </a:lnTo>
                  <a:lnTo>
                    <a:pt x="4870" y="1375"/>
                  </a:lnTo>
                  <a:lnTo>
                    <a:pt x="4874" y="1404"/>
                  </a:lnTo>
                  <a:lnTo>
                    <a:pt x="4876" y="1433"/>
                  </a:lnTo>
                  <a:lnTo>
                    <a:pt x="4880" y="1462"/>
                  </a:lnTo>
                  <a:lnTo>
                    <a:pt x="4882" y="1490"/>
                  </a:lnTo>
                  <a:lnTo>
                    <a:pt x="4886" y="1519"/>
                  </a:lnTo>
                  <a:lnTo>
                    <a:pt x="4889" y="1548"/>
                  </a:lnTo>
                  <a:lnTo>
                    <a:pt x="4895" y="1579"/>
                  </a:lnTo>
                  <a:lnTo>
                    <a:pt x="4897" y="1598"/>
                  </a:lnTo>
                  <a:lnTo>
                    <a:pt x="4901" y="1619"/>
                  </a:lnTo>
                  <a:lnTo>
                    <a:pt x="4907" y="1641"/>
                  </a:lnTo>
                  <a:lnTo>
                    <a:pt x="4913" y="1662"/>
                  </a:lnTo>
                  <a:lnTo>
                    <a:pt x="4917" y="1682"/>
                  </a:lnTo>
                  <a:lnTo>
                    <a:pt x="4922" y="1703"/>
                  </a:lnTo>
                  <a:lnTo>
                    <a:pt x="4926" y="1724"/>
                  </a:lnTo>
                  <a:lnTo>
                    <a:pt x="4932" y="1747"/>
                  </a:lnTo>
                  <a:lnTo>
                    <a:pt x="4938" y="1759"/>
                  </a:lnTo>
                  <a:lnTo>
                    <a:pt x="4944" y="1775"/>
                  </a:lnTo>
                  <a:lnTo>
                    <a:pt x="4950" y="1786"/>
                  </a:lnTo>
                  <a:lnTo>
                    <a:pt x="4955" y="1802"/>
                  </a:lnTo>
                  <a:lnTo>
                    <a:pt x="4961" y="1815"/>
                  </a:lnTo>
                  <a:lnTo>
                    <a:pt x="4967" y="1829"/>
                  </a:lnTo>
                  <a:lnTo>
                    <a:pt x="4973" y="1843"/>
                  </a:lnTo>
                  <a:lnTo>
                    <a:pt x="4979" y="1858"/>
                  </a:lnTo>
                  <a:lnTo>
                    <a:pt x="4986" y="1874"/>
                  </a:lnTo>
                  <a:lnTo>
                    <a:pt x="4996" y="1893"/>
                  </a:lnTo>
                  <a:lnTo>
                    <a:pt x="5006" y="1910"/>
                  </a:lnTo>
                  <a:lnTo>
                    <a:pt x="5016" y="1928"/>
                  </a:lnTo>
                  <a:close/>
                  <a:moveTo>
                    <a:pt x="4298" y="1321"/>
                  </a:moveTo>
                  <a:lnTo>
                    <a:pt x="4310" y="1315"/>
                  </a:lnTo>
                  <a:lnTo>
                    <a:pt x="4321" y="1311"/>
                  </a:lnTo>
                  <a:lnTo>
                    <a:pt x="4333" y="1307"/>
                  </a:lnTo>
                  <a:lnTo>
                    <a:pt x="4346" y="1305"/>
                  </a:lnTo>
                  <a:lnTo>
                    <a:pt x="4358" y="1301"/>
                  </a:lnTo>
                  <a:lnTo>
                    <a:pt x="4372" y="1299"/>
                  </a:lnTo>
                  <a:lnTo>
                    <a:pt x="4385" y="1296"/>
                  </a:lnTo>
                  <a:lnTo>
                    <a:pt x="4399" y="1294"/>
                  </a:lnTo>
                  <a:lnTo>
                    <a:pt x="4410" y="1284"/>
                  </a:lnTo>
                  <a:lnTo>
                    <a:pt x="4418" y="1276"/>
                  </a:lnTo>
                  <a:lnTo>
                    <a:pt x="4422" y="1270"/>
                  </a:lnTo>
                  <a:lnTo>
                    <a:pt x="4426" y="1265"/>
                  </a:lnTo>
                  <a:lnTo>
                    <a:pt x="4432" y="1257"/>
                  </a:lnTo>
                  <a:lnTo>
                    <a:pt x="4440" y="1247"/>
                  </a:lnTo>
                  <a:lnTo>
                    <a:pt x="4440" y="1230"/>
                  </a:lnTo>
                  <a:lnTo>
                    <a:pt x="4440" y="1214"/>
                  </a:lnTo>
                  <a:lnTo>
                    <a:pt x="4436" y="1204"/>
                  </a:lnTo>
                  <a:lnTo>
                    <a:pt x="4428" y="1195"/>
                  </a:lnTo>
                  <a:lnTo>
                    <a:pt x="4420" y="1187"/>
                  </a:lnTo>
                  <a:lnTo>
                    <a:pt x="4410" y="1181"/>
                  </a:lnTo>
                  <a:lnTo>
                    <a:pt x="4395" y="1171"/>
                  </a:lnTo>
                  <a:lnTo>
                    <a:pt x="4377" y="1162"/>
                  </a:lnTo>
                  <a:lnTo>
                    <a:pt x="4358" y="1148"/>
                  </a:lnTo>
                  <a:lnTo>
                    <a:pt x="4346" y="1138"/>
                  </a:lnTo>
                  <a:lnTo>
                    <a:pt x="4337" y="1129"/>
                  </a:lnTo>
                  <a:lnTo>
                    <a:pt x="4329" y="1121"/>
                  </a:lnTo>
                  <a:lnTo>
                    <a:pt x="4319" y="1109"/>
                  </a:lnTo>
                  <a:lnTo>
                    <a:pt x="4310" y="1100"/>
                  </a:lnTo>
                  <a:lnTo>
                    <a:pt x="4296" y="1084"/>
                  </a:lnTo>
                  <a:lnTo>
                    <a:pt x="4282" y="1067"/>
                  </a:lnTo>
                  <a:lnTo>
                    <a:pt x="4282" y="1059"/>
                  </a:lnTo>
                  <a:lnTo>
                    <a:pt x="4282" y="1051"/>
                  </a:lnTo>
                  <a:lnTo>
                    <a:pt x="4288" y="1047"/>
                  </a:lnTo>
                  <a:lnTo>
                    <a:pt x="4298" y="1045"/>
                  </a:lnTo>
                  <a:lnTo>
                    <a:pt x="4310" y="1045"/>
                  </a:lnTo>
                  <a:lnTo>
                    <a:pt x="4317" y="1045"/>
                  </a:lnTo>
                  <a:lnTo>
                    <a:pt x="4321" y="1049"/>
                  </a:lnTo>
                  <a:lnTo>
                    <a:pt x="4329" y="1057"/>
                  </a:lnTo>
                  <a:lnTo>
                    <a:pt x="4331" y="1040"/>
                  </a:lnTo>
                  <a:lnTo>
                    <a:pt x="4333" y="1030"/>
                  </a:lnTo>
                  <a:lnTo>
                    <a:pt x="4333" y="1020"/>
                  </a:lnTo>
                  <a:lnTo>
                    <a:pt x="4335" y="1009"/>
                  </a:lnTo>
                  <a:lnTo>
                    <a:pt x="4327" y="991"/>
                  </a:lnTo>
                  <a:lnTo>
                    <a:pt x="4323" y="981"/>
                  </a:lnTo>
                  <a:lnTo>
                    <a:pt x="4315" y="970"/>
                  </a:lnTo>
                  <a:lnTo>
                    <a:pt x="4308" y="956"/>
                  </a:lnTo>
                  <a:lnTo>
                    <a:pt x="4290" y="950"/>
                  </a:lnTo>
                  <a:lnTo>
                    <a:pt x="4277" y="944"/>
                  </a:lnTo>
                  <a:lnTo>
                    <a:pt x="4259" y="937"/>
                  </a:lnTo>
                  <a:lnTo>
                    <a:pt x="4246" y="929"/>
                  </a:lnTo>
                  <a:lnTo>
                    <a:pt x="4232" y="931"/>
                  </a:lnTo>
                  <a:lnTo>
                    <a:pt x="4218" y="935"/>
                  </a:lnTo>
                  <a:lnTo>
                    <a:pt x="4203" y="935"/>
                  </a:lnTo>
                  <a:lnTo>
                    <a:pt x="4191" y="941"/>
                  </a:lnTo>
                  <a:lnTo>
                    <a:pt x="4178" y="943"/>
                  </a:lnTo>
                  <a:lnTo>
                    <a:pt x="4172" y="944"/>
                  </a:lnTo>
                  <a:lnTo>
                    <a:pt x="4162" y="950"/>
                  </a:lnTo>
                  <a:lnTo>
                    <a:pt x="4154" y="962"/>
                  </a:lnTo>
                  <a:lnTo>
                    <a:pt x="4133" y="970"/>
                  </a:lnTo>
                  <a:lnTo>
                    <a:pt x="4114" y="979"/>
                  </a:lnTo>
                  <a:lnTo>
                    <a:pt x="4094" y="987"/>
                  </a:lnTo>
                  <a:lnTo>
                    <a:pt x="4075" y="997"/>
                  </a:lnTo>
                  <a:lnTo>
                    <a:pt x="4054" y="1005"/>
                  </a:lnTo>
                  <a:lnTo>
                    <a:pt x="4036" y="1014"/>
                  </a:lnTo>
                  <a:lnTo>
                    <a:pt x="4015" y="1024"/>
                  </a:lnTo>
                  <a:lnTo>
                    <a:pt x="3997" y="1036"/>
                  </a:lnTo>
                  <a:lnTo>
                    <a:pt x="3984" y="1036"/>
                  </a:lnTo>
                  <a:lnTo>
                    <a:pt x="3970" y="1038"/>
                  </a:lnTo>
                  <a:lnTo>
                    <a:pt x="3957" y="1040"/>
                  </a:lnTo>
                  <a:lnTo>
                    <a:pt x="3945" y="1041"/>
                  </a:lnTo>
                  <a:lnTo>
                    <a:pt x="3931" y="1043"/>
                  </a:lnTo>
                  <a:lnTo>
                    <a:pt x="3920" y="1045"/>
                  </a:lnTo>
                  <a:lnTo>
                    <a:pt x="3908" y="1047"/>
                  </a:lnTo>
                  <a:lnTo>
                    <a:pt x="3897" y="1051"/>
                  </a:lnTo>
                  <a:lnTo>
                    <a:pt x="3891" y="1061"/>
                  </a:lnTo>
                  <a:lnTo>
                    <a:pt x="3891" y="1071"/>
                  </a:lnTo>
                  <a:lnTo>
                    <a:pt x="3889" y="1080"/>
                  </a:lnTo>
                  <a:lnTo>
                    <a:pt x="3887" y="1094"/>
                  </a:lnTo>
                  <a:lnTo>
                    <a:pt x="3891" y="1105"/>
                  </a:lnTo>
                  <a:lnTo>
                    <a:pt x="3897" y="1117"/>
                  </a:lnTo>
                  <a:lnTo>
                    <a:pt x="3902" y="1125"/>
                  </a:lnTo>
                  <a:lnTo>
                    <a:pt x="3908" y="1137"/>
                  </a:lnTo>
                  <a:lnTo>
                    <a:pt x="3914" y="1146"/>
                  </a:lnTo>
                  <a:lnTo>
                    <a:pt x="3922" y="1160"/>
                  </a:lnTo>
                  <a:lnTo>
                    <a:pt x="3933" y="1175"/>
                  </a:lnTo>
                  <a:lnTo>
                    <a:pt x="3949" y="1199"/>
                  </a:lnTo>
                  <a:lnTo>
                    <a:pt x="3964" y="1206"/>
                  </a:lnTo>
                  <a:lnTo>
                    <a:pt x="3980" y="1216"/>
                  </a:lnTo>
                  <a:lnTo>
                    <a:pt x="3995" y="1228"/>
                  </a:lnTo>
                  <a:lnTo>
                    <a:pt x="4013" y="1241"/>
                  </a:lnTo>
                  <a:lnTo>
                    <a:pt x="4028" y="1243"/>
                  </a:lnTo>
                  <a:lnTo>
                    <a:pt x="4038" y="1247"/>
                  </a:lnTo>
                  <a:lnTo>
                    <a:pt x="4046" y="1249"/>
                  </a:lnTo>
                  <a:lnTo>
                    <a:pt x="4059" y="1257"/>
                  </a:lnTo>
                  <a:lnTo>
                    <a:pt x="4069" y="1259"/>
                  </a:lnTo>
                  <a:lnTo>
                    <a:pt x="4081" y="1263"/>
                  </a:lnTo>
                  <a:lnTo>
                    <a:pt x="4092" y="1266"/>
                  </a:lnTo>
                  <a:lnTo>
                    <a:pt x="4106" y="1272"/>
                  </a:lnTo>
                  <a:lnTo>
                    <a:pt x="4121" y="1278"/>
                  </a:lnTo>
                  <a:lnTo>
                    <a:pt x="4145" y="1286"/>
                  </a:lnTo>
                  <a:lnTo>
                    <a:pt x="4172" y="1296"/>
                  </a:lnTo>
                  <a:lnTo>
                    <a:pt x="4213" y="1309"/>
                  </a:lnTo>
                  <a:lnTo>
                    <a:pt x="4232" y="1309"/>
                  </a:lnTo>
                  <a:lnTo>
                    <a:pt x="4253" y="1311"/>
                  </a:lnTo>
                  <a:lnTo>
                    <a:pt x="4263" y="1313"/>
                  </a:lnTo>
                  <a:lnTo>
                    <a:pt x="4275" y="1315"/>
                  </a:lnTo>
                  <a:lnTo>
                    <a:pt x="4286" y="1317"/>
                  </a:lnTo>
                  <a:lnTo>
                    <a:pt x="4298" y="1321"/>
                  </a:lnTo>
                  <a:close/>
                  <a:moveTo>
                    <a:pt x="1414" y="913"/>
                  </a:moveTo>
                  <a:lnTo>
                    <a:pt x="1397" y="908"/>
                  </a:lnTo>
                  <a:lnTo>
                    <a:pt x="1381" y="906"/>
                  </a:lnTo>
                  <a:lnTo>
                    <a:pt x="1364" y="900"/>
                  </a:lnTo>
                  <a:lnTo>
                    <a:pt x="1346" y="898"/>
                  </a:lnTo>
                  <a:lnTo>
                    <a:pt x="1337" y="886"/>
                  </a:lnTo>
                  <a:lnTo>
                    <a:pt x="1331" y="877"/>
                  </a:lnTo>
                  <a:lnTo>
                    <a:pt x="1323" y="863"/>
                  </a:lnTo>
                  <a:lnTo>
                    <a:pt x="1317" y="844"/>
                  </a:lnTo>
                  <a:lnTo>
                    <a:pt x="1304" y="815"/>
                  </a:lnTo>
                  <a:lnTo>
                    <a:pt x="1290" y="776"/>
                  </a:lnTo>
                  <a:lnTo>
                    <a:pt x="1271" y="723"/>
                  </a:lnTo>
                  <a:lnTo>
                    <a:pt x="1245" y="655"/>
                  </a:lnTo>
                  <a:lnTo>
                    <a:pt x="1230" y="609"/>
                  </a:lnTo>
                  <a:lnTo>
                    <a:pt x="1220" y="574"/>
                  </a:lnTo>
                  <a:lnTo>
                    <a:pt x="1212" y="549"/>
                  </a:lnTo>
                  <a:lnTo>
                    <a:pt x="1209" y="533"/>
                  </a:lnTo>
                  <a:lnTo>
                    <a:pt x="1205" y="520"/>
                  </a:lnTo>
                  <a:lnTo>
                    <a:pt x="1205" y="514"/>
                  </a:lnTo>
                  <a:lnTo>
                    <a:pt x="1205" y="508"/>
                  </a:lnTo>
                  <a:lnTo>
                    <a:pt x="1209" y="506"/>
                  </a:lnTo>
                  <a:lnTo>
                    <a:pt x="1214" y="498"/>
                  </a:lnTo>
                  <a:lnTo>
                    <a:pt x="1224" y="495"/>
                  </a:lnTo>
                  <a:lnTo>
                    <a:pt x="1230" y="491"/>
                  </a:lnTo>
                  <a:lnTo>
                    <a:pt x="1240" y="489"/>
                  </a:lnTo>
                  <a:lnTo>
                    <a:pt x="1253" y="485"/>
                  </a:lnTo>
                  <a:lnTo>
                    <a:pt x="1273" y="481"/>
                  </a:lnTo>
                  <a:lnTo>
                    <a:pt x="1278" y="504"/>
                  </a:lnTo>
                  <a:lnTo>
                    <a:pt x="1288" y="531"/>
                  </a:lnTo>
                  <a:lnTo>
                    <a:pt x="1294" y="557"/>
                  </a:lnTo>
                  <a:lnTo>
                    <a:pt x="1304" y="584"/>
                  </a:lnTo>
                  <a:lnTo>
                    <a:pt x="1311" y="607"/>
                  </a:lnTo>
                  <a:lnTo>
                    <a:pt x="1319" y="634"/>
                  </a:lnTo>
                  <a:lnTo>
                    <a:pt x="1327" y="659"/>
                  </a:lnTo>
                  <a:lnTo>
                    <a:pt x="1337" y="687"/>
                  </a:lnTo>
                  <a:lnTo>
                    <a:pt x="1346" y="710"/>
                  </a:lnTo>
                  <a:lnTo>
                    <a:pt x="1358" y="733"/>
                  </a:lnTo>
                  <a:lnTo>
                    <a:pt x="1368" y="758"/>
                  </a:lnTo>
                  <a:lnTo>
                    <a:pt x="1379" y="784"/>
                  </a:lnTo>
                  <a:lnTo>
                    <a:pt x="1389" y="809"/>
                  </a:lnTo>
                  <a:lnTo>
                    <a:pt x="1401" y="834"/>
                  </a:lnTo>
                  <a:lnTo>
                    <a:pt x="1412" y="859"/>
                  </a:lnTo>
                  <a:lnTo>
                    <a:pt x="1426" y="886"/>
                  </a:lnTo>
                  <a:lnTo>
                    <a:pt x="1422" y="896"/>
                  </a:lnTo>
                  <a:lnTo>
                    <a:pt x="1420" y="904"/>
                  </a:lnTo>
                  <a:lnTo>
                    <a:pt x="1420" y="908"/>
                  </a:lnTo>
                  <a:lnTo>
                    <a:pt x="1420" y="913"/>
                  </a:lnTo>
                  <a:lnTo>
                    <a:pt x="1416" y="915"/>
                  </a:lnTo>
                  <a:lnTo>
                    <a:pt x="1414" y="913"/>
                  </a:lnTo>
                  <a:close/>
                  <a:moveTo>
                    <a:pt x="712" y="871"/>
                  </a:moveTo>
                  <a:lnTo>
                    <a:pt x="700" y="867"/>
                  </a:lnTo>
                  <a:lnTo>
                    <a:pt x="689" y="867"/>
                  </a:lnTo>
                  <a:lnTo>
                    <a:pt x="677" y="863"/>
                  </a:lnTo>
                  <a:lnTo>
                    <a:pt x="667" y="863"/>
                  </a:lnTo>
                  <a:lnTo>
                    <a:pt x="656" y="859"/>
                  </a:lnTo>
                  <a:lnTo>
                    <a:pt x="644" y="855"/>
                  </a:lnTo>
                  <a:lnTo>
                    <a:pt x="633" y="851"/>
                  </a:lnTo>
                  <a:lnTo>
                    <a:pt x="623" y="849"/>
                  </a:lnTo>
                  <a:lnTo>
                    <a:pt x="584" y="834"/>
                  </a:lnTo>
                  <a:lnTo>
                    <a:pt x="555" y="822"/>
                  </a:lnTo>
                  <a:lnTo>
                    <a:pt x="532" y="813"/>
                  </a:lnTo>
                  <a:lnTo>
                    <a:pt x="514" y="807"/>
                  </a:lnTo>
                  <a:lnTo>
                    <a:pt x="499" y="799"/>
                  </a:lnTo>
                  <a:lnTo>
                    <a:pt x="489" y="793"/>
                  </a:lnTo>
                  <a:lnTo>
                    <a:pt x="477" y="789"/>
                  </a:lnTo>
                  <a:lnTo>
                    <a:pt x="470" y="787"/>
                  </a:lnTo>
                  <a:lnTo>
                    <a:pt x="448" y="772"/>
                  </a:lnTo>
                  <a:lnTo>
                    <a:pt x="431" y="758"/>
                  </a:lnTo>
                  <a:lnTo>
                    <a:pt x="413" y="747"/>
                  </a:lnTo>
                  <a:lnTo>
                    <a:pt x="398" y="737"/>
                  </a:lnTo>
                  <a:lnTo>
                    <a:pt x="380" y="725"/>
                  </a:lnTo>
                  <a:lnTo>
                    <a:pt x="365" y="714"/>
                  </a:lnTo>
                  <a:lnTo>
                    <a:pt x="347" y="700"/>
                  </a:lnTo>
                  <a:lnTo>
                    <a:pt x="332" y="687"/>
                  </a:lnTo>
                  <a:lnTo>
                    <a:pt x="314" y="665"/>
                  </a:lnTo>
                  <a:lnTo>
                    <a:pt x="305" y="652"/>
                  </a:lnTo>
                  <a:lnTo>
                    <a:pt x="295" y="638"/>
                  </a:lnTo>
                  <a:lnTo>
                    <a:pt x="289" y="632"/>
                  </a:lnTo>
                  <a:lnTo>
                    <a:pt x="280" y="617"/>
                  </a:lnTo>
                  <a:lnTo>
                    <a:pt x="274" y="601"/>
                  </a:lnTo>
                  <a:lnTo>
                    <a:pt x="270" y="582"/>
                  </a:lnTo>
                  <a:lnTo>
                    <a:pt x="270" y="564"/>
                  </a:lnTo>
                  <a:lnTo>
                    <a:pt x="270" y="545"/>
                  </a:lnTo>
                  <a:lnTo>
                    <a:pt x="270" y="527"/>
                  </a:lnTo>
                  <a:lnTo>
                    <a:pt x="276" y="516"/>
                  </a:lnTo>
                  <a:lnTo>
                    <a:pt x="285" y="506"/>
                  </a:lnTo>
                  <a:lnTo>
                    <a:pt x="295" y="504"/>
                  </a:lnTo>
                  <a:lnTo>
                    <a:pt x="307" y="502"/>
                  </a:lnTo>
                  <a:lnTo>
                    <a:pt x="314" y="502"/>
                  </a:lnTo>
                  <a:lnTo>
                    <a:pt x="322" y="502"/>
                  </a:lnTo>
                  <a:lnTo>
                    <a:pt x="328" y="502"/>
                  </a:lnTo>
                  <a:lnTo>
                    <a:pt x="338" y="502"/>
                  </a:lnTo>
                  <a:lnTo>
                    <a:pt x="349" y="504"/>
                  </a:lnTo>
                  <a:lnTo>
                    <a:pt x="365" y="506"/>
                  </a:lnTo>
                  <a:lnTo>
                    <a:pt x="380" y="514"/>
                  </a:lnTo>
                  <a:lnTo>
                    <a:pt x="400" y="522"/>
                  </a:lnTo>
                  <a:lnTo>
                    <a:pt x="410" y="526"/>
                  </a:lnTo>
                  <a:lnTo>
                    <a:pt x="421" y="529"/>
                  </a:lnTo>
                  <a:lnTo>
                    <a:pt x="431" y="533"/>
                  </a:lnTo>
                  <a:lnTo>
                    <a:pt x="442" y="539"/>
                  </a:lnTo>
                  <a:lnTo>
                    <a:pt x="462" y="551"/>
                  </a:lnTo>
                  <a:lnTo>
                    <a:pt x="481" y="564"/>
                  </a:lnTo>
                  <a:lnTo>
                    <a:pt x="501" y="578"/>
                  </a:lnTo>
                  <a:lnTo>
                    <a:pt x="522" y="591"/>
                  </a:lnTo>
                  <a:lnTo>
                    <a:pt x="526" y="601"/>
                  </a:lnTo>
                  <a:lnTo>
                    <a:pt x="528" y="613"/>
                  </a:lnTo>
                  <a:lnTo>
                    <a:pt x="518" y="613"/>
                  </a:lnTo>
                  <a:lnTo>
                    <a:pt x="512" y="613"/>
                  </a:lnTo>
                  <a:lnTo>
                    <a:pt x="508" y="615"/>
                  </a:lnTo>
                  <a:lnTo>
                    <a:pt x="506" y="623"/>
                  </a:lnTo>
                  <a:lnTo>
                    <a:pt x="506" y="628"/>
                  </a:lnTo>
                  <a:lnTo>
                    <a:pt x="506" y="638"/>
                  </a:lnTo>
                  <a:lnTo>
                    <a:pt x="512" y="638"/>
                  </a:lnTo>
                  <a:lnTo>
                    <a:pt x="526" y="642"/>
                  </a:lnTo>
                  <a:lnTo>
                    <a:pt x="543" y="644"/>
                  </a:lnTo>
                  <a:lnTo>
                    <a:pt x="563" y="650"/>
                  </a:lnTo>
                  <a:lnTo>
                    <a:pt x="582" y="652"/>
                  </a:lnTo>
                  <a:lnTo>
                    <a:pt x="602" y="655"/>
                  </a:lnTo>
                  <a:lnTo>
                    <a:pt x="619" y="659"/>
                  </a:lnTo>
                  <a:lnTo>
                    <a:pt x="633" y="665"/>
                  </a:lnTo>
                  <a:lnTo>
                    <a:pt x="648" y="667"/>
                  </a:lnTo>
                  <a:lnTo>
                    <a:pt x="664" y="673"/>
                  </a:lnTo>
                  <a:lnTo>
                    <a:pt x="681" y="675"/>
                  </a:lnTo>
                  <a:lnTo>
                    <a:pt x="698" y="681"/>
                  </a:lnTo>
                  <a:lnTo>
                    <a:pt x="714" y="683"/>
                  </a:lnTo>
                  <a:lnTo>
                    <a:pt x="731" y="688"/>
                  </a:lnTo>
                  <a:lnTo>
                    <a:pt x="747" y="690"/>
                  </a:lnTo>
                  <a:lnTo>
                    <a:pt x="764" y="696"/>
                  </a:lnTo>
                  <a:lnTo>
                    <a:pt x="774" y="702"/>
                  </a:lnTo>
                  <a:lnTo>
                    <a:pt x="782" y="708"/>
                  </a:lnTo>
                  <a:lnTo>
                    <a:pt x="788" y="712"/>
                  </a:lnTo>
                  <a:lnTo>
                    <a:pt x="794" y="718"/>
                  </a:lnTo>
                  <a:lnTo>
                    <a:pt x="803" y="725"/>
                  </a:lnTo>
                  <a:lnTo>
                    <a:pt x="813" y="739"/>
                  </a:lnTo>
                  <a:lnTo>
                    <a:pt x="825" y="739"/>
                  </a:lnTo>
                  <a:lnTo>
                    <a:pt x="840" y="745"/>
                  </a:lnTo>
                  <a:lnTo>
                    <a:pt x="834" y="756"/>
                  </a:lnTo>
                  <a:lnTo>
                    <a:pt x="834" y="770"/>
                  </a:lnTo>
                  <a:lnTo>
                    <a:pt x="830" y="784"/>
                  </a:lnTo>
                  <a:lnTo>
                    <a:pt x="828" y="797"/>
                  </a:lnTo>
                  <a:lnTo>
                    <a:pt x="819" y="813"/>
                  </a:lnTo>
                  <a:lnTo>
                    <a:pt x="813" y="828"/>
                  </a:lnTo>
                  <a:lnTo>
                    <a:pt x="803" y="844"/>
                  </a:lnTo>
                  <a:lnTo>
                    <a:pt x="797" y="861"/>
                  </a:lnTo>
                  <a:lnTo>
                    <a:pt x="788" y="861"/>
                  </a:lnTo>
                  <a:lnTo>
                    <a:pt x="780" y="863"/>
                  </a:lnTo>
                  <a:lnTo>
                    <a:pt x="770" y="867"/>
                  </a:lnTo>
                  <a:lnTo>
                    <a:pt x="761" y="871"/>
                  </a:lnTo>
                  <a:lnTo>
                    <a:pt x="747" y="871"/>
                  </a:lnTo>
                  <a:lnTo>
                    <a:pt x="735" y="871"/>
                  </a:lnTo>
                  <a:lnTo>
                    <a:pt x="724" y="871"/>
                  </a:lnTo>
                  <a:lnTo>
                    <a:pt x="712" y="871"/>
                  </a:lnTo>
                  <a:close/>
                  <a:moveTo>
                    <a:pt x="3084" y="718"/>
                  </a:moveTo>
                  <a:lnTo>
                    <a:pt x="3074" y="718"/>
                  </a:lnTo>
                  <a:lnTo>
                    <a:pt x="3063" y="718"/>
                  </a:lnTo>
                  <a:lnTo>
                    <a:pt x="3057" y="708"/>
                  </a:lnTo>
                  <a:lnTo>
                    <a:pt x="3051" y="696"/>
                  </a:lnTo>
                  <a:lnTo>
                    <a:pt x="3041" y="679"/>
                  </a:lnTo>
                  <a:lnTo>
                    <a:pt x="3033" y="663"/>
                  </a:lnTo>
                  <a:lnTo>
                    <a:pt x="3022" y="642"/>
                  </a:lnTo>
                  <a:lnTo>
                    <a:pt x="3010" y="623"/>
                  </a:lnTo>
                  <a:lnTo>
                    <a:pt x="2999" y="601"/>
                  </a:lnTo>
                  <a:lnTo>
                    <a:pt x="2993" y="580"/>
                  </a:lnTo>
                  <a:lnTo>
                    <a:pt x="2993" y="564"/>
                  </a:lnTo>
                  <a:lnTo>
                    <a:pt x="2993" y="549"/>
                  </a:lnTo>
                  <a:lnTo>
                    <a:pt x="3004" y="543"/>
                  </a:lnTo>
                  <a:lnTo>
                    <a:pt x="3018" y="541"/>
                  </a:lnTo>
                  <a:lnTo>
                    <a:pt x="3030" y="535"/>
                  </a:lnTo>
                  <a:lnTo>
                    <a:pt x="3047" y="533"/>
                  </a:lnTo>
                  <a:lnTo>
                    <a:pt x="3063" y="533"/>
                  </a:lnTo>
                  <a:lnTo>
                    <a:pt x="3078" y="533"/>
                  </a:lnTo>
                  <a:lnTo>
                    <a:pt x="3086" y="553"/>
                  </a:lnTo>
                  <a:lnTo>
                    <a:pt x="3096" y="572"/>
                  </a:lnTo>
                  <a:lnTo>
                    <a:pt x="3101" y="582"/>
                  </a:lnTo>
                  <a:lnTo>
                    <a:pt x="3107" y="593"/>
                  </a:lnTo>
                  <a:lnTo>
                    <a:pt x="3113" y="605"/>
                  </a:lnTo>
                  <a:lnTo>
                    <a:pt x="3121" y="619"/>
                  </a:lnTo>
                  <a:lnTo>
                    <a:pt x="3123" y="626"/>
                  </a:lnTo>
                  <a:lnTo>
                    <a:pt x="3127" y="638"/>
                  </a:lnTo>
                  <a:lnTo>
                    <a:pt x="3130" y="648"/>
                  </a:lnTo>
                  <a:lnTo>
                    <a:pt x="3136" y="659"/>
                  </a:lnTo>
                  <a:lnTo>
                    <a:pt x="3138" y="671"/>
                  </a:lnTo>
                  <a:lnTo>
                    <a:pt x="3142" y="683"/>
                  </a:lnTo>
                  <a:lnTo>
                    <a:pt x="3146" y="694"/>
                  </a:lnTo>
                  <a:lnTo>
                    <a:pt x="3152" y="708"/>
                  </a:lnTo>
                  <a:lnTo>
                    <a:pt x="3134" y="708"/>
                  </a:lnTo>
                  <a:lnTo>
                    <a:pt x="3119" y="710"/>
                  </a:lnTo>
                  <a:lnTo>
                    <a:pt x="3101" y="714"/>
                  </a:lnTo>
                  <a:lnTo>
                    <a:pt x="3084" y="718"/>
                  </a:lnTo>
                  <a:close/>
                  <a:moveTo>
                    <a:pt x="2935" y="533"/>
                  </a:moveTo>
                  <a:lnTo>
                    <a:pt x="2952" y="527"/>
                  </a:lnTo>
                  <a:lnTo>
                    <a:pt x="2969" y="522"/>
                  </a:lnTo>
                  <a:lnTo>
                    <a:pt x="2983" y="516"/>
                  </a:lnTo>
                  <a:lnTo>
                    <a:pt x="2997" y="514"/>
                  </a:lnTo>
                  <a:lnTo>
                    <a:pt x="3014" y="506"/>
                  </a:lnTo>
                  <a:lnTo>
                    <a:pt x="3030" y="506"/>
                  </a:lnTo>
                  <a:lnTo>
                    <a:pt x="3045" y="496"/>
                  </a:lnTo>
                  <a:lnTo>
                    <a:pt x="3061" y="491"/>
                  </a:lnTo>
                  <a:lnTo>
                    <a:pt x="3076" y="485"/>
                  </a:lnTo>
                  <a:lnTo>
                    <a:pt x="3094" y="481"/>
                  </a:lnTo>
                  <a:lnTo>
                    <a:pt x="3101" y="467"/>
                  </a:lnTo>
                  <a:lnTo>
                    <a:pt x="3109" y="456"/>
                  </a:lnTo>
                  <a:lnTo>
                    <a:pt x="3117" y="446"/>
                  </a:lnTo>
                  <a:lnTo>
                    <a:pt x="3127" y="438"/>
                  </a:lnTo>
                  <a:lnTo>
                    <a:pt x="3121" y="417"/>
                  </a:lnTo>
                  <a:lnTo>
                    <a:pt x="3121" y="398"/>
                  </a:lnTo>
                  <a:lnTo>
                    <a:pt x="3121" y="386"/>
                  </a:lnTo>
                  <a:lnTo>
                    <a:pt x="3121" y="374"/>
                  </a:lnTo>
                  <a:lnTo>
                    <a:pt x="3121" y="363"/>
                  </a:lnTo>
                  <a:lnTo>
                    <a:pt x="3121" y="353"/>
                  </a:lnTo>
                  <a:lnTo>
                    <a:pt x="3115" y="337"/>
                  </a:lnTo>
                  <a:lnTo>
                    <a:pt x="3111" y="324"/>
                  </a:lnTo>
                  <a:lnTo>
                    <a:pt x="3107" y="308"/>
                  </a:lnTo>
                  <a:lnTo>
                    <a:pt x="3103" y="295"/>
                  </a:lnTo>
                  <a:lnTo>
                    <a:pt x="3097" y="277"/>
                  </a:lnTo>
                  <a:lnTo>
                    <a:pt x="3096" y="264"/>
                  </a:lnTo>
                  <a:lnTo>
                    <a:pt x="3090" y="246"/>
                  </a:lnTo>
                  <a:lnTo>
                    <a:pt x="3088" y="233"/>
                  </a:lnTo>
                  <a:lnTo>
                    <a:pt x="3080" y="215"/>
                  </a:lnTo>
                  <a:lnTo>
                    <a:pt x="3072" y="200"/>
                  </a:lnTo>
                  <a:lnTo>
                    <a:pt x="3063" y="198"/>
                  </a:lnTo>
                  <a:lnTo>
                    <a:pt x="3057" y="196"/>
                  </a:lnTo>
                  <a:lnTo>
                    <a:pt x="3047" y="196"/>
                  </a:lnTo>
                  <a:lnTo>
                    <a:pt x="3035" y="196"/>
                  </a:lnTo>
                  <a:lnTo>
                    <a:pt x="3014" y="196"/>
                  </a:lnTo>
                  <a:lnTo>
                    <a:pt x="2989" y="196"/>
                  </a:lnTo>
                  <a:lnTo>
                    <a:pt x="2954" y="196"/>
                  </a:lnTo>
                  <a:lnTo>
                    <a:pt x="2909" y="196"/>
                  </a:lnTo>
                  <a:lnTo>
                    <a:pt x="2896" y="198"/>
                  </a:lnTo>
                  <a:lnTo>
                    <a:pt x="2884" y="200"/>
                  </a:lnTo>
                  <a:lnTo>
                    <a:pt x="2873" y="200"/>
                  </a:lnTo>
                  <a:lnTo>
                    <a:pt x="2861" y="205"/>
                  </a:lnTo>
                  <a:lnTo>
                    <a:pt x="2843" y="209"/>
                  </a:lnTo>
                  <a:lnTo>
                    <a:pt x="2832" y="213"/>
                  </a:lnTo>
                  <a:lnTo>
                    <a:pt x="2822" y="217"/>
                  </a:lnTo>
                  <a:lnTo>
                    <a:pt x="2816" y="221"/>
                  </a:lnTo>
                  <a:lnTo>
                    <a:pt x="2809" y="223"/>
                  </a:lnTo>
                  <a:lnTo>
                    <a:pt x="2801" y="229"/>
                  </a:lnTo>
                  <a:lnTo>
                    <a:pt x="2793" y="233"/>
                  </a:lnTo>
                  <a:lnTo>
                    <a:pt x="2783" y="242"/>
                  </a:lnTo>
                  <a:lnTo>
                    <a:pt x="2783" y="248"/>
                  </a:lnTo>
                  <a:lnTo>
                    <a:pt x="2783" y="256"/>
                  </a:lnTo>
                  <a:lnTo>
                    <a:pt x="2783" y="266"/>
                  </a:lnTo>
                  <a:lnTo>
                    <a:pt x="2789" y="283"/>
                  </a:lnTo>
                  <a:lnTo>
                    <a:pt x="2795" y="304"/>
                  </a:lnTo>
                  <a:lnTo>
                    <a:pt x="2805" y="337"/>
                  </a:lnTo>
                  <a:lnTo>
                    <a:pt x="2818" y="382"/>
                  </a:lnTo>
                  <a:lnTo>
                    <a:pt x="2840" y="444"/>
                  </a:lnTo>
                  <a:lnTo>
                    <a:pt x="2843" y="454"/>
                  </a:lnTo>
                  <a:lnTo>
                    <a:pt x="2849" y="462"/>
                  </a:lnTo>
                  <a:lnTo>
                    <a:pt x="2853" y="469"/>
                  </a:lnTo>
                  <a:lnTo>
                    <a:pt x="2859" y="477"/>
                  </a:lnTo>
                  <a:lnTo>
                    <a:pt x="2865" y="483"/>
                  </a:lnTo>
                  <a:lnTo>
                    <a:pt x="2874" y="495"/>
                  </a:lnTo>
                  <a:lnTo>
                    <a:pt x="2886" y="506"/>
                  </a:lnTo>
                  <a:lnTo>
                    <a:pt x="2904" y="524"/>
                  </a:lnTo>
                  <a:lnTo>
                    <a:pt x="2919" y="527"/>
                  </a:lnTo>
                  <a:lnTo>
                    <a:pt x="2935" y="533"/>
                  </a:lnTo>
                  <a:close/>
                  <a:moveTo>
                    <a:pt x="1146" y="475"/>
                  </a:moveTo>
                  <a:lnTo>
                    <a:pt x="1137" y="471"/>
                  </a:lnTo>
                  <a:lnTo>
                    <a:pt x="1125" y="465"/>
                  </a:lnTo>
                  <a:lnTo>
                    <a:pt x="1115" y="452"/>
                  </a:lnTo>
                  <a:lnTo>
                    <a:pt x="1108" y="440"/>
                  </a:lnTo>
                  <a:lnTo>
                    <a:pt x="1098" y="429"/>
                  </a:lnTo>
                  <a:lnTo>
                    <a:pt x="1088" y="417"/>
                  </a:lnTo>
                  <a:lnTo>
                    <a:pt x="1071" y="384"/>
                  </a:lnTo>
                  <a:lnTo>
                    <a:pt x="1059" y="355"/>
                  </a:lnTo>
                  <a:lnTo>
                    <a:pt x="1048" y="330"/>
                  </a:lnTo>
                  <a:lnTo>
                    <a:pt x="1042" y="310"/>
                  </a:lnTo>
                  <a:lnTo>
                    <a:pt x="1032" y="291"/>
                  </a:lnTo>
                  <a:lnTo>
                    <a:pt x="1026" y="279"/>
                  </a:lnTo>
                  <a:lnTo>
                    <a:pt x="1022" y="268"/>
                  </a:lnTo>
                  <a:lnTo>
                    <a:pt x="1018" y="264"/>
                  </a:lnTo>
                  <a:lnTo>
                    <a:pt x="1013" y="252"/>
                  </a:lnTo>
                  <a:lnTo>
                    <a:pt x="1009" y="244"/>
                  </a:lnTo>
                  <a:lnTo>
                    <a:pt x="1003" y="233"/>
                  </a:lnTo>
                  <a:lnTo>
                    <a:pt x="999" y="221"/>
                  </a:lnTo>
                  <a:lnTo>
                    <a:pt x="989" y="200"/>
                  </a:lnTo>
                  <a:lnTo>
                    <a:pt x="978" y="174"/>
                  </a:lnTo>
                  <a:lnTo>
                    <a:pt x="962" y="140"/>
                  </a:lnTo>
                  <a:lnTo>
                    <a:pt x="945" y="95"/>
                  </a:lnTo>
                  <a:lnTo>
                    <a:pt x="945" y="83"/>
                  </a:lnTo>
                  <a:lnTo>
                    <a:pt x="947" y="72"/>
                  </a:lnTo>
                  <a:lnTo>
                    <a:pt x="949" y="60"/>
                  </a:lnTo>
                  <a:lnTo>
                    <a:pt x="951" y="52"/>
                  </a:lnTo>
                  <a:lnTo>
                    <a:pt x="962" y="43"/>
                  </a:lnTo>
                  <a:lnTo>
                    <a:pt x="976" y="35"/>
                  </a:lnTo>
                  <a:lnTo>
                    <a:pt x="982" y="31"/>
                  </a:lnTo>
                  <a:lnTo>
                    <a:pt x="995" y="27"/>
                  </a:lnTo>
                  <a:lnTo>
                    <a:pt x="1009" y="21"/>
                  </a:lnTo>
                  <a:lnTo>
                    <a:pt x="1030" y="15"/>
                  </a:lnTo>
                  <a:lnTo>
                    <a:pt x="1042" y="15"/>
                  </a:lnTo>
                  <a:lnTo>
                    <a:pt x="1057" y="17"/>
                  </a:lnTo>
                  <a:lnTo>
                    <a:pt x="1069" y="17"/>
                  </a:lnTo>
                  <a:lnTo>
                    <a:pt x="1084" y="19"/>
                  </a:lnTo>
                  <a:lnTo>
                    <a:pt x="1098" y="19"/>
                  </a:lnTo>
                  <a:lnTo>
                    <a:pt x="1112" y="19"/>
                  </a:lnTo>
                  <a:lnTo>
                    <a:pt x="1125" y="19"/>
                  </a:lnTo>
                  <a:lnTo>
                    <a:pt x="1141" y="21"/>
                  </a:lnTo>
                  <a:lnTo>
                    <a:pt x="1154" y="25"/>
                  </a:lnTo>
                  <a:lnTo>
                    <a:pt x="1172" y="31"/>
                  </a:lnTo>
                  <a:lnTo>
                    <a:pt x="1185" y="35"/>
                  </a:lnTo>
                  <a:lnTo>
                    <a:pt x="1203" y="41"/>
                  </a:lnTo>
                  <a:lnTo>
                    <a:pt x="1216" y="45"/>
                  </a:lnTo>
                  <a:lnTo>
                    <a:pt x="1232" y="48"/>
                  </a:lnTo>
                  <a:lnTo>
                    <a:pt x="1245" y="52"/>
                  </a:lnTo>
                  <a:lnTo>
                    <a:pt x="1261" y="58"/>
                  </a:lnTo>
                  <a:lnTo>
                    <a:pt x="1267" y="66"/>
                  </a:lnTo>
                  <a:lnTo>
                    <a:pt x="1274" y="76"/>
                  </a:lnTo>
                  <a:lnTo>
                    <a:pt x="1280" y="85"/>
                  </a:lnTo>
                  <a:lnTo>
                    <a:pt x="1288" y="95"/>
                  </a:lnTo>
                  <a:lnTo>
                    <a:pt x="1292" y="116"/>
                  </a:lnTo>
                  <a:lnTo>
                    <a:pt x="1296" y="136"/>
                  </a:lnTo>
                  <a:lnTo>
                    <a:pt x="1300" y="153"/>
                  </a:lnTo>
                  <a:lnTo>
                    <a:pt x="1306" y="174"/>
                  </a:lnTo>
                  <a:lnTo>
                    <a:pt x="1309" y="200"/>
                  </a:lnTo>
                  <a:lnTo>
                    <a:pt x="1315" y="235"/>
                  </a:lnTo>
                  <a:lnTo>
                    <a:pt x="1323" y="277"/>
                  </a:lnTo>
                  <a:lnTo>
                    <a:pt x="1337" y="337"/>
                  </a:lnTo>
                  <a:lnTo>
                    <a:pt x="1335" y="349"/>
                  </a:lnTo>
                  <a:lnTo>
                    <a:pt x="1335" y="361"/>
                  </a:lnTo>
                  <a:lnTo>
                    <a:pt x="1333" y="370"/>
                  </a:lnTo>
                  <a:lnTo>
                    <a:pt x="1331" y="380"/>
                  </a:lnTo>
                  <a:lnTo>
                    <a:pt x="1325" y="390"/>
                  </a:lnTo>
                  <a:lnTo>
                    <a:pt x="1319" y="399"/>
                  </a:lnTo>
                  <a:lnTo>
                    <a:pt x="1311" y="407"/>
                  </a:lnTo>
                  <a:lnTo>
                    <a:pt x="1304" y="417"/>
                  </a:lnTo>
                  <a:lnTo>
                    <a:pt x="1288" y="419"/>
                  </a:lnTo>
                  <a:lnTo>
                    <a:pt x="1273" y="423"/>
                  </a:lnTo>
                  <a:lnTo>
                    <a:pt x="1269" y="430"/>
                  </a:lnTo>
                  <a:lnTo>
                    <a:pt x="1261" y="438"/>
                  </a:lnTo>
                  <a:lnTo>
                    <a:pt x="1242" y="444"/>
                  </a:lnTo>
                  <a:lnTo>
                    <a:pt x="1228" y="450"/>
                  </a:lnTo>
                  <a:lnTo>
                    <a:pt x="1216" y="454"/>
                  </a:lnTo>
                  <a:lnTo>
                    <a:pt x="1207" y="458"/>
                  </a:lnTo>
                  <a:lnTo>
                    <a:pt x="1193" y="460"/>
                  </a:lnTo>
                  <a:lnTo>
                    <a:pt x="1181" y="465"/>
                  </a:lnTo>
                  <a:lnTo>
                    <a:pt x="1166" y="469"/>
                  </a:lnTo>
                  <a:lnTo>
                    <a:pt x="1146" y="475"/>
                  </a:lnTo>
                  <a:close/>
                  <a:moveTo>
                    <a:pt x="216" y="429"/>
                  </a:moveTo>
                  <a:lnTo>
                    <a:pt x="198" y="413"/>
                  </a:lnTo>
                  <a:lnTo>
                    <a:pt x="186" y="399"/>
                  </a:lnTo>
                  <a:lnTo>
                    <a:pt x="175" y="384"/>
                  </a:lnTo>
                  <a:lnTo>
                    <a:pt x="163" y="370"/>
                  </a:lnTo>
                  <a:lnTo>
                    <a:pt x="134" y="318"/>
                  </a:lnTo>
                  <a:lnTo>
                    <a:pt x="115" y="279"/>
                  </a:lnTo>
                  <a:lnTo>
                    <a:pt x="95" y="246"/>
                  </a:lnTo>
                  <a:lnTo>
                    <a:pt x="82" y="215"/>
                  </a:lnTo>
                  <a:lnTo>
                    <a:pt x="64" y="180"/>
                  </a:lnTo>
                  <a:lnTo>
                    <a:pt x="49" y="141"/>
                  </a:lnTo>
                  <a:lnTo>
                    <a:pt x="26" y="91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33" y="17"/>
                  </a:lnTo>
                  <a:lnTo>
                    <a:pt x="41" y="37"/>
                  </a:lnTo>
                  <a:lnTo>
                    <a:pt x="45" y="46"/>
                  </a:lnTo>
                  <a:lnTo>
                    <a:pt x="49" y="56"/>
                  </a:lnTo>
                  <a:lnTo>
                    <a:pt x="53" y="68"/>
                  </a:lnTo>
                  <a:lnTo>
                    <a:pt x="58" y="79"/>
                  </a:lnTo>
                  <a:lnTo>
                    <a:pt x="91" y="138"/>
                  </a:lnTo>
                  <a:lnTo>
                    <a:pt x="119" y="186"/>
                  </a:lnTo>
                  <a:lnTo>
                    <a:pt x="140" y="225"/>
                  </a:lnTo>
                  <a:lnTo>
                    <a:pt x="159" y="260"/>
                  </a:lnTo>
                  <a:lnTo>
                    <a:pt x="173" y="291"/>
                  </a:lnTo>
                  <a:lnTo>
                    <a:pt x="192" y="322"/>
                  </a:lnTo>
                  <a:lnTo>
                    <a:pt x="212" y="355"/>
                  </a:lnTo>
                  <a:lnTo>
                    <a:pt x="237" y="396"/>
                  </a:lnTo>
                  <a:lnTo>
                    <a:pt x="239" y="411"/>
                  </a:lnTo>
                  <a:lnTo>
                    <a:pt x="243" y="423"/>
                  </a:lnTo>
                  <a:lnTo>
                    <a:pt x="231" y="423"/>
                  </a:lnTo>
                  <a:lnTo>
                    <a:pt x="216" y="429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33080" y="4584600"/>
              <a:ext cx="964080" cy="228960"/>
            </a:xfrm>
            <a:custGeom>
              <a:avLst/>
              <a:gdLst/>
              <a:ahLst/>
              <a:rect l="l" t="t" r="r" b="b"/>
              <a:pathLst>
                <a:path w="2302" h="443">
                  <a:moveTo>
                    <a:pt x="306" y="443"/>
                  </a:moveTo>
                  <a:lnTo>
                    <a:pt x="301" y="421"/>
                  </a:lnTo>
                  <a:lnTo>
                    <a:pt x="297" y="406"/>
                  </a:lnTo>
                  <a:lnTo>
                    <a:pt x="291" y="392"/>
                  </a:lnTo>
                  <a:lnTo>
                    <a:pt x="289" y="380"/>
                  </a:lnTo>
                  <a:lnTo>
                    <a:pt x="283" y="369"/>
                  </a:lnTo>
                  <a:lnTo>
                    <a:pt x="279" y="357"/>
                  </a:lnTo>
                  <a:lnTo>
                    <a:pt x="271" y="344"/>
                  </a:lnTo>
                  <a:lnTo>
                    <a:pt x="266" y="326"/>
                  </a:lnTo>
                  <a:lnTo>
                    <a:pt x="268" y="318"/>
                  </a:lnTo>
                  <a:lnTo>
                    <a:pt x="269" y="305"/>
                  </a:lnTo>
                  <a:lnTo>
                    <a:pt x="285" y="305"/>
                  </a:lnTo>
                  <a:lnTo>
                    <a:pt x="297" y="305"/>
                  </a:lnTo>
                  <a:lnTo>
                    <a:pt x="308" y="316"/>
                  </a:lnTo>
                  <a:lnTo>
                    <a:pt x="320" y="328"/>
                  </a:lnTo>
                  <a:lnTo>
                    <a:pt x="332" y="340"/>
                  </a:lnTo>
                  <a:lnTo>
                    <a:pt x="345" y="351"/>
                  </a:lnTo>
                  <a:lnTo>
                    <a:pt x="357" y="363"/>
                  </a:lnTo>
                  <a:lnTo>
                    <a:pt x="370" y="375"/>
                  </a:lnTo>
                  <a:lnTo>
                    <a:pt x="384" y="386"/>
                  </a:lnTo>
                  <a:lnTo>
                    <a:pt x="397" y="400"/>
                  </a:lnTo>
                  <a:lnTo>
                    <a:pt x="397" y="410"/>
                  </a:lnTo>
                  <a:lnTo>
                    <a:pt x="397" y="421"/>
                  </a:lnTo>
                  <a:lnTo>
                    <a:pt x="384" y="425"/>
                  </a:lnTo>
                  <a:lnTo>
                    <a:pt x="374" y="431"/>
                  </a:lnTo>
                  <a:lnTo>
                    <a:pt x="365" y="437"/>
                  </a:lnTo>
                  <a:lnTo>
                    <a:pt x="355" y="443"/>
                  </a:lnTo>
                  <a:lnTo>
                    <a:pt x="341" y="443"/>
                  </a:lnTo>
                  <a:lnTo>
                    <a:pt x="330" y="443"/>
                  </a:lnTo>
                  <a:lnTo>
                    <a:pt x="318" y="443"/>
                  </a:lnTo>
                  <a:lnTo>
                    <a:pt x="306" y="443"/>
                  </a:lnTo>
                  <a:close/>
                  <a:moveTo>
                    <a:pt x="254" y="427"/>
                  </a:moveTo>
                  <a:lnTo>
                    <a:pt x="254" y="431"/>
                  </a:lnTo>
                  <a:lnTo>
                    <a:pt x="260" y="433"/>
                  </a:lnTo>
                  <a:lnTo>
                    <a:pt x="262" y="425"/>
                  </a:lnTo>
                  <a:lnTo>
                    <a:pt x="264" y="419"/>
                  </a:lnTo>
                  <a:lnTo>
                    <a:pt x="264" y="412"/>
                  </a:lnTo>
                  <a:lnTo>
                    <a:pt x="266" y="400"/>
                  </a:lnTo>
                  <a:lnTo>
                    <a:pt x="258" y="384"/>
                  </a:lnTo>
                  <a:lnTo>
                    <a:pt x="254" y="375"/>
                  </a:lnTo>
                  <a:lnTo>
                    <a:pt x="250" y="367"/>
                  </a:lnTo>
                  <a:lnTo>
                    <a:pt x="248" y="361"/>
                  </a:lnTo>
                  <a:lnTo>
                    <a:pt x="240" y="353"/>
                  </a:lnTo>
                  <a:lnTo>
                    <a:pt x="233" y="347"/>
                  </a:lnTo>
                  <a:lnTo>
                    <a:pt x="227" y="338"/>
                  </a:lnTo>
                  <a:lnTo>
                    <a:pt x="227" y="328"/>
                  </a:lnTo>
                  <a:lnTo>
                    <a:pt x="225" y="318"/>
                  </a:lnTo>
                  <a:lnTo>
                    <a:pt x="223" y="311"/>
                  </a:lnTo>
                  <a:lnTo>
                    <a:pt x="211" y="295"/>
                  </a:lnTo>
                  <a:lnTo>
                    <a:pt x="196" y="280"/>
                  </a:lnTo>
                  <a:lnTo>
                    <a:pt x="184" y="280"/>
                  </a:lnTo>
                  <a:lnTo>
                    <a:pt x="174" y="280"/>
                  </a:lnTo>
                  <a:lnTo>
                    <a:pt x="171" y="295"/>
                  </a:lnTo>
                  <a:lnTo>
                    <a:pt x="171" y="311"/>
                  </a:lnTo>
                  <a:lnTo>
                    <a:pt x="167" y="320"/>
                  </a:lnTo>
                  <a:lnTo>
                    <a:pt x="167" y="332"/>
                  </a:lnTo>
                  <a:lnTo>
                    <a:pt x="165" y="349"/>
                  </a:lnTo>
                  <a:lnTo>
                    <a:pt x="165" y="369"/>
                  </a:lnTo>
                  <a:lnTo>
                    <a:pt x="178" y="380"/>
                  </a:lnTo>
                  <a:lnTo>
                    <a:pt x="198" y="394"/>
                  </a:lnTo>
                  <a:lnTo>
                    <a:pt x="209" y="400"/>
                  </a:lnTo>
                  <a:lnTo>
                    <a:pt x="223" y="408"/>
                  </a:lnTo>
                  <a:lnTo>
                    <a:pt x="237" y="415"/>
                  </a:lnTo>
                  <a:lnTo>
                    <a:pt x="254" y="427"/>
                  </a:lnTo>
                  <a:close/>
                  <a:moveTo>
                    <a:pt x="419" y="369"/>
                  </a:moveTo>
                  <a:lnTo>
                    <a:pt x="425" y="369"/>
                  </a:lnTo>
                  <a:lnTo>
                    <a:pt x="429" y="369"/>
                  </a:lnTo>
                  <a:lnTo>
                    <a:pt x="429" y="344"/>
                  </a:lnTo>
                  <a:lnTo>
                    <a:pt x="430" y="324"/>
                  </a:lnTo>
                  <a:lnTo>
                    <a:pt x="430" y="309"/>
                  </a:lnTo>
                  <a:lnTo>
                    <a:pt x="430" y="297"/>
                  </a:lnTo>
                  <a:lnTo>
                    <a:pt x="429" y="283"/>
                  </a:lnTo>
                  <a:lnTo>
                    <a:pt x="429" y="270"/>
                  </a:lnTo>
                  <a:lnTo>
                    <a:pt x="425" y="254"/>
                  </a:lnTo>
                  <a:lnTo>
                    <a:pt x="423" y="237"/>
                  </a:lnTo>
                  <a:lnTo>
                    <a:pt x="397" y="231"/>
                  </a:lnTo>
                  <a:lnTo>
                    <a:pt x="380" y="225"/>
                  </a:lnTo>
                  <a:lnTo>
                    <a:pt x="366" y="221"/>
                  </a:lnTo>
                  <a:lnTo>
                    <a:pt x="355" y="219"/>
                  </a:lnTo>
                  <a:lnTo>
                    <a:pt x="343" y="216"/>
                  </a:lnTo>
                  <a:lnTo>
                    <a:pt x="333" y="216"/>
                  </a:lnTo>
                  <a:lnTo>
                    <a:pt x="322" y="216"/>
                  </a:lnTo>
                  <a:lnTo>
                    <a:pt x="312" y="216"/>
                  </a:lnTo>
                  <a:lnTo>
                    <a:pt x="316" y="223"/>
                  </a:lnTo>
                  <a:lnTo>
                    <a:pt x="318" y="231"/>
                  </a:lnTo>
                  <a:lnTo>
                    <a:pt x="326" y="239"/>
                  </a:lnTo>
                  <a:lnTo>
                    <a:pt x="339" y="247"/>
                  </a:lnTo>
                  <a:lnTo>
                    <a:pt x="332" y="254"/>
                  </a:lnTo>
                  <a:lnTo>
                    <a:pt x="328" y="264"/>
                  </a:lnTo>
                  <a:lnTo>
                    <a:pt x="328" y="274"/>
                  </a:lnTo>
                  <a:lnTo>
                    <a:pt x="328" y="289"/>
                  </a:lnTo>
                  <a:lnTo>
                    <a:pt x="339" y="305"/>
                  </a:lnTo>
                  <a:lnTo>
                    <a:pt x="349" y="322"/>
                  </a:lnTo>
                  <a:lnTo>
                    <a:pt x="365" y="334"/>
                  </a:lnTo>
                  <a:lnTo>
                    <a:pt x="384" y="346"/>
                  </a:lnTo>
                  <a:lnTo>
                    <a:pt x="401" y="357"/>
                  </a:lnTo>
                  <a:lnTo>
                    <a:pt x="419" y="369"/>
                  </a:lnTo>
                  <a:close/>
                  <a:moveTo>
                    <a:pt x="116" y="326"/>
                  </a:moveTo>
                  <a:lnTo>
                    <a:pt x="105" y="311"/>
                  </a:lnTo>
                  <a:lnTo>
                    <a:pt x="95" y="297"/>
                  </a:lnTo>
                  <a:lnTo>
                    <a:pt x="85" y="283"/>
                  </a:lnTo>
                  <a:lnTo>
                    <a:pt x="76" y="270"/>
                  </a:lnTo>
                  <a:lnTo>
                    <a:pt x="66" y="254"/>
                  </a:lnTo>
                  <a:lnTo>
                    <a:pt x="56" y="243"/>
                  </a:lnTo>
                  <a:lnTo>
                    <a:pt x="46" y="227"/>
                  </a:lnTo>
                  <a:lnTo>
                    <a:pt x="37" y="216"/>
                  </a:lnTo>
                  <a:lnTo>
                    <a:pt x="37" y="208"/>
                  </a:lnTo>
                  <a:lnTo>
                    <a:pt x="37" y="200"/>
                  </a:lnTo>
                  <a:lnTo>
                    <a:pt x="52" y="200"/>
                  </a:lnTo>
                  <a:lnTo>
                    <a:pt x="68" y="202"/>
                  </a:lnTo>
                  <a:lnTo>
                    <a:pt x="83" y="206"/>
                  </a:lnTo>
                  <a:lnTo>
                    <a:pt x="101" y="210"/>
                  </a:lnTo>
                  <a:lnTo>
                    <a:pt x="109" y="216"/>
                  </a:lnTo>
                  <a:lnTo>
                    <a:pt x="116" y="223"/>
                  </a:lnTo>
                  <a:lnTo>
                    <a:pt x="126" y="229"/>
                  </a:lnTo>
                  <a:lnTo>
                    <a:pt x="138" y="237"/>
                  </a:lnTo>
                  <a:lnTo>
                    <a:pt x="136" y="252"/>
                  </a:lnTo>
                  <a:lnTo>
                    <a:pt x="136" y="266"/>
                  </a:lnTo>
                  <a:lnTo>
                    <a:pt x="136" y="276"/>
                  </a:lnTo>
                  <a:lnTo>
                    <a:pt x="136" y="287"/>
                  </a:lnTo>
                  <a:lnTo>
                    <a:pt x="134" y="293"/>
                  </a:lnTo>
                  <a:lnTo>
                    <a:pt x="134" y="303"/>
                  </a:lnTo>
                  <a:lnTo>
                    <a:pt x="132" y="313"/>
                  </a:lnTo>
                  <a:lnTo>
                    <a:pt x="132" y="326"/>
                  </a:lnTo>
                  <a:lnTo>
                    <a:pt x="124" y="326"/>
                  </a:lnTo>
                  <a:lnTo>
                    <a:pt x="116" y="326"/>
                  </a:lnTo>
                  <a:close/>
                  <a:moveTo>
                    <a:pt x="266" y="280"/>
                  </a:moveTo>
                  <a:lnTo>
                    <a:pt x="248" y="274"/>
                  </a:lnTo>
                  <a:lnTo>
                    <a:pt x="233" y="274"/>
                  </a:lnTo>
                  <a:lnTo>
                    <a:pt x="221" y="266"/>
                  </a:lnTo>
                  <a:lnTo>
                    <a:pt x="209" y="260"/>
                  </a:lnTo>
                  <a:lnTo>
                    <a:pt x="198" y="252"/>
                  </a:lnTo>
                  <a:lnTo>
                    <a:pt x="186" y="247"/>
                  </a:lnTo>
                  <a:lnTo>
                    <a:pt x="173" y="229"/>
                  </a:lnTo>
                  <a:lnTo>
                    <a:pt x="163" y="218"/>
                  </a:lnTo>
                  <a:lnTo>
                    <a:pt x="153" y="206"/>
                  </a:lnTo>
                  <a:lnTo>
                    <a:pt x="147" y="196"/>
                  </a:lnTo>
                  <a:lnTo>
                    <a:pt x="138" y="183"/>
                  </a:lnTo>
                  <a:lnTo>
                    <a:pt x="130" y="171"/>
                  </a:lnTo>
                  <a:lnTo>
                    <a:pt x="118" y="155"/>
                  </a:lnTo>
                  <a:lnTo>
                    <a:pt x="107" y="136"/>
                  </a:lnTo>
                  <a:lnTo>
                    <a:pt x="105" y="121"/>
                  </a:lnTo>
                  <a:lnTo>
                    <a:pt x="101" y="105"/>
                  </a:lnTo>
                  <a:lnTo>
                    <a:pt x="107" y="93"/>
                  </a:lnTo>
                  <a:lnTo>
                    <a:pt x="112" y="84"/>
                  </a:lnTo>
                  <a:lnTo>
                    <a:pt x="124" y="78"/>
                  </a:lnTo>
                  <a:lnTo>
                    <a:pt x="138" y="74"/>
                  </a:lnTo>
                  <a:lnTo>
                    <a:pt x="147" y="78"/>
                  </a:lnTo>
                  <a:lnTo>
                    <a:pt x="159" y="82"/>
                  </a:lnTo>
                  <a:lnTo>
                    <a:pt x="167" y="86"/>
                  </a:lnTo>
                  <a:lnTo>
                    <a:pt x="176" y="91"/>
                  </a:lnTo>
                  <a:lnTo>
                    <a:pt x="184" y="95"/>
                  </a:lnTo>
                  <a:lnTo>
                    <a:pt x="198" y="103"/>
                  </a:lnTo>
                  <a:lnTo>
                    <a:pt x="211" y="113"/>
                  </a:lnTo>
                  <a:lnTo>
                    <a:pt x="233" y="126"/>
                  </a:lnTo>
                  <a:lnTo>
                    <a:pt x="240" y="136"/>
                  </a:lnTo>
                  <a:lnTo>
                    <a:pt x="252" y="152"/>
                  </a:lnTo>
                  <a:lnTo>
                    <a:pt x="258" y="159"/>
                  </a:lnTo>
                  <a:lnTo>
                    <a:pt x="266" y="171"/>
                  </a:lnTo>
                  <a:lnTo>
                    <a:pt x="273" y="187"/>
                  </a:lnTo>
                  <a:lnTo>
                    <a:pt x="285" y="206"/>
                  </a:lnTo>
                  <a:lnTo>
                    <a:pt x="285" y="216"/>
                  </a:lnTo>
                  <a:lnTo>
                    <a:pt x="285" y="223"/>
                  </a:lnTo>
                  <a:lnTo>
                    <a:pt x="285" y="229"/>
                  </a:lnTo>
                  <a:lnTo>
                    <a:pt x="287" y="237"/>
                  </a:lnTo>
                  <a:lnTo>
                    <a:pt x="289" y="247"/>
                  </a:lnTo>
                  <a:lnTo>
                    <a:pt x="291" y="258"/>
                  </a:lnTo>
                  <a:lnTo>
                    <a:pt x="277" y="270"/>
                  </a:lnTo>
                  <a:lnTo>
                    <a:pt x="271" y="276"/>
                  </a:lnTo>
                  <a:lnTo>
                    <a:pt x="268" y="278"/>
                  </a:lnTo>
                  <a:lnTo>
                    <a:pt x="266" y="280"/>
                  </a:lnTo>
                  <a:close/>
                  <a:moveTo>
                    <a:pt x="2188" y="216"/>
                  </a:moveTo>
                  <a:lnTo>
                    <a:pt x="2166" y="202"/>
                  </a:lnTo>
                  <a:lnTo>
                    <a:pt x="2153" y="192"/>
                  </a:lnTo>
                  <a:lnTo>
                    <a:pt x="2139" y="185"/>
                  </a:lnTo>
                  <a:lnTo>
                    <a:pt x="2133" y="179"/>
                  </a:lnTo>
                  <a:lnTo>
                    <a:pt x="2124" y="171"/>
                  </a:lnTo>
                  <a:lnTo>
                    <a:pt x="2118" y="165"/>
                  </a:lnTo>
                  <a:lnTo>
                    <a:pt x="2110" y="157"/>
                  </a:lnTo>
                  <a:lnTo>
                    <a:pt x="2102" y="148"/>
                  </a:lnTo>
                  <a:lnTo>
                    <a:pt x="2104" y="130"/>
                  </a:lnTo>
                  <a:lnTo>
                    <a:pt x="2110" y="113"/>
                  </a:lnTo>
                  <a:lnTo>
                    <a:pt x="2112" y="93"/>
                  </a:lnTo>
                  <a:lnTo>
                    <a:pt x="2118" y="78"/>
                  </a:lnTo>
                  <a:lnTo>
                    <a:pt x="2129" y="78"/>
                  </a:lnTo>
                  <a:lnTo>
                    <a:pt x="2139" y="78"/>
                  </a:lnTo>
                  <a:lnTo>
                    <a:pt x="2149" y="91"/>
                  </a:lnTo>
                  <a:lnTo>
                    <a:pt x="2160" y="105"/>
                  </a:lnTo>
                  <a:lnTo>
                    <a:pt x="2164" y="117"/>
                  </a:lnTo>
                  <a:lnTo>
                    <a:pt x="2170" y="130"/>
                  </a:lnTo>
                  <a:lnTo>
                    <a:pt x="2176" y="144"/>
                  </a:lnTo>
                  <a:lnTo>
                    <a:pt x="2182" y="157"/>
                  </a:lnTo>
                  <a:lnTo>
                    <a:pt x="2186" y="169"/>
                  </a:lnTo>
                  <a:lnTo>
                    <a:pt x="2191" y="181"/>
                  </a:lnTo>
                  <a:lnTo>
                    <a:pt x="2197" y="194"/>
                  </a:lnTo>
                  <a:lnTo>
                    <a:pt x="2203" y="210"/>
                  </a:lnTo>
                  <a:lnTo>
                    <a:pt x="2193" y="212"/>
                  </a:lnTo>
                  <a:lnTo>
                    <a:pt x="2188" y="216"/>
                  </a:lnTo>
                  <a:close/>
                  <a:moveTo>
                    <a:pt x="2246" y="216"/>
                  </a:moveTo>
                  <a:lnTo>
                    <a:pt x="2259" y="216"/>
                  </a:lnTo>
                  <a:lnTo>
                    <a:pt x="2271" y="216"/>
                  </a:lnTo>
                  <a:lnTo>
                    <a:pt x="2279" y="206"/>
                  </a:lnTo>
                  <a:lnTo>
                    <a:pt x="2286" y="196"/>
                  </a:lnTo>
                  <a:lnTo>
                    <a:pt x="2288" y="188"/>
                  </a:lnTo>
                  <a:lnTo>
                    <a:pt x="2292" y="181"/>
                  </a:lnTo>
                  <a:lnTo>
                    <a:pt x="2296" y="169"/>
                  </a:lnTo>
                  <a:lnTo>
                    <a:pt x="2302" y="157"/>
                  </a:lnTo>
                  <a:lnTo>
                    <a:pt x="2286" y="140"/>
                  </a:lnTo>
                  <a:lnTo>
                    <a:pt x="2273" y="124"/>
                  </a:lnTo>
                  <a:lnTo>
                    <a:pt x="2261" y="111"/>
                  </a:lnTo>
                  <a:lnTo>
                    <a:pt x="2252" y="99"/>
                  </a:lnTo>
                  <a:lnTo>
                    <a:pt x="2238" y="84"/>
                  </a:lnTo>
                  <a:lnTo>
                    <a:pt x="2224" y="68"/>
                  </a:lnTo>
                  <a:lnTo>
                    <a:pt x="2211" y="62"/>
                  </a:lnTo>
                  <a:lnTo>
                    <a:pt x="2201" y="58"/>
                  </a:lnTo>
                  <a:lnTo>
                    <a:pt x="2191" y="55"/>
                  </a:lnTo>
                  <a:lnTo>
                    <a:pt x="2182" y="53"/>
                  </a:lnTo>
                  <a:lnTo>
                    <a:pt x="2182" y="62"/>
                  </a:lnTo>
                  <a:lnTo>
                    <a:pt x="2182" y="72"/>
                  </a:lnTo>
                  <a:lnTo>
                    <a:pt x="2182" y="82"/>
                  </a:lnTo>
                  <a:lnTo>
                    <a:pt x="2182" y="95"/>
                  </a:lnTo>
                  <a:lnTo>
                    <a:pt x="2188" y="109"/>
                  </a:lnTo>
                  <a:lnTo>
                    <a:pt x="2197" y="124"/>
                  </a:lnTo>
                  <a:lnTo>
                    <a:pt x="2203" y="138"/>
                  </a:lnTo>
                  <a:lnTo>
                    <a:pt x="2213" y="154"/>
                  </a:lnTo>
                  <a:lnTo>
                    <a:pt x="2221" y="167"/>
                  </a:lnTo>
                  <a:lnTo>
                    <a:pt x="2228" y="183"/>
                  </a:lnTo>
                  <a:lnTo>
                    <a:pt x="2236" y="198"/>
                  </a:lnTo>
                  <a:lnTo>
                    <a:pt x="2246" y="216"/>
                  </a:lnTo>
                  <a:close/>
                  <a:moveTo>
                    <a:pt x="392" y="185"/>
                  </a:moveTo>
                  <a:lnTo>
                    <a:pt x="394" y="187"/>
                  </a:lnTo>
                  <a:lnTo>
                    <a:pt x="396" y="187"/>
                  </a:lnTo>
                  <a:lnTo>
                    <a:pt x="396" y="181"/>
                  </a:lnTo>
                  <a:lnTo>
                    <a:pt x="397" y="173"/>
                  </a:lnTo>
                  <a:lnTo>
                    <a:pt x="386" y="157"/>
                  </a:lnTo>
                  <a:lnTo>
                    <a:pt x="376" y="144"/>
                  </a:lnTo>
                  <a:lnTo>
                    <a:pt x="366" y="130"/>
                  </a:lnTo>
                  <a:lnTo>
                    <a:pt x="357" y="117"/>
                  </a:lnTo>
                  <a:lnTo>
                    <a:pt x="345" y="101"/>
                  </a:lnTo>
                  <a:lnTo>
                    <a:pt x="335" y="90"/>
                  </a:lnTo>
                  <a:lnTo>
                    <a:pt x="326" y="74"/>
                  </a:lnTo>
                  <a:lnTo>
                    <a:pt x="318" y="62"/>
                  </a:lnTo>
                  <a:lnTo>
                    <a:pt x="308" y="57"/>
                  </a:lnTo>
                  <a:lnTo>
                    <a:pt x="301" y="57"/>
                  </a:lnTo>
                  <a:lnTo>
                    <a:pt x="293" y="57"/>
                  </a:lnTo>
                  <a:lnTo>
                    <a:pt x="285" y="57"/>
                  </a:lnTo>
                  <a:lnTo>
                    <a:pt x="281" y="74"/>
                  </a:lnTo>
                  <a:lnTo>
                    <a:pt x="281" y="93"/>
                  </a:lnTo>
                  <a:lnTo>
                    <a:pt x="281" y="109"/>
                  </a:lnTo>
                  <a:lnTo>
                    <a:pt x="281" y="126"/>
                  </a:lnTo>
                  <a:lnTo>
                    <a:pt x="287" y="136"/>
                  </a:lnTo>
                  <a:lnTo>
                    <a:pt x="297" y="148"/>
                  </a:lnTo>
                  <a:lnTo>
                    <a:pt x="302" y="157"/>
                  </a:lnTo>
                  <a:lnTo>
                    <a:pt x="312" y="169"/>
                  </a:lnTo>
                  <a:lnTo>
                    <a:pt x="332" y="173"/>
                  </a:lnTo>
                  <a:lnTo>
                    <a:pt x="351" y="177"/>
                  </a:lnTo>
                  <a:lnTo>
                    <a:pt x="370" y="179"/>
                  </a:lnTo>
                  <a:lnTo>
                    <a:pt x="392" y="185"/>
                  </a:lnTo>
                  <a:close/>
                  <a:moveTo>
                    <a:pt x="43" y="163"/>
                  </a:moveTo>
                  <a:lnTo>
                    <a:pt x="31" y="159"/>
                  </a:lnTo>
                  <a:lnTo>
                    <a:pt x="21" y="157"/>
                  </a:lnTo>
                  <a:lnTo>
                    <a:pt x="15" y="140"/>
                  </a:lnTo>
                  <a:lnTo>
                    <a:pt x="10" y="123"/>
                  </a:lnTo>
                  <a:lnTo>
                    <a:pt x="4" y="103"/>
                  </a:lnTo>
                  <a:lnTo>
                    <a:pt x="0" y="84"/>
                  </a:lnTo>
                  <a:lnTo>
                    <a:pt x="2" y="68"/>
                  </a:lnTo>
                  <a:lnTo>
                    <a:pt x="6" y="53"/>
                  </a:lnTo>
                  <a:lnTo>
                    <a:pt x="17" y="55"/>
                  </a:lnTo>
                  <a:lnTo>
                    <a:pt x="27" y="58"/>
                  </a:lnTo>
                  <a:lnTo>
                    <a:pt x="33" y="62"/>
                  </a:lnTo>
                  <a:lnTo>
                    <a:pt x="39" y="68"/>
                  </a:lnTo>
                  <a:lnTo>
                    <a:pt x="46" y="76"/>
                  </a:lnTo>
                  <a:lnTo>
                    <a:pt x="58" y="90"/>
                  </a:lnTo>
                  <a:lnTo>
                    <a:pt x="64" y="103"/>
                  </a:lnTo>
                  <a:lnTo>
                    <a:pt x="68" y="119"/>
                  </a:lnTo>
                  <a:lnTo>
                    <a:pt x="72" y="132"/>
                  </a:lnTo>
                  <a:lnTo>
                    <a:pt x="79" y="142"/>
                  </a:lnTo>
                  <a:lnTo>
                    <a:pt x="77" y="152"/>
                  </a:lnTo>
                  <a:lnTo>
                    <a:pt x="76" y="163"/>
                  </a:lnTo>
                  <a:lnTo>
                    <a:pt x="58" y="163"/>
                  </a:lnTo>
                  <a:lnTo>
                    <a:pt x="43" y="163"/>
                  </a:lnTo>
                  <a:close/>
                  <a:moveTo>
                    <a:pt x="2071" y="115"/>
                  </a:moveTo>
                  <a:lnTo>
                    <a:pt x="2079" y="117"/>
                  </a:lnTo>
                  <a:lnTo>
                    <a:pt x="2093" y="121"/>
                  </a:lnTo>
                  <a:lnTo>
                    <a:pt x="2093" y="109"/>
                  </a:lnTo>
                  <a:lnTo>
                    <a:pt x="2093" y="99"/>
                  </a:lnTo>
                  <a:lnTo>
                    <a:pt x="2093" y="91"/>
                  </a:lnTo>
                  <a:lnTo>
                    <a:pt x="2093" y="84"/>
                  </a:lnTo>
                  <a:lnTo>
                    <a:pt x="2096" y="76"/>
                  </a:lnTo>
                  <a:lnTo>
                    <a:pt x="2102" y="68"/>
                  </a:lnTo>
                  <a:lnTo>
                    <a:pt x="2102" y="51"/>
                  </a:lnTo>
                  <a:lnTo>
                    <a:pt x="2102" y="41"/>
                  </a:lnTo>
                  <a:lnTo>
                    <a:pt x="2091" y="29"/>
                  </a:lnTo>
                  <a:lnTo>
                    <a:pt x="2079" y="18"/>
                  </a:lnTo>
                  <a:lnTo>
                    <a:pt x="2067" y="6"/>
                  </a:lnTo>
                  <a:lnTo>
                    <a:pt x="2060" y="0"/>
                  </a:lnTo>
                  <a:lnTo>
                    <a:pt x="2048" y="0"/>
                  </a:lnTo>
                  <a:lnTo>
                    <a:pt x="2036" y="0"/>
                  </a:lnTo>
                  <a:lnTo>
                    <a:pt x="2025" y="0"/>
                  </a:lnTo>
                  <a:lnTo>
                    <a:pt x="2013" y="4"/>
                  </a:lnTo>
                  <a:lnTo>
                    <a:pt x="2013" y="20"/>
                  </a:lnTo>
                  <a:lnTo>
                    <a:pt x="2013" y="37"/>
                  </a:lnTo>
                  <a:lnTo>
                    <a:pt x="2023" y="53"/>
                  </a:lnTo>
                  <a:lnTo>
                    <a:pt x="2030" y="66"/>
                  </a:lnTo>
                  <a:lnTo>
                    <a:pt x="2036" y="76"/>
                  </a:lnTo>
                  <a:lnTo>
                    <a:pt x="2042" y="86"/>
                  </a:lnTo>
                  <a:lnTo>
                    <a:pt x="2054" y="97"/>
                  </a:lnTo>
                  <a:lnTo>
                    <a:pt x="2071" y="115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78320" y="3334320"/>
              <a:ext cx="1711800" cy="1301760"/>
            </a:xfrm>
            <a:custGeom>
              <a:avLst/>
              <a:gdLst/>
              <a:ahLst/>
              <a:rect l="l" t="t" r="r" b="b"/>
              <a:pathLst>
                <a:path w="4087" h="2514">
                  <a:moveTo>
                    <a:pt x="1563" y="2510"/>
                  </a:moveTo>
                  <a:lnTo>
                    <a:pt x="1563" y="2512"/>
                  </a:lnTo>
                  <a:lnTo>
                    <a:pt x="1569" y="2514"/>
                  </a:lnTo>
                  <a:lnTo>
                    <a:pt x="1571" y="2506"/>
                  </a:lnTo>
                  <a:lnTo>
                    <a:pt x="1573" y="2499"/>
                  </a:lnTo>
                  <a:lnTo>
                    <a:pt x="1573" y="2491"/>
                  </a:lnTo>
                  <a:lnTo>
                    <a:pt x="1577" y="2481"/>
                  </a:lnTo>
                  <a:lnTo>
                    <a:pt x="1579" y="2468"/>
                  </a:lnTo>
                  <a:lnTo>
                    <a:pt x="1585" y="2452"/>
                  </a:lnTo>
                  <a:lnTo>
                    <a:pt x="1581" y="2437"/>
                  </a:lnTo>
                  <a:lnTo>
                    <a:pt x="1579" y="2425"/>
                  </a:lnTo>
                  <a:lnTo>
                    <a:pt x="1563" y="2415"/>
                  </a:lnTo>
                  <a:lnTo>
                    <a:pt x="1550" y="2406"/>
                  </a:lnTo>
                  <a:lnTo>
                    <a:pt x="1538" y="2398"/>
                  </a:lnTo>
                  <a:lnTo>
                    <a:pt x="1525" y="2390"/>
                  </a:lnTo>
                  <a:lnTo>
                    <a:pt x="1507" y="2378"/>
                  </a:lnTo>
                  <a:lnTo>
                    <a:pt x="1484" y="2367"/>
                  </a:lnTo>
                  <a:lnTo>
                    <a:pt x="1476" y="2371"/>
                  </a:lnTo>
                  <a:lnTo>
                    <a:pt x="1468" y="2373"/>
                  </a:lnTo>
                  <a:lnTo>
                    <a:pt x="1470" y="2382"/>
                  </a:lnTo>
                  <a:lnTo>
                    <a:pt x="1474" y="2394"/>
                  </a:lnTo>
                  <a:lnTo>
                    <a:pt x="1476" y="2406"/>
                  </a:lnTo>
                  <a:lnTo>
                    <a:pt x="1480" y="2417"/>
                  </a:lnTo>
                  <a:lnTo>
                    <a:pt x="1482" y="2427"/>
                  </a:lnTo>
                  <a:lnTo>
                    <a:pt x="1486" y="2439"/>
                  </a:lnTo>
                  <a:lnTo>
                    <a:pt x="1490" y="2450"/>
                  </a:lnTo>
                  <a:lnTo>
                    <a:pt x="1496" y="2462"/>
                  </a:lnTo>
                  <a:lnTo>
                    <a:pt x="1511" y="2473"/>
                  </a:lnTo>
                  <a:lnTo>
                    <a:pt x="1529" y="2485"/>
                  </a:lnTo>
                  <a:lnTo>
                    <a:pt x="1546" y="2497"/>
                  </a:lnTo>
                  <a:lnTo>
                    <a:pt x="1563" y="2510"/>
                  </a:lnTo>
                  <a:close/>
                  <a:moveTo>
                    <a:pt x="3611" y="2505"/>
                  </a:moveTo>
                  <a:lnTo>
                    <a:pt x="3619" y="2505"/>
                  </a:lnTo>
                  <a:lnTo>
                    <a:pt x="3627" y="2510"/>
                  </a:lnTo>
                  <a:lnTo>
                    <a:pt x="3623" y="2493"/>
                  </a:lnTo>
                  <a:lnTo>
                    <a:pt x="3623" y="2477"/>
                  </a:lnTo>
                  <a:lnTo>
                    <a:pt x="3623" y="2462"/>
                  </a:lnTo>
                  <a:lnTo>
                    <a:pt x="3623" y="2446"/>
                  </a:lnTo>
                  <a:lnTo>
                    <a:pt x="3615" y="2435"/>
                  </a:lnTo>
                  <a:lnTo>
                    <a:pt x="3610" y="2423"/>
                  </a:lnTo>
                  <a:lnTo>
                    <a:pt x="3604" y="2411"/>
                  </a:lnTo>
                  <a:lnTo>
                    <a:pt x="3602" y="2404"/>
                  </a:lnTo>
                  <a:lnTo>
                    <a:pt x="3584" y="2402"/>
                  </a:lnTo>
                  <a:lnTo>
                    <a:pt x="3569" y="2400"/>
                  </a:lnTo>
                  <a:lnTo>
                    <a:pt x="3553" y="2398"/>
                  </a:lnTo>
                  <a:lnTo>
                    <a:pt x="3538" y="2398"/>
                  </a:lnTo>
                  <a:lnTo>
                    <a:pt x="3530" y="2402"/>
                  </a:lnTo>
                  <a:lnTo>
                    <a:pt x="3522" y="2404"/>
                  </a:lnTo>
                  <a:lnTo>
                    <a:pt x="3532" y="2417"/>
                  </a:lnTo>
                  <a:lnTo>
                    <a:pt x="3540" y="2431"/>
                  </a:lnTo>
                  <a:lnTo>
                    <a:pt x="3547" y="2441"/>
                  </a:lnTo>
                  <a:lnTo>
                    <a:pt x="3555" y="2452"/>
                  </a:lnTo>
                  <a:lnTo>
                    <a:pt x="3563" y="2460"/>
                  </a:lnTo>
                  <a:lnTo>
                    <a:pt x="3577" y="2472"/>
                  </a:lnTo>
                  <a:lnTo>
                    <a:pt x="3590" y="2485"/>
                  </a:lnTo>
                  <a:lnTo>
                    <a:pt x="3611" y="2505"/>
                  </a:lnTo>
                  <a:close/>
                  <a:moveTo>
                    <a:pt x="1389" y="2462"/>
                  </a:moveTo>
                  <a:lnTo>
                    <a:pt x="1375" y="2452"/>
                  </a:lnTo>
                  <a:lnTo>
                    <a:pt x="1362" y="2441"/>
                  </a:lnTo>
                  <a:lnTo>
                    <a:pt x="1346" y="2427"/>
                  </a:lnTo>
                  <a:lnTo>
                    <a:pt x="1331" y="2415"/>
                  </a:lnTo>
                  <a:lnTo>
                    <a:pt x="1335" y="2402"/>
                  </a:lnTo>
                  <a:lnTo>
                    <a:pt x="1339" y="2390"/>
                  </a:lnTo>
                  <a:lnTo>
                    <a:pt x="1344" y="2378"/>
                  </a:lnTo>
                  <a:lnTo>
                    <a:pt x="1352" y="2367"/>
                  </a:lnTo>
                  <a:lnTo>
                    <a:pt x="1364" y="2361"/>
                  </a:lnTo>
                  <a:lnTo>
                    <a:pt x="1377" y="2359"/>
                  </a:lnTo>
                  <a:lnTo>
                    <a:pt x="1391" y="2353"/>
                  </a:lnTo>
                  <a:lnTo>
                    <a:pt x="1404" y="2351"/>
                  </a:lnTo>
                  <a:lnTo>
                    <a:pt x="1412" y="2355"/>
                  </a:lnTo>
                  <a:lnTo>
                    <a:pt x="1420" y="2367"/>
                  </a:lnTo>
                  <a:lnTo>
                    <a:pt x="1420" y="2377"/>
                  </a:lnTo>
                  <a:lnTo>
                    <a:pt x="1420" y="2394"/>
                  </a:lnTo>
                  <a:lnTo>
                    <a:pt x="1426" y="2398"/>
                  </a:lnTo>
                  <a:lnTo>
                    <a:pt x="1432" y="2408"/>
                  </a:lnTo>
                  <a:lnTo>
                    <a:pt x="1434" y="2413"/>
                  </a:lnTo>
                  <a:lnTo>
                    <a:pt x="1437" y="2423"/>
                  </a:lnTo>
                  <a:lnTo>
                    <a:pt x="1441" y="2435"/>
                  </a:lnTo>
                  <a:lnTo>
                    <a:pt x="1447" y="2452"/>
                  </a:lnTo>
                  <a:lnTo>
                    <a:pt x="1439" y="2456"/>
                  </a:lnTo>
                  <a:lnTo>
                    <a:pt x="1432" y="2460"/>
                  </a:lnTo>
                  <a:lnTo>
                    <a:pt x="1424" y="2460"/>
                  </a:lnTo>
                  <a:lnTo>
                    <a:pt x="1416" y="2460"/>
                  </a:lnTo>
                  <a:lnTo>
                    <a:pt x="1402" y="2460"/>
                  </a:lnTo>
                  <a:lnTo>
                    <a:pt x="1389" y="2462"/>
                  </a:lnTo>
                  <a:close/>
                  <a:moveTo>
                    <a:pt x="3454" y="2441"/>
                  </a:moveTo>
                  <a:lnTo>
                    <a:pt x="3445" y="2429"/>
                  </a:lnTo>
                  <a:lnTo>
                    <a:pt x="3433" y="2419"/>
                  </a:lnTo>
                  <a:lnTo>
                    <a:pt x="3423" y="2402"/>
                  </a:lnTo>
                  <a:lnTo>
                    <a:pt x="3414" y="2390"/>
                  </a:lnTo>
                  <a:lnTo>
                    <a:pt x="3404" y="2375"/>
                  </a:lnTo>
                  <a:lnTo>
                    <a:pt x="3400" y="2361"/>
                  </a:lnTo>
                  <a:lnTo>
                    <a:pt x="3406" y="2351"/>
                  </a:lnTo>
                  <a:lnTo>
                    <a:pt x="3412" y="2345"/>
                  </a:lnTo>
                  <a:lnTo>
                    <a:pt x="3419" y="2340"/>
                  </a:lnTo>
                  <a:lnTo>
                    <a:pt x="3433" y="2336"/>
                  </a:lnTo>
                  <a:lnTo>
                    <a:pt x="3449" y="2342"/>
                  </a:lnTo>
                  <a:lnTo>
                    <a:pt x="3464" y="2351"/>
                  </a:lnTo>
                  <a:lnTo>
                    <a:pt x="3468" y="2361"/>
                  </a:lnTo>
                  <a:lnTo>
                    <a:pt x="3472" y="2371"/>
                  </a:lnTo>
                  <a:lnTo>
                    <a:pt x="3478" y="2380"/>
                  </a:lnTo>
                  <a:lnTo>
                    <a:pt x="3485" y="2394"/>
                  </a:lnTo>
                  <a:lnTo>
                    <a:pt x="3483" y="2402"/>
                  </a:lnTo>
                  <a:lnTo>
                    <a:pt x="3482" y="2413"/>
                  </a:lnTo>
                  <a:lnTo>
                    <a:pt x="3480" y="2427"/>
                  </a:lnTo>
                  <a:lnTo>
                    <a:pt x="3480" y="2441"/>
                  </a:lnTo>
                  <a:lnTo>
                    <a:pt x="3468" y="2441"/>
                  </a:lnTo>
                  <a:lnTo>
                    <a:pt x="3454" y="2441"/>
                  </a:lnTo>
                  <a:close/>
                  <a:moveTo>
                    <a:pt x="3305" y="2377"/>
                  </a:moveTo>
                  <a:lnTo>
                    <a:pt x="3297" y="2369"/>
                  </a:lnTo>
                  <a:lnTo>
                    <a:pt x="3293" y="2361"/>
                  </a:lnTo>
                  <a:lnTo>
                    <a:pt x="3290" y="2353"/>
                  </a:lnTo>
                  <a:lnTo>
                    <a:pt x="3286" y="2345"/>
                  </a:lnTo>
                  <a:lnTo>
                    <a:pt x="3280" y="2332"/>
                  </a:lnTo>
                  <a:lnTo>
                    <a:pt x="3274" y="2318"/>
                  </a:lnTo>
                  <a:lnTo>
                    <a:pt x="3272" y="2307"/>
                  </a:lnTo>
                  <a:lnTo>
                    <a:pt x="3272" y="2295"/>
                  </a:lnTo>
                  <a:lnTo>
                    <a:pt x="3270" y="2283"/>
                  </a:lnTo>
                  <a:lnTo>
                    <a:pt x="3268" y="2272"/>
                  </a:lnTo>
                  <a:lnTo>
                    <a:pt x="3274" y="2264"/>
                  </a:lnTo>
                  <a:lnTo>
                    <a:pt x="3280" y="2262"/>
                  </a:lnTo>
                  <a:lnTo>
                    <a:pt x="3288" y="2270"/>
                  </a:lnTo>
                  <a:lnTo>
                    <a:pt x="3299" y="2280"/>
                  </a:lnTo>
                  <a:lnTo>
                    <a:pt x="3309" y="2289"/>
                  </a:lnTo>
                  <a:lnTo>
                    <a:pt x="3321" y="2301"/>
                  </a:lnTo>
                  <a:lnTo>
                    <a:pt x="3330" y="2309"/>
                  </a:lnTo>
                  <a:lnTo>
                    <a:pt x="3342" y="2318"/>
                  </a:lnTo>
                  <a:lnTo>
                    <a:pt x="3352" y="2328"/>
                  </a:lnTo>
                  <a:lnTo>
                    <a:pt x="3363" y="2340"/>
                  </a:lnTo>
                  <a:lnTo>
                    <a:pt x="3363" y="2353"/>
                  </a:lnTo>
                  <a:lnTo>
                    <a:pt x="3363" y="2367"/>
                  </a:lnTo>
                  <a:lnTo>
                    <a:pt x="3352" y="2371"/>
                  </a:lnTo>
                  <a:lnTo>
                    <a:pt x="3338" y="2377"/>
                  </a:lnTo>
                  <a:lnTo>
                    <a:pt x="3321" y="2377"/>
                  </a:lnTo>
                  <a:lnTo>
                    <a:pt x="3305" y="2377"/>
                  </a:lnTo>
                  <a:close/>
                  <a:moveTo>
                    <a:pt x="3501" y="2357"/>
                  </a:moveTo>
                  <a:lnTo>
                    <a:pt x="3516" y="2355"/>
                  </a:lnTo>
                  <a:lnTo>
                    <a:pt x="3532" y="2353"/>
                  </a:lnTo>
                  <a:lnTo>
                    <a:pt x="3547" y="2351"/>
                  </a:lnTo>
                  <a:lnTo>
                    <a:pt x="3565" y="2351"/>
                  </a:lnTo>
                  <a:lnTo>
                    <a:pt x="3565" y="2338"/>
                  </a:lnTo>
                  <a:lnTo>
                    <a:pt x="3565" y="2324"/>
                  </a:lnTo>
                  <a:lnTo>
                    <a:pt x="3555" y="2313"/>
                  </a:lnTo>
                  <a:lnTo>
                    <a:pt x="3547" y="2301"/>
                  </a:lnTo>
                  <a:lnTo>
                    <a:pt x="3542" y="2289"/>
                  </a:lnTo>
                  <a:lnTo>
                    <a:pt x="3538" y="2281"/>
                  </a:lnTo>
                  <a:lnTo>
                    <a:pt x="3524" y="2281"/>
                  </a:lnTo>
                  <a:lnTo>
                    <a:pt x="3516" y="2281"/>
                  </a:lnTo>
                  <a:lnTo>
                    <a:pt x="3507" y="2289"/>
                  </a:lnTo>
                  <a:lnTo>
                    <a:pt x="3501" y="2299"/>
                  </a:lnTo>
                  <a:lnTo>
                    <a:pt x="3491" y="2309"/>
                  </a:lnTo>
                  <a:lnTo>
                    <a:pt x="3485" y="2318"/>
                  </a:lnTo>
                  <a:lnTo>
                    <a:pt x="3485" y="2326"/>
                  </a:lnTo>
                  <a:lnTo>
                    <a:pt x="3485" y="2336"/>
                  </a:lnTo>
                  <a:lnTo>
                    <a:pt x="3493" y="2347"/>
                  </a:lnTo>
                  <a:lnTo>
                    <a:pt x="3501" y="2357"/>
                  </a:lnTo>
                  <a:close/>
                  <a:moveTo>
                    <a:pt x="3381" y="2309"/>
                  </a:moveTo>
                  <a:lnTo>
                    <a:pt x="3390" y="2303"/>
                  </a:lnTo>
                  <a:lnTo>
                    <a:pt x="3400" y="2303"/>
                  </a:lnTo>
                  <a:lnTo>
                    <a:pt x="3400" y="2287"/>
                  </a:lnTo>
                  <a:lnTo>
                    <a:pt x="3400" y="2278"/>
                  </a:lnTo>
                  <a:lnTo>
                    <a:pt x="3390" y="2247"/>
                  </a:lnTo>
                  <a:lnTo>
                    <a:pt x="3385" y="2223"/>
                  </a:lnTo>
                  <a:lnTo>
                    <a:pt x="3379" y="2204"/>
                  </a:lnTo>
                  <a:lnTo>
                    <a:pt x="3375" y="2192"/>
                  </a:lnTo>
                  <a:lnTo>
                    <a:pt x="3371" y="2181"/>
                  </a:lnTo>
                  <a:lnTo>
                    <a:pt x="3367" y="2171"/>
                  </a:lnTo>
                  <a:lnTo>
                    <a:pt x="3363" y="2159"/>
                  </a:lnTo>
                  <a:lnTo>
                    <a:pt x="3359" y="2150"/>
                  </a:lnTo>
                  <a:lnTo>
                    <a:pt x="3348" y="2153"/>
                  </a:lnTo>
                  <a:lnTo>
                    <a:pt x="3338" y="2155"/>
                  </a:lnTo>
                  <a:lnTo>
                    <a:pt x="3324" y="2157"/>
                  </a:lnTo>
                  <a:lnTo>
                    <a:pt x="3317" y="2163"/>
                  </a:lnTo>
                  <a:lnTo>
                    <a:pt x="3307" y="2171"/>
                  </a:lnTo>
                  <a:lnTo>
                    <a:pt x="3295" y="2186"/>
                  </a:lnTo>
                  <a:lnTo>
                    <a:pt x="3290" y="2200"/>
                  </a:lnTo>
                  <a:lnTo>
                    <a:pt x="3290" y="2214"/>
                  </a:lnTo>
                  <a:lnTo>
                    <a:pt x="3299" y="2225"/>
                  </a:lnTo>
                  <a:lnTo>
                    <a:pt x="3307" y="2237"/>
                  </a:lnTo>
                  <a:lnTo>
                    <a:pt x="3315" y="2247"/>
                  </a:lnTo>
                  <a:lnTo>
                    <a:pt x="3324" y="2256"/>
                  </a:lnTo>
                  <a:lnTo>
                    <a:pt x="3332" y="2264"/>
                  </a:lnTo>
                  <a:lnTo>
                    <a:pt x="3346" y="2276"/>
                  </a:lnTo>
                  <a:lnTo>
                    <a:pt x="3359" y="2289"/>
                  </a:lnTo>
                  <a:lnTo>
                    <a:pt x="3381" y="2309"/>
                  </a:lnTo>
                  <a:close/>
                  <a:moveTo>
                    <a:pt x="3443" y="2293"/>
                  </a:moveTo>
                  <a:lnTo>
                    <a:pt x="3435" y="2276"/>
                  </a:lnTo>
                  <a:lnTo>
                    <a:pt x="3429" y="2258"/>
                  </a:lnTo>
                  <a:lnTo>
                    <a:pt x="3423" y="2241"/>
                  </a:lnTo>
                  <a:lnTo>
                    <a:pt x="3418" y="2223"/>
                  </a:lnTo>
                  <a:lnTo>
                    <a:pt x="3412" y="2206"/>
                  </a:lnTo>
                  <a:lnTo>
                    <a:pt x="3408" y="2190"/>
                  </a:lnTo>
                  <a:lnTo>
                    <a:pt x="3406" y="2177"/>
                  </a:lnTo>
                  <a:lnTo>
                    <a:pt x="3406" y="2171"/>
                  </a:lnTo>
                  <a:lnTo>
                    <a:pt x="3419" y="2181"/>
                  </a:lnTo>
                  <a:lnTo>
                    <a:pt x="3433" y="2188"/>
                  </a:lnTo>
                  <a:lnTo>
                    <a:pt x="3443" y="2194"/>
                  </a:lnTo>
                  <a:lnTo>
                    <a:pt x="3452" y="2202"/>
                  </a:lnTo>
                  <a:lnTo>
                    <a:pt x="3458" y="2206"/>
                  </a:lnTo>
                  <a:lnTo>
                    <a:pt x="3468" y="2212"/>
                  </a:lnTo>
                  <a:lnTo>
                    <a:pt x="3478" y="2219"/>
                  </a:lnTo>
                  <a:lnTo>
                    <a:pt x="3491" y="2229"/>
                  </a:lnTo>
                  <a:lnTo>
                    <a:pt x="3491" y="2243"/>
                  </a:lnTo>
                  <a:lnTo>
                    <a:pt x="3491" y="2256"/>
                  </a:lnTo>
                  <a:lnTo>
                    <a:pt x="3480" y="2266"/>
                  </a:lnTo>
                  <a:lnTo>
                    <a:pt x="3464" y="2281"/>
                  </a:lnTo>
                  <a:lnTo>
                    <a:pt x="3454" y="2287"/>
                  </a:lnTo>
                  <a:lnTo>
                    <a:pt x="3443" y="2293"/>
                  </a:lnTo>
                  <a:close/>
                  <a:moveTo>
                    <a:pt x="2330" y="2103"/>
                  </a:moveTo>
                  <a:lnTo>
                    <a:pt x="2221" y="2082"/>
                  </a:lnTo>
                  <a:lnTo>
                    <a:pt x="2139" y="2066"/>
                  </a:lnTo>
                  <a:lnTo>
                    <a:pt x="2079" y="2055"/>
                  </a:lnTo>
                  <a:lnTo>
                    <a:pt x="2039" y="2047"/>
                  </a:lnTo>
                  <a:lnTo>
                    <a:pt x="2008" y="2041"/>
                  </a:lnTo>
                  <a:lnTo>
                    <a:pt x="1988" y="2037"/>
                  </a:lnTo>
                  <a:lnTo>
                    <a:pt x="1973" y="2033"/>
                  </a:lnTo>
                  <a:lnTo>
                    <a:pt x="1959" y="2033"/>
                  </a:lnTo>
                  <a:lnTo>
                    <a:pt x="1947" y="2020"/>
                  </a:lnTo>
                  <a:lnTo>
                    <a:pt x="1938" y="2014"/>
                  </a:lnTo>
                  <a:lnTo>
                    <a:pt x="1924" y="1969"/>
                  </a:lnTo>
                  <a:lnTo>
                    <a:pt x="1914" y="1936"/>
                  </a:lnTo>
                  <a:lnTo>
                    <a:pt x="1905" y="1909"/>
                  </a:lnTo>
                  <a:lnTo>
                    <a:pt x="1899" y="1890"/>
                  </a:lnTo>
                  <a:lnTo>
                    <a:pt x="1889" y="1866"/>
                  </a:lnTo>
                  <a:lnTo>
                    <a:pt x="1882" y="1845"/>
                  </a:lnTo>
                  <a:lnTo>
                    <a:pt x="1870" y="1820"/>
                  </a:lnTo>
                  <a:lnTo>
                    <a:pt x="1858" y="1791"/>
                  </a:lnTo>
                  <a:lnTo>
                    <a:pt x="1802" y="1692"/>
                  </a:lnTo>
                  <a:lnTo>
                    <a:pt x="1761" y="1616"/>
                  </a:lnTo>
                  <a:lnTo>
                    <a:pt x="1728" y="1560"/>
                  </a:lnTo>
                  <a:lnTo>
                    <a:pt x="1705" y="1519"/>
                  </a:lnTo>
                  <a:lnTo>
                    <a:pt x="1686" y="1486"/>
                  </a:lnTo>
                  <a:lnTo>
                    <a:pt x="1672" y="1463"/>
                  </a:lnTo>
                  <a:lnTo>
                    <a:pt x="1658" y="1442"/>
                  </a:lnTo>
                  <a:lnTo>
                    <a:pt x="1647" y="1422"/>
                  </a:lnTo>
                  <a:lnTo>
                    <a:pt x="1633" y="1401"/>
                  </a:lnTo>
                  <a:lnTo>
                    <a:pt x="1620" y="1383"/>
                  </a:lnTo>
                  <a:lnTo>
                    <a:pt x="1606" y="1368"/>
                  </a:lnTo>
                  <a:lnTo>
                    <a:pt x="1594" y="1352"/>
                  </a:lnTo>
                  <a:lnTo>
                    <a:pt x="1585" y="1339"/>
                  </a:lnTo>
                  <a:lnTo>
                    <a:pt x="1575" y="1327"/>
                  </a:lnTo>
                  <a:lnTo>
                    <a:pt x="1563" y="1314"/>
                  </a:lnTo>
                  <a:lnTo>
                    <a:pt x="1552" y="1300"/>
                  </a:lnTo>
                  <a:lnTo>
                    <a:pt x="1534" y="1281"/>
                  </a:lnTo>
                  <a:lnTo>
                    <a:pt x="1519" y="1263"/>
                  </a:lnTo>
                  <a:lnTo>
                    <a:pt x="1501" y="1246"/>
                  </a:lnTo>
                  <a:lnTo>
                    <a:pt x="1486" y="1228"/>
                  </a:lnTo>
                  <a:lnTo>
                    <a:pt x="1468" y="1211"/>
                  </a:lnTo>
                  <a:lnTo>
                    <a:pt x="1451" y="1193"/>
                  </a:lnTo>
                  <a:lnTo>
                    <a:pt x="1434" y="1176"/>
                  </a:lnTo>
                  <a:lnTo>
                    <a:pt x="1416" y="1158"/>
                  </a:lnTo>
                  <a:lnTo>
                    <a:pt x="1406" y="1153"/>
                  </a:lnTo>
                  <a:lnTo>
                    <a:pt x="1397" y="1145"/>
                  </a:lnTo>
                  <a:lnTo>
                    <a:pt x="1379" y="1133"/>
                  </a:lnTo>
                  <a:lnTo>
                    <a:pt x="1362" y="1122"/>
                  </a:lnTo>
                  <a:lnTo>
                    <a:pt x="1339" y="1104"/>
                  </a:lnTo>
                  <a:lnTo>
                    <a:pt x="1313" y="1087"/>
                  </a:lnTo>
                  <a:lnTo>
                    <a:pt x="1282" y="1065"/>
                  </a:lnTo>
                  <a:lnTo>
                    <a:pt x="1251" y="1046"/>
                  </a:lnTo>
                  <a:lnTo>
                    <a:pt x="1240" y="1042"/>
                  </a:lnTo>
                  <a:lnTo>
                    <a:pt x="1230" y="1038"/>
                  </a:lnTo>
                  <a:lnTo>
                    <a:pt x="1216" y="1032"/>
                  </a:lnTo>
                  <a:lnTo>
                    <a:pt x="1203" y="1028"/>
                  </a:lnTo>
                  <a:lnTo>
                    <a:pt x="1183" y="1021"/>
                  </a:lnTo>
                  <a:lnTo>
                    <a:pt x="1160" y="1013"/>
                  </a:lnTo>
                  <a:lnTo>
                    <a:pt x="1133" y="1005"/>
                  </a:lnTo>
                  <a:lnTo>
                    <a:pt x="1104" y="999"/>
                  </a:lnTo>
                  <a:lnTo>
                    <a:pt x="1092" y="996"/>
                  </a:lnTo>
                  <a:lnTo>
                    <a:pt x="1081" y="994"/>
                  </a:lnTo>
                  <a:lnTo>
                    <a:pt x="1069" y="994"/>
                  </a:lnTo>
                  <a:lnTo>
                    <a:pt x="1059" y="994"/>
                  </a:lnTo>
                  <a:lnTo>
                    <a:pt x="1048" y="994"/>
                  </a:lnTo>
                  <a:lnTo>
                    <a:pt x="1036" y="994"/>
                  </a:lnTo>
                  <a:lnTo>
                    <a:pt x="1024" y="994"/>
                  </a:lnTo>
                  <a:lnTo>
                    <a:pt x="1015" y="994"/>
                  </a:lnTo>
                  <a:lnTo>
                    <a:pt x="1003" y="994"/>
                  </a:lnTo>
                  <a:lnTo>
                    <a:pt x="993" y="994"/>
                  </a:lnTo>
                  <a:lnTo>
                    <a:pt x="982" y="994"/>
                  </a:lnTo>
                  <a:lnTo>
                    <a:pt x="972" y="996"/>
                  </a:lnTo>
                  <a:lnTo>
                    <a:pt x="960" y="997"/>
                  </a:lnTo>
                  <a:lnTo>
                    <a:pt x="949" y="999"/>
                  </a:lnTo>
                  <a:lnTo>
                    <a:pt x="939" y="1001"/>
                  </a:lnTo>
                  <a:lnTo>
                    <a:pt x="929" y="1005"/>
                  </a:lnTo>
                  <a:lnTo>
                    <a:pt x="918" y="1015"/>
                  </a:lnTo>
                  <a:lnTo>
                    <a:pt x="906" y="1027"/>
                  </a:lnTo>
                  <a:lnTo>
                    <a:pt x="896" y="1032"/>
                  </a:lnTo>
                  <a:lnTo>
                    <a:pt x="885" y="1044"/>
                  </a:lnTo>
                  <a:lnTo>
                    <a:pt x="867" y="1056"/>
                  </a:lnTo>
                  <a:lnTo>
                    <a:pt x="846" y="1073"/>
                  </a:lnTo>
                  <a:lnTo>
                    <a:pt x="836" y="1085"/>
                  </a:lnTo>
                  <a:lnTo>
                    <a:pt x="827" y="1096"/>
                  </a:lnTo>
                  <a:lnTo>
                    <a:pt x="817" y="1108"/>
                  </a:lnTo>
                  <a:lnTo>
                    <a:pt x="807" y="1120"/>
                  </a:lnTo>
                  <a:lnTo>
                    <a:pt x="795" y="1131"/>
                  </a:lnTo>
                  <a:lnTo>
                    <a:pt x="786" y="1143"/>
                  </a:lnTo>
                  <a:lnTo>
                    <a:pt x="774" y="1155"/>
                  </a:lnTo>
                  <a:lnTo>
                    <a:pt x="766" y="1168"/>
                  </a:lnTo>
                  <a:lnTo>
                    <a:pt x="761" y="1182"/>
                  </a:lnTo>
                  <a:lnTo>
                    <a:pt x="757" y="1197"/>
                  </a:lnTo>
                  <a:lnTo>
                    <a:pt x="751" y="1213"/>
                  </a:lnTo>
                  <a:lnTo>
                    <a:pt x="747" y="1228"/>
                  </a:lnTo>
                  <a:lnTo>
                    <a:pt x="741" y="1242"/>
                  </a:lnTo>
                  <a:lnTo>
                    <a:pt x="735" y="1257"/>
                  </a:lnTo>
                  <a:lnTo>
                    <a:pt x="731" y="1273"/>
                  </a:lnTo>
                  <a:lnTo>
                    <a:pt x="730" y="1290"/>
                  </a:lnTo>
                  <a:lnTo>
                    <a:pt x="726" y="1304"/>
                  </a:lnTo>
                  <a:lnTo>
                    <a:pt x="724" y="1319"/>
                  </a:lnTo>
                  <a:lnTo>
                    <a:pt x="724" y="1335"/>
                  </a:lnTo>
                  <a:lnTo>
                    <a:pt x="724" y="1352"/>
                  </a:lnTo>
                  <a:lnTo>
                    <a:pt x="722" y="1368"/>
                  </a:lnTo>
                  <a:lnTo>
                    <a:pt x="720" y="1383"/>
                  </a:lnTo>
                  <a:lnTo>
                    <a:pt x="718" y="1399"/>
                  </a:lnTo>
                  <a:lnTo>
                    <a:pt x="718" y="1416"/>
                  </a:lnTo>
                  <a:lnTo>
                    <a:pt x="718" y="1428"/>
                  </a:lnTo>
                  <a:lnTo>
                    <a:pt x="718" y="1440"/>
                  </a:lnTo>
                  <a:lnTo>
                    <a:pt x="718" y="1451"/>
                  </a:lnTo>
                  <a:lnTo>
                    <a:pt x="720" y="1465"/>
                  </a:lnTo>
                  <a:lnTo>
                    <a:pt x="720" y="1478"/>
                  </a:lnTo>
                  <a:lnTo>
                    <a:pt x="722" y="1492"/>
                  </a:lnTo>
                  <a:lnTo>
                    <a:pt x="722" y="1506"/>
                  </a:lnTo>
                  <a:lnTo>
                    <a:pt x="724" y="1521"/>
                  </a:lnTo>
                  <a:lnTo>
                    <a:pt x="726" y="1533"/>
                  </a:lnTo>
                  <a:lnTo>
                    <a:pt x="728" y="1546"/>
                  </a:lnTo>
                  <a:lnTo>
                    <a:pt x="730" y="1562"/>
                  </a:lnTo>
                  <a:lnTo>
                    <a:pt x="733" y="1579"/>
                  </a:lnTo>
                  <a:lnTo>
                    <a:pt x="735" y="1597"/>
                  </a:lnTo>
                  <a:lnTo>
                    <a:pt x="739" y="1622"/>
                  </a:lnTo>
                  <a:lnTo>
                    <a:pt x="743" y="1647"/>
                  </a:lnTo>
                  <a:lnTo>
                    <a:pt x="751" y="1680"/>
                  </a:lnTo>
                  <a:lnTo>
                    <a:pt x="730" y="1674"/>
                  </a:lnTo>
                  <a:lnTo>
                    <a:pt x="716" y="1670"/>
                  </a:lnTo>
                  <a:lnTo>
                    <a:pt x="704" y="1667"/>
                  </a:lnTo>
                  <a:lnTo>
                    <a:pt x="699" y="1665"/>
                  </a:lnTo>
                  <a:lnTo>
                    <a:pt x="689" y="1661"/>
                  </a:lnTo>
                  <a:lnTo>
                    <a:pt x="687" y="1659"/>
                  </a:lnTo>
                  <a:lnTo>
                    <a:pt x="671" y="1655"/>
                  </a:lnTo>
                  <a:lnTo>
                    <a:pt x="658" y="1653"/>
                  </a:lnTo>
                  <a:lnTo>
                    <a:pt x="646" y="1649"/>
                  </a:lnTo>
                  <a:lnTo>
                    <a:pt x="635" y="1647"/>
                  </a:lnTo>
                  <a:lnTo>
                    <a:pt x="621" y="1643"/>
                  </a:lnTo>
                  <a:lnTo>
                    <a:pt x="609" y="1641"/>
                  </a:lnTo>
                  <a:lnTo>
                    <a:pt x="598" y="1638"/>
                  </a:lnTo>
                  <a:lnTo>
                    <a:pt x="586" y="1638"/>
                  </a:lnTo>
                  <a:lnTo>
                    <a:pt x="576" y="1630"/>
                  </a:lnTo>
                  <a:lnTo>
                    <a:pt x="569" y="1626"/>
                  </a:lnTo>
                  <a:lnTo>
                    <a:pt x="561" y="1622"/>
                  </a:lnTo>
                  <a:lnTo>
                    <a:pt x="549" y="1616"/>
                  </a:lnTo>
                  <a:lnTo>
                    <a:pt x="534" y="1599"/>
                  </a:lnTo>
                  <a:lnTo>
                    <a:pt x="520" y="1585"/>
                  </a:lnTo>
                  <a:lnTo>
                    <a:pt x="508" y="1575"/>
                  </a:lnTo>
                  <a:lnTo>
                    <a:pt x="495" y="1566"/>
                  </a:lnTo>
                  <a:lnTo>
                    <a:pt x="477" y="1550"/>
                  </a:lnTo>
                  <a:lnTo>
                    <a:pt x="454" y="1533"/>
                  </a:lnTo>
                  <a:lnTo>
                    <a:pt x="437" y="1523"/>
                  </a:lnTo>
                  <a:lnTo>
                    <a:pt x="421" y="1515"/>
                  </a:lnTo>
                  <a:lnTo>
                    <a:pt x="406" y="1510"/>
                  </a:lnTo>
                  <a:lnTo>
                    <a:pt x="390" y="1504"/>
                  </a:lnTo>
                  <a:lnTo>
                    <a:pt x="375" y="1496"/>
                  </a:lnTo>
                  <a:lnTo>
                    <a:pt x="361" y="1488"/>
                  </a:lnTo>
                  <a:lnTo>
                    <a:pt x="346" y="1480"/>
                  </a:lnTo>
                  <a:lnTo>
                    <a:pt x="334" y="1475"/>
                  </a:lnTo>
                  <a:lnTo>
                    <a:pt x="320" y="1473"/>
                  </a:lnTo>
                  <a:lnTo>
                    <a:pt x="309" y="1471"/>
                  </a:lnTo>
                  <a:lnTo>
                    <a:pt x="297" y="1467"/>
                  </a:lnTo>
                  <a:lnTo>
                    <a:pt x="291" y="1463"/>
                  </a:lnTo>
                  <a:lnTo>
                    <a:pt x="280" y="1451"/>
                  </a:lnTo>
                  <a:lnTo>
                    <a:pt x="270" y="1440"/>
                  </a:lnTo>
                  <a:lnTo>
                    <a:pt x="258" y="1428"/>
                  </a:lnTo>
                  <a:lnTo>
                    <a:pt x="249" y="1416"/>
                  </a:lnTo>
                  <a:lnTo>
                    <a:pt x="219" y="1368"/>
                  </a:lnTo>
                  <a:lnTo>
                    <a:pt x="198" y="1333"/>
                  </a:lnTo>
                  <a:lnTo>
                    <a:pt x="179" y="1304"/>
                  </a:lnTo>
                  <a:lnTo>
                    <a:pt x="165" y="1281"/>
                  </a:lnTo>
                  <a:lnTo>
                    <a:pt x="152" y="1255"/>
                  </a:lnTo>
                  <a:lnTo>
                    <a:pt x="138" y="1230"/>
                  </a:lnTo>
                  <a:lnTo>
                    <a:pt x="123" y="1199"/>
                  </a:lnTo>
                  <a:lnTo>
                    <a:pt x="105" y="1162"/>
                  </a:lnTo>
                  <a:lnTo>
                    <a:pt x="90" y="1127"/>
                  </a:lnTo>
                  <a:lnTo>
                    <a:pt x="76" y="1092"/>
                  </a:lnTo>
                  <a:lnTo>
                    <a:pt x="64" y="1058"/>
                  </a:lnTo>
                  <a:lnTo>
                    <a:pt x="53" y="1025"/>
                  </a:lnTo>
                  <a:lnTo>
                    <a:pt x="41" y="990"/>
                  </a:lnTo>
                  <a:lnTo>
                    <a:pt x="29" y="955"/>
                  </a:lnTo>
                  <a:lnTo>
                    <a:pt x="18" y="922"/>
                  </a:lnTo>
                  <a:lnTo>
                    <a:pt x="6" y="889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4"/>
                  </a:lnTo>
                  <a:lnTo>
                    <a:pt x="0" y="831"/>
                  </a:lnTo>
                  <a:lnTo>
                    <a:pt x="8" y="815"/>
                  </a:lnTo>
                  <a:lnTo>
                    <a:pt x="16" y="805"/>
                  </a:lnTo>
                  <a:lnTo>
                    <a:pt x="20" y="796"/>
                  </a:lnTo>
                  <a:lnTo>
                    <a:pt x="26" y="792"/>
                  </a:lnTo>
                  <a:lnTo>
                    <a:pt x="33" y="782"/>
                  </a:lnTo>
                  <a:lnTo>
                    <a:pt x="43" y="776"/>
                  </a:lnTo>
                  <a:lnTo>
                    <a:pt x="70" y="772"/>
                  </a:lnTo>
                  <a:lnTo>
                    <a:pt x="97" y="771"/>
                  </a:lnTo>
                  <a:lnTo>
                    <a:pt x="124" y="767"/>
                  </a:lnTo>
                  <a:lnTo>
                    <a:pt x="154" y="765"/>
                  </a:lnTo>
                  <a:lnTo>
                    <a:pt x="181" y="761"/>
                  </a:lnTo>
                  <a:lnTo>
                    <a:pt x="208" y="757"/>
                  </a:lnTo>
                  <a:lnTo>
                    <a:pt x="235" y="753"/>
                  </a:lnTo>
                  <a:lnTo>
                    <a:pt x="264" y="751"/>
                  </a:lnTo>
                  <a:lnTo>
                    <a:pt x="342" y="745"/>
                  </a:lnTo>
                  <a:lnTo>
                    <a:pt x="423" y="743"/>
                  </a:lnTo>
                  <a:lnTo>
                    <a:pt x="503" y="739"/>
                  </a:lnTo>
                  <a:lnTo>
                    <a:pt x="584" y="739"/>
                  </a:lnTo>
                  <a:lnTo>
                    <a:pt x="658" y="738"/>
                  </a:lnTo>
                  <a:lnTo>
                    <a:pt x="726" y="738"/>
                  </a:lnTo>
                  <a:lnTo>
                    <a:pt x="784" y="736"/>
                  </a:lnTo>
                  <a:lnTo>
                    <a:pt x="834" y="736"/>
                  </a:lnTo>
                  <a:lnTo>
                    <a:pt x="912" y="739"/>
                  </a:lnTo>
                  <a:lnTo>
                    <a:pt x="974" y="743"/>
                  </a:lnTo>
                  <a:lnTo>
                    <a:pt x="1019" y="745"/>
                  </a:lnTo>
                  <a:lnTo>
                    <a:pt x="1055" y="749"/>
                  </a:lnTo>
                  <a:lnTo>
                    <a:pt x="1083" y="751"/>
                  </a:lnTo>
                  <a:lnTo>
                    <a:pt x="1108" y="753"/>
                  </a:lnTo>
                  <a:lnTo>
                    <a:pt x="1131" y="755"/>
                  </a:lnTo>
                  <a:lnTo>
                    <a:pt x="1162" y="761"/>
                  </a:lnTo>
                  <a:lnTo>
                    <a:pt x="1164" y="761"/>
                  </a:lnTo>
                  <a:lnTo>
                    <a:pt x="1174" y="761"/>
                  </a:lnTo>
                  <a:lnTo>
                    <a:pt x="1179" y="761"/>
                  </a:lnTo>
                  <a:lnTo>
                    <a:pt x="1191" y="765"/>
                  </a:lnTo>
                  <a:lnTo>
                    <a:pt x="1205" y="767"/>
                  </a:lnTo>
                  <a:lnTo>
                    <a:pt x="1226" y="772"/>
                  </a:lnTo>
                  <a:lnTo>
                    <a:pt x="1240" y="772"/>
                  </a:lnTo>
                  <a:lnTo>
                    <a:pt x="1255" y="772"/>
                  </a:lnTo>
                  <a:lnTo>
                    <a:pt x="1267" y="772"/>
                  </a:lnTo>
                  <a:lnTo>
                    <a:pt x="1284" y="772"/>
                  </a:lnTo>
                  <a:lnTo>
                    <a:pt x="1340" y="790"/>
                  </a:lnTo>
                  <a:lnTo>
                    <a:pt x="1385" y="807"/>
                  </a:lnTo>
                  <a:lnTo>
                    <a:pt x="1420" y="819"/>
                  </a:lnTo>
                  <a:lnTo>
                    <a:pt x="1449" y="831"/>
                  </a:lnTo>
                  <a:lnTo>
                    <a:pt x="1470" y="838"/>
                  </a:lnTo>
                  <a:lnTo>
                    <a:pt x="1492" y="848"/>
                  </a:lnTo>
                  <a:lnTo>
                    <a:pt x="1511" y="856"/>
                  </a:lnTo>
                  <a:lnTo>
                    <a:pt x="1536" y="867"/>
                  </a:lnTo>
                  <a:lnTo>
                    <a:pt x="1546" y="867"/>
                  </a:lnTo>
                  <a:lnTo>
                    <a:pt x="1563" y="871"/>
                  </a:lnTo>
                  <a:lnTo>
                    <a:pt x="1571" y="877"/>
                  </a:lnTo>
                  <a:lnTo>
                    <a:pt x="1583" y="885"/>
                  </a:lnTo>
                  <a:lnTo>
                    <a:pt x="1596" y="893"/>
                  </a:lnTo>
                  <a:lnTo>
                    <a:pt x="1612" y="902"/>
                  </a:lnTo>
                  <a:lnTo>
                    <a:pt x="1624" y="910"/>
                  </a:lnTo>
                  <a:lnTo>
                    <a:pt x="1635" y="918"/>
                  </a:lnTo>
                  <a:lnTo>
                    <a:pt x="1645" y="924"/>
                  </a:lnTo>
                  <a:lnTo>
                    <a:pt x="1653" y="930"/>
                  </a:lnTo>
                  <a:lnTo>
                    <a:pt x="1660" y="928"/>
                  </a:lnTo>
                  <a:lnTo>
                    <a:pt x="1666" y="928"/>
                  </a:lnTo>
                  <a:lnTo>
                    <a:pt x="1668" y="926"/>
                  </a:lnTo>
                  <a:lnTo>
                    <a:pt x="1674" y="926"/>
                  </a:lnTo>
                  <a:lnTo>
                    <a:pt x="1672" y="916"/>
                  </a:lnTo>
                  <a:lnTo>
                    <a:pt x="1672" y="906"/>
                  </a:lnTo>
                  <a:lnTo>
                    <a:pt x="1670" y="895"/>
                  </a:lnTo>
                  <a:lnTo>
                    <a:pt x="1668" y="889"/>
                  </a:lnTo>
                  <a:lnTo>
                    <a:pt x="1639" y="875"/>
                  </a:lnTo>
                  <a:lnTo>
                    <a:pt x="1618" y="866"/>
                  </a:lnTo>
                  <a:lnTo>
                    <a:pt x="1602" y="858"/>
                  </a:lnTo>
                  <a:lnTo>
                    <a:pt x="1593" y="854"/>
                  </a:lnTo>
                  <a:lnTo>
                    <a:pt x="1579" y="846"/>
                  </a:lnTo>
                  <a:lnTo>
                    <a:pt x="1573" y="840"/>
                  </a:lnTo>
                  <a:lnTo>
                    <a:pt x="1546" y="831"/>
                  </a:lnTo>
                  <a:lnTo>
                    <a:pt x="1527" y="823"/>
                  </a:lnTo>
                  <a:lnTo>
                    <a:pt x="1509" y="817"/>
                  </a:lnTo>
                  <a:lnTo>
                    <a:pt x="1498" y="813"/>
                  </a:lnTo>
                  <a:lnTo>
                    <a:pt x="1486" y="807"/>
                  </a:lnTo>
                  <a:lnTo>
                    <a:pt x="1474" y="803"/>
                  </a:lnTo>
                  <a:lnTo>
                    <a:pt x="1461" y="796"/>
                  </a:lnTo>
                  <a:lnTo>
                    <a:pt x="1447" y="788"/>
                  </a:lnTo>
                  <a:lnTo>
                    <a:pt x="1441" y="778"/>
                  </a:lnTo>
                  <a:lnTo>
                    <a:pt x="1441" y="772"/>
                  </a:lnTo>
                  <a:lnTo>
                    <a:pt x="1480" y="772"/>
                  </a:lnTo>
                  <a:lnTo>
                    <a:pt x="1527" y="772"/>
                  </a:lnTo>
                  <a:lnTo>
                    <a:pt x="1577" y="772"/>
                  </a:lnTo>
                  <a:lnTo>
                    <a:pt x="1627" y="774"/>
                  </a:lnTo>
                  <a:lnTo>
                    <a:pt x="1672" y="774"/>
                  </a:lnTo>
                  <a:lnTo>
                    <a:pt x="1711" y="774"/>
                  </a:lnTo>
                  <a:lnTo>
                    <a:pt x="1736" y="774"/>
                  </a:lnTo>
                  <a:lnTo>
                    <a:pt x="1748" y="776"/>
                  </a:lnTo>
                  <a:lnTo>
                    <a:pt x="1980" y="786"/>
                  </a:lnTo>
                  <a:lnTo>
                    <a:pt x="2155" y="794"/>
                  </a:lnTo>
                  <a:lnTo>
                    <a:pt x="2283" y="798"/>
                  </a:lnTo>
                  <a:lnTo>
                    <a:pt x="2370" y="803"/>
                  </a:lnTo>
                  <a:lnTo>
                    <a:pt x="2423" y="803"/>
                  </a:lnTo>
                  <a:lnTo>
                    <a:pt x="2456" y="805"/>
                  </a:lnTo>
                  <a:lnTo>
                    <a:pt x="2471" y="803"/>
                  </a:lnTo>
                  <a:lnTo>
                    <a:pt x="2483" y="803"/>
                  </a:lnTo>
                  <a:lnTo>
                    <a:pt x="2483" y="792"/>
                  </a:lnTo>
                  <a:lnTo>
                    <a:pt x="2487" y="782"/>
                  </a:lnTo>
                  <a:lnTo>
                    <a:pt x="2489" y="772"/>
                  </a:lnTo>
                  <a:lnTo>
                    <a:pt x="2492" y="767"/>
                  </a:lnTo>
                  <a:lnTo>
                    <a:pt x="2494" y="757"/>
                  </a:lnTo>
                  <a:lnTo>
                    <a:pt x="2498" y="749"/>
                  </a:lnTo>
                  <a:lnTo>
                    <a:pt x="2502" y="739"/>
                  </a:lnTo>
                  <a:lnTo>
                    <a:pt x="2508" y="730"/>
                  </a:lnTo>
                  <a:lnTo>
                    <a:pt x="2510" y="685"/>
                  </a:lnTo>
                  <a:lnTo>
                    <a:pt x="2516" y="648"/>
                  </a:lnTo>
                  <a:lnTo>
                    <a:pt x="2518" y="615"/>
                  </a:lnTo>
                  <a:lnTo>
                    <a:pt x="2523" y="590"/>
                  </a:lnTo>
                  <a:lnTo>
                    <a:pt x="2525" y="563"/>
                  </a:lnTo>
                  <a:lnTo>
                    <a:pt x="2529" y="538"/>
                  </a:lnTo>
                  <a:lnTo>
                    <a:pt x="2531" y="511"/>
                  </a:lnTo>
                  <a:lnTo>
                    <a:pt x="2535" y="482"/>
                  </a:lnTo>
                  <a:lnTo>
                    <a:pt x="2537" y="470"/>
                  </a:lnTo>
                  <a:lnTo>
                    <a:pt x="2541" y="460"/>
                  </a:lnTo>
                  <a:lnTo>
                    <a:pt x="2543" y="449"/>
                  </a:lnTo>
                  <a:lnTo>
                    <a:pt x="2547" y="439"/>
                  </a:lnTo>
                  <a:lnTo>
                    <a:pt x="2549" y="427"/>
                  </a:lnTo>
                  <a:lnTo>
                    <a:pt x="2551" y="416"/>
                  </a:lnTo>
                  <a:lnTo>
                    <a:pt x="2553" y="406"/>
                  </a:lnTo>
                  <a:lnTo>
                    <a:pt x="2556" y="396"/>
                  </a:lnTo>
                  <a:lnTo>
                    <a:pt x="2556" y="385"/>
                  </a:lnTo>
                  <a:lnTo>
                    <a:pt x="2556" y="375"/>
                  </a:lnTo>
                  <a:lnTo>
                    <a:pt x="2556" y="365"/>
                  </a:lnTo>
                  <a:lnTo>
                    <a:pt x="2556" y="355"/>
                  </a:lnTo>
                  <a:lnTo>
                    <a:pt x="2558" y="344"/>
                  </a:lnTo>
                  <a:lnTo>
                    <a:pt x="2562" y="334"/>
                  </a:lnTo>
                  <a:lnTo>
                    <a:pt x="2564" y="322"/>
                  </a:lnTo>
                  <a:lnTo>
                    <a:pt x="2568" y="313"/>
                  </a:lnTo>
                  <a:lnTo>
                    <a:pt x="2570" y="301"/>
                  </a:lnTo>
                  <a:lnTo>
                    <a:pt x="2572" y="291"/>
                  </a:lnTo>
                  <a:lnTo>
                    <a:pt x="2574" y="280"/>
                  </a:lnTo>
                  <a:lnTo>
                    <a:pt x="2578" y="270"/>
                  </a:lnTo>
                  <a:lnTo>
                    <a:pt x="2578" y="237"/>
                  </a:lnTo>
                  <a:lnTo>
                    <a:pt x="2578" y="214"/>
                  </a:lnTo>
                  <a:lnTo>
                    <a:pt x="2578" y="194"/>
                  </a:lnTo>
                  <a:lnTo>
                    <a:pt x="2580" y="183"/>
                  </a:lnTo>
                  <a:lnTo>
                    <a:pt x="2578" y="165"/>
                  </a:lnTo>
                  <a:lnTo>
                    <a:pt x="2578" y="154"/>
                  </a:lnTo>
                  <a:lnTo>
                    <a:pt x="2566" y="148"/>
                  </a:lnTo>
                  <a:lnTo>
                    <a:pt x="2556" y="144"/>
                  </a:lnTo>
                  <a:lnTo>
                    <a:pt x="2545" y="138"/>
                  </a:lnTo>
                  <a:lnTo>
                    <a:pt x="2535" y="132"/>
                  </a:lnTo>
                  <a:lnTo>
                    <a:pt x="2508" y="127"/>
                  </a:lnTo>
                  <a:lnTo>
                    <a:pt x="2483" y="123"/>
                  </a:lnTo>
                  <a:lnTo>
                    <a:pt x="2456" y="117"/>
                  </a:lnTo>
                  <a:lnTo>
                    <a:pt x="2432" y="113"/>
                  </a:lnTo>
                  <a:lnTo>
                    <a:pt x="2405" y="107"/>
                  </a:lnTo>
                  <a:lnTo>
                    <a:pt x="2380" y="103"/>
                  </a:lnTo>
                  <a:lnTo>
                    <a:pt x="2353" y="99"/>
                  </a:lnTo>
                  <a:lnTo>
                    <a:pt x="2330" y="96"/>
                  </a:lnTo>
                  <a:lnTo>
                    <a:pt x="2302" y="92"/>
                  </a:lnTo>
                  <a:lnTo>
                    <a:pt x="2277" y="90"/>
                  </a:lnTo>
                  <a:lnTo>
                    <a:pt x="2250" y="86"/>
                  </a:lnTo>
                  <a:lnTo>
                    <a:pt x="2225" y="84"/>
                  </a:lnTo>
                  <a:lnTo>
                    <a:pt x="2198" y="80"/>
                  </a:lnTo>
                  <a:lnTo>
                    <a:pt x="2174" y="78"/>
                  </a:lnTo>
                  <a:lnTo>
                    <a:pt x="2147" y="74"/>
                  </a:lnTo>
                  <a:lnTo>
                    <a:pt x="2124" y="74"/>
                  </a:lnTo>
                  <a:lnTo>
                    <a:pt x="2099" y="74"/>
                  </a:lnTo>
                  <a:lnTo>
                    <a:pt x="2075" y="74"/>
                  </a:lnTo>
                  <a:lnTo>
                    <a:pt x="2052" y="74"/>
                  </a:lnTo>
                  <a:lnTo>
                    <a:pt x="2031" y="76"/>
                  </a:lnTo>
                  <a:lnTo>
                    <a:pt x="2008" y="76"/>
                  </a:lnTo>
                  <a:lnTo>
                    <a:pt x="1984" y="78"/>
                  </a:lnTo>
                  <a:lnTo>
                    <a:pt x="1961" y="78"/>
                  </a:lnTo>
                  <a:lnTo>
                    <a:pt x="1938" y="80"/>
                  </a:lnTo>
                  <a:lnTo>
                    <a:pt x="1913" y="92"/>
                  </a:lnTo>
                  <a:lnTo>
                    <a:pt x="1893" y="105"/>
                  </a:lnTo>
                  <a:lnTo>
                    <a:pt x="1874" y="113"/>
                  </a:lnTo>
                  <a:lnTo>
                    <a:pt x="1860" y="125"/>
                  </a:lnTo>
                  <a:lnTo>
                    <a:pt x="1841" y="134"/>
                  </a:lnTo>
                  <a:lnTo>
                    <a:pt x="1823" y="148"/>
                  </a:lnTo>
                  <a:lnTo>
                    <a:pt x="1798" y="163"/>
                  </a:lnTo>
                  <a:lnTo>
                    <a:pt x="1769" y="187"/>
                  </a:lnTo>
                  <a:lnTo>
                    <a:pt x="1728" y="218"/>
                  </a:lnTo>
                  <a:lnTo>
                    <a:pt x="1695" y="247"/>
                  </a:lnTo>
                  <a:lnTo>
                    <a:pt x="1666" y="270"/>
                  </a:lnTo>
                  <a:lnTo>
                    <a:pt x="1643" y="293"/>
                  </a:lnTo>
                  <a:lnTo>
                    <a:pt x="1620" y="311"/>
                  </a:lnTo>
                  <a:lnTo>
                    <a:pt x="1600" y="330"/>
                  </a:lnTo>
                  <a:lnTo>
                    <a:pt x="1579" y="348"/>
                  </a:lnTo>
                  <a:lnTo>
                    <a:pt x="1558" y="365"/>
                  </a:lnTo>
                  <a:lnTo>
                    <a:pt x="1523" y="400"/>
                  </a:lnTo>
                  <a:lnTo>
                    <a:pt x="1488" y="435"/>
                  </a:lnTo>
                  <a:lnTo>
                    <a:pt x="1453" y="468"/>
                  </a:lnTo>
                  <a:lnTo>
                    <a:pt x="1422" y="501"/>
                  </a:lnTo>
                  <a:lnTo>
                    <a:pt x="1391" y="530"/>
                  </a:lnTo>
                  <a:lnTo>
                    <a:pt x="1364" y="557"/>
                  </a:lnTo>
                  <a:lnTo>
                    <a:pt x="1339" y="580"/>
                  </a:lnTo>
                  <a:lnTo>
                    <a:pt x="1321" y="604"/>
                  </a:lnTo>
                  <a:lnTo>
                    <a:pt x="1315" y="606"/>
                  </a:lnTo>
                  <a:lnTo>
                    <a:pt x="1309" y="610"/>
                  </a:lnTo>
                  <a:lnTo>
                    <a:pt x="1302" y="613"/>
                  </a:lnTo>
                  <a:lnTo>
                    <a:pt x="1296" y="625"/>
                  </a:lnTo>
                  <a:lnTo>
                    <a:pt x="1282" y="639"/>
                  </a:lnTo>
                  <a:lnTo>
                    <a:pt x="1267" y="662"/>
                  </a:lnTo>
                  <a:lnTo>
                    <a:pt x="1243" y="689"/>
                  </a:lnTo>
                  <a:lnTo>
                    <a:pt x="1214" y="730"/>
                  </a:lnTo>
                  <a:lnTo>
                    <a:pt x="1201" y="730"/>
                  </a:lnTo>
                  <a:lnTo>
                    <a:pt x="1189" y="730"/>
                  </a:lnTo>
                  <a:lnTo>
                    <a:pt x="1176" y="730"/>
                  </a:lnTo>
                  <a:lnTo>
                    <a:pt x="1162" y="730"/>
                  </a:lnTo>
                  <a:lnTo>
                    <a:pt x="1162" y="716"/>
                  </a:lnTo>
                  <a:lnTo>
                    <a:pt x="1162" y="703"/>
                  </a:lnTo>
                  <a:lnTo>
                    <a:pt x="1178" y="677"/>
                  </a:lnTo>
                  <a:lnTo>
                    <a:pt x="1191" y="658"/>
                  </a:lnTo>
                  <a:lnTo>
                    <a:pt x="1201" y="644"/>
                  </a:lnTo>
                  <a:lnTo>
                    <a:pt x="1209" y="635"/>
                  </a:lnTo>
                  <a:lnTo>
                    <a:pt x="1214" y="619"/>
                  </a:lnTo>
                  <a:lnTo>
                    <a:pt x="1220" y="608"/>
                  </a:lnTo>
                  <a:lnTo>
                    <a:pt x="1249" y="569"/>
                  </a:lnTo>
                  <a:lnTo>
                    <a:pt x="1273" y="540"/>
                  </a:lnTo>
                  <a:lnTo>
                    <a:pt x="1290" y="516"/>
                  </a:lnTo>
                  <a:lnTo>
                    <a:pt x="1309" y="497"/>
                  </a:lnTo>
                  <a:lnTo>
                    <a:pt x="1327" y="476"/>
                  </a:lnTo>
                  <a:lnTo>
                    <a:pt x="1346" y="454"/>
                  </a:lnTo>
                  <a:lnTo>
                    <a:pt x="1371" y="427"/>
                  </a:lnTo>
                  <a:lnTo>
                    <a:pt x="1404" y="396"/>
                  </a:lnTo>
                  <a:lnTo>
                    <a:pt x="1416" y="385"/>
                  </a:lnTo>
                  <a:lnTo>
                    <a:pt x="1430" y="373"/>
                  </a:lnTo>
                  <a:lnTo>
                    <a:pt x="1443" y="361"/>
                  </a:lnTo>
                  <a:lnTo>
                    <a:pt x="1457" y="350"/>
                  </a:lnTo>
                  <a:lnTo>
                    <a:pt x="1468" y="338"/>
                  </a:lnTo>
                  <a:lnTo>
                    <a:pt x="1480" y="326"/>
                  </a:lnTo>
                  <a:lnTo>
                    <a:pt x="1492" y="317"/>
                  </a:lnTo>
                  <a:lnTo>
                    <a:pt x="1505" y="307"/>
                  </a:lnTo>
                  <a:lnTo>
                    <a:pt x="1529" y="284"/>
                  </a:lnTo>
                  <a:lnTo>
                    <a:pt x="1556" y="262"/>
                  </a:lnTo>
                  <a:lnTo>
                    <a:pt x="1581" y="241"/>
                  </a:lnTo>
                  <a:lnTo>
                    <a:pt x="1608" y="222"/>
                  </a:lnTo>
                  <a:lnTo>
                    <a:pt x="1633" y="200"/>
                  </a:lnTo>
                  <a:lnTo>
                    <a:pt x="1660" y="179"/>
                  </a:lnTo>
                  <a:lnTo>
                    <a:pt x="1688" y="158"/>
                  </a:lnTo>
                  <a:lnTo>
                    <a:pt x="1717" y="138"/>
                  </a:lnTo>
                  <a:lnTo>
                    <a:pt x="1734" y="127"/>
                  </a:lnTo>
                  <a:lnTo>
                    <a:pt x="1752" y="117"/>
                  </a:lnTo>
                  <a:lnTo>
                    <a:pt x="1769" y="107"/>
                  </a:lnTo>
                  <a:lnTo>
                    <a:pt x="1786" y="97"/>
                  </a:lnTo>
                  <a:lnTo>
                    <a:pt x="1804" y="86"/>
                  </a:lnTo>
                  <a:lnTo>
                    <a:pt x="1823" y="78"/>
                  </a:lnTo>
                  <a:lnTo>
                    <a:pt x="1843" y="66"/>
                  </a:lnTo>
                  <a:lnTo>
                    <a:pt x="1864" y="59"/>
                  </a:lnTo>
                  <a:lnTo>
                    <a:pt x="1876" y="53"/>
                  </a:lnTo>
                  <a:lnTo>
                    <a:pt x="1887" y="47"/>
                  </a:lnTo>
                  <a:lnTo>
                    <a:pt x="1899" y="41"/>
                  </a:lnTo>
                  <a:lnTo>
                    <a:pt x="1911" y="37"/>
                  </a:lnTo>
                  <a:lnTo>
                    <a:pt x="1922" y="32"/>
                  </a:lnTo>
                  <a:lnTo>
                    <a:pt x="1936" y="26"/>
                  </a:lnTo>
                  <a:lnTo>
                    <a:pt x="1949" y="20"/>
                  </a:lnTo>
                  <a:lnTo>
                    <a:pt x="1965" y="16"/>
                  </a:lnTo>
                  <a:lnTo>
                    <a:pt x="1980" y="12"/>
                  </a:lnTo>
                  <a:lnTo>
                    <a:pt x="1998" y="10"/>
                  </a:lnTo>
                  <a:lnTo>
                    <a:pt x="2015" y="6"/>
                  </a:lnTo>
                  <a:lnTo>
                    <a:pt x="2033" y="0"/>
                  </a:lnTo>
                  <a:lnTo>
                    <a:pt x="2050" y="0"/>
                  </a:lnTo>
                  <a:lnTo>
                    <a:pt x="2072" y="0"/>
                  </a:lnTo>
                  <a:lnTo>
                    <a:pt x="2091" y="0"/>
                  </a:lnTo>
                  <a:lnTo>
                    <a:pt x="2114" y="0"/>
                  </a:lnTo>
                  <a:lnTo>
                    <a:pt x="2134" y="0"/>
                  </a:lnTo>
                  <a:lnTo>
                    <a:pt x="2155" y="0"/>
                  </a:lnTo>
                  <a:lnTo>
                    <a:pt x="2176" y="0"/>
                  </a:lnTo>
                  <a:lnTo>
                    <a:pt x="2198" y="0"/>
                  </a:lnTo>
                  <a:lnTo>
                    <a:pt x="2269" y="4"/>
                  </a:lnTo>
                  <a:lnTo>
                    <a:pt x="2328" y="8"/>
                  </a:lnTo>
                  <a:lnTo>
                    <a:pt x="2374" y="12"/>
                  </a:lnTo>
                  <a:lnTo>
                    <a:pt x="2417" y="16"/>
                  </a:lnTo>
                  <a:lnTo>
                    <a:pt x="2456" y="18"/>
                  </a:lnTo>
                  <a:lnTo>
                    <a:pt x="2500" y="24"/>
                  </a:lnTo>
                  <a:lnTo>
                    <a:pt x="2554" y="28"/>
                  </a:lnTo>
                  <a:lnTo>
                    <a:pt x="2624" y="37"/>
                  </a:lnTo>
                  <a:lnTo>
                    <a:pt x="2700" y="51"/>
                  </a:lnTo>
                  <a:lnTo>
                    <a:pt x="2766" y="64"/>
                  </a:lnTo>
                  <a:lnTo>
                    <a:pt x="2820" y="74"/>
                  </a:lnTo>
                  <a:lnTo>
                    <a:pt x="2867" y="86"/>
                  </a:lnTo>
                  <a:lnTo>
                    <a:pt x="2904" y="92"/>
                  </a:lnTo>
                  <a:lnTo>
                    <a:pt x="2935" y="99"/>
                  </a:lnTo>
                  <a:lnTo>
                    <a:pt x="2962" y="105"/>
                  </a:lnTo>
                  <a:lnTo>
                    <a:pt x="2989" y="111"/>
                  </a:lnTo>
                  <a:lnTo>
                    <a:pt x="2991" y="113"/>
                  </a:lnTo>
                  <a:lnTo>
                    <a:pt x="2999" y="117"/>
                  </a:lnTo>
                  <a:lnTo>
                    <a:pt x="3002" y="117"/>
                  </a:lnTo>
                  <a:lnTo>
                    <a:pt x="3012" y="117"/>
                  </a:lnTo>
                  <a:lnTo>
                    <a:pt x="3022" y="119"/>
                  </a:lnTo>
                  <a:lnTo>
                    <a:pt x="3037" y="123"/>
                  </a:lnTo>
                  <a:lnTo>
                    <a:pt x="3053" y="134"/>
                  </a:lnTo>
                  <a:lnTo>
                    <a:pt x="3070" y="146"/>
                  </a:lnTo>
                  <a:lnTo>
                    <a:pt x="3090" y="158"/>
                  </a:lnTo>
                  <a:lnTo>
                    <a:pt x="3111" y="169"/>
                  </a:lnTo>
                  <a:lnTo>
                    <a:pt x="3117" y="179"/>
                  </a:lnTo>
                  <a:lnTo>
                    <a:pt x="3123" y="191"/>
                  </a:lnTo>
                  <a:lnTo>
                    <a:pt x="3129" y="200"/>
                  </a:lnTo>
                  <a:lnTo>
                    <a:pt x="3136" y="212"/>
                  </a:lnTo>
                  <a:lnTo>
                    <a:pt x="3144" y="224"/>
                  </a:lnTo>
                  <a:lnTo>
                    <a:pt x="3156" y="243"/>
                  </a:lnTo>
                  <a:lnTo>
                    <a:pt x="3167" y="262"/>
                  </a:lnTo>
                  <a:lnTo>
                    <a:pt x="3185" y="291"/>
                  </a:lnTo>
                  <a:lnTo>
                    <a:pt x="3202" y="350"/>
                  </a:lnTo>
                  <a:lnTo>
                    <a:pt x="3218" y="398"/>
                  </a:lnTo>
                  <a:lnTo>
                    <a:pt x="3229" y="435"/>
                  </a:lnTo>
                  <a:lnTo>
                    <a:pt x="3239" y="464"/>
                  </a:lnTo>
                  <a:lnTo>
                    <a:pt x="3243" y="483"/>
                  </a:lnTo>
                  <a:lnTo>
                    <a:pt x="3249" y="497"/>
                  </a:lnTo>
                  <a:lnTo>
                    <a:pt x="3253" y="509"/>
                  </a:lnTo>
                  <a:lnTo>
                    <a:pt x="3258" y="518"/>
                  </a:lnTo>
                  <a:lnTo>
                    <a:pt x="3266" y="557"/>
                  </a:lnTo>
                  <a:lnTo>
                    <a:pt x="3278" y="596"/>
                  </a:lnTo>
                  <a:lnTo>
                    <a:pt x="3286" y="635"/>
                  </a:lnTo>
                  <a:lnTo>
                    <a:pt x="3297" y="675"/>
                  </a:lnTo>
                  <a:lnTo>
                    <a:pt x="3307" y="714"/>
                  </a:lnTo>
                  <a:lnTo>
                    <a:pt x="3319" y="755"/>
                  </a:lnTo>
                  <a:lnTo>
                    <a:pt x="3330" y="794"/>
                  </a:lnTo>
                  <a:lnTo>
                    <a:pt x="3342" y="835"/>
                  </a:lnTo>
                  <a:lnTo>
                    <a:pt x="3342" y="846"/>
                  </a:lnTo>
                  <a:lnTo>
                    <a:pt x="3346" y="862"/>
                  </a:lnTo>
                  <a:lnTo>
                    <a:pt x="3346" y="877"/>
                  </a:lnTo>
                  <a:lnTo>
                    <a:pt x="3350" y="895"/>
                  </a:lnTo>
                  <a:lnTo>
                    <a:pt x="3352" y="910"/>
                  </a:lnTo>
                  <a:lnTo>
                    <a:pt x="3354" y="928"/>
                  </a:lnTo>
                  <a:lnTo>
                    <a:pt x="3355" y="945"/>
                  </a:lnTo>
                  <a:lnTo>
                    <a:pt x="3359" y="963"/>
                  </a:lnTo>
                  <a:lnTo>
                    <a:pt x="3346" y="957"/>
                  </a:lnTo>
                  <a:lnTo>
                    <a:pt x="3334" y="955"/>
                  </a:lnTo>
                  <a:lnTo>
                    <a:pt x="3322" y="951"/>
                  </a:lnTo>
                  <a:lnTo>
                    <a:pt x="3311" y="949"/>
                  </a:lnTo>
                  <a:lnTo>
                    <a:pt x="3299" y="945"/>
                  </a:lnTo>
                  <a:lnTo>
                    <a:pt x="3288" y="943"/>
                  </a:lnTo>
                  <a:lnTo>
                    <a:pt x="3278" y="941"/>
                  </a:lnTo>
                  <a:lnTo>
                    <a:pt x="3268" y="941"/>
                  </a:lnTo>
                  <a:lnTo>
                    <a:pt x="3258" y="920"/>
                  </a:lnTo>
                  <a:lnTo>
                    <a:pt x="3253" y="904"/>
                  </a:lnTo>
                  <a:lnTo>
                    <a:pt x="3247" y="887"/>
                  </a:lnTo>
                  <a:lnTo>
                    <a:pt x="3243" y="875"/>
                  </a:lnTo>
                  <a:lnTo>
                    <a:pt x="3239" y="862"/>
                  </a:lnTo>
                  <a:lnTo>
                    <a:pt x="3237" y="852"/>
                  </a:lnTo>
                  <a:lnTo>
                    <a:pt x="3233" y="840"/>
                  </a:lnTo>
                  <a:lnTo>
                    <a:pt x="3231" y="835"/>
                  </a:lnTo>
                  <a:lnTo>
                    <a:pt x="3227" y="819"/>
                  </a:lnTo>
                  <a:lnTo>
                    <a:pt x="3226" y="805"/>
                  </a:lnTo>
                  <a:lnTo>
                    <a:pt x="3220" y="792"/>
                  </a:lnTo>
                  <a:lnTo>
                    <a:pt x="3216" y="774"/>
                  </a:lnTo>
                  <a:lnTo>
                    <a:pt x="3208" y="749"/>
                  </a:lnTo>
                  <a:lnTo>
                    <a:pt x="3200" y="720"/>
                  </a:lnTo>
                  <a:lnTo>
                    <a:pt x="3189" y="677"/>
                  </a:lnTo>
                  <a:lnTo>
                    <a:pt x="3179" y="625"/>
                  </a:lnTo>
                  <a:lnTo>
                    <a:pt x="3173" y="606"/>
                  </a:lnTo>
                  <a:lnTo>
                    <a:pt x="3167" y="588"/>
                  </a:lnTo>
                  <a:lnTo>
                    <a:pt x="3162" y="571"/>
                  </a:lnTo>
                  <a:lnTo>
                    <a:pt x="3158" y="553"/>
                  </a:lnTo>
                  <a:lnTo>
                    <a:pt x="3152" y="534"/>
                  </a:lnTo>
                  <a:lnTo>
                    <a:pt x="3146" y="516"/>
                  </a:lnTo>
                  <a:lnTo>
                    <a:pt x="3140" y="499"/>
                  </a:lnTo>
                  <a:lnTo>
                    <a:pt x="3136" y="482"/>
                  </a:lnTo>
                  <a:lnTo>
                    <a:pt x="3121" y="449"/>
                  </a:lnTo>
                  <a:lnTo>
                    <a:pt x="3111" y="423"/>
                  </a:lnTo>
                  <a:lnTo>
                    <a:pt x="3101" y="402"/>
                  </a:lnTo>
                  <a:lnTo>
                    <a:pt x="3096" y="383"/>
                  </a:lnTo>
                  <a:lnTo>
                    <a:pt x="3086" y="359"/>
                  </a:lnTo>
                  <a:lnTo>
                    <a:pt x="3078" y="334"/>
                  </a:lnTo>
                  <a:lnTo>
                    <a:pt x="3068" y="303"/>
                  </a:lnTo>
                  <a:lnTo>
                    <a:pt x="3057" y="264"/>
                  </a:lnTo>
                  <a:lnTo>
                    <a:pt x="3045" y="258"/>
                  </a:lnTo>
                  <a:lnTo>
                    <a:pt x="3034" y="255"/>
                  </a:lnTo>
                  <a:lnTo>
                    <a:pt x="3022" y="249"/>
                  </a:lnTo>
                  <a:lnTo>
                    <a:pt x="3012" y="245"/>
                  </a:lnTo>
                  <a:lnTo>
                    <a:pt x="3001" y="239"/>
                  </a:lnTo>
                  <a:lnTo>
                    <a:pt x="2989" y="235"/>
                  </a:lnTo>
                  <a:lnTo>
                    <a:pt x="2977" y="231"/>
                  </a:lnTo>
                  <a:lnTo>
                    <a:pt x="2968" y="227"/>
                  </a:lnTo>
                  <a:lnTo>
                    <a:pt x="2890" y="208"/>
                  </a:lnTo>
                  <a:lnTo>
                    <a:pt x="2832" y="194"/>
                  </a:lnTo>
                  <a:lnTo>
                    <a:pt x="2789" y="185"/>
                  </a:lnTo>
                  <a:lnTo>
                    <a:pt x="2758" y="181"/>
                  </a:lnTo>
                  <a:lnTo>
                    <a:pt x="2735" y="175"/>
                  </a:lnTo>
                  <a:lnTo>
                    <a:pt x="2717" y="175"/>
                  </a:lnTo>
                  <a:lnTo>
                    <a:pt x="2702" y="175"/>
                  </a:lnTo>
                  <a:lnTo>
                    <a:pt x="2688" y="175"/>
                  </a:lnTo>
                  <a:lnTo>
                    <a:pt x="2682" y="208"/>
                  </a:lnTo>
                  <a:lnTo>
                    <a:pt x="2679" y="235"/>
                  </a:lnTo>
                  <a:lnTo>
                    <a:pt x="2673" y="258"/>
                  </a:lnTo>
                  <a:lnTo>
                    <a:pt x="2669" y="284"/>
                  </a:lnTo>
                  <a:lnTo>
                    <a:pt x="2661" y="309"/>
                  </a:lnTo>
                  <a:lnTo>
                    <a:pt x="2653" y="342"/>
                  </a:lnTo>
                  <a:lnTo>
                    <a:pt x="2642" y="385"/>
                  </a:lnTo>
                  <a:lnTo>
                    <a:pt x="2630" y="439"/>
                  </a:lnTo>
                  <a:lnTo>
                    <a:pt x="2626" y="456"/>
                  </a:lnTo>
                  <a:lnTo>
                    <a:pt x="2624" y="476"/>
                  </a:lnTo>
                  <a:lnTo>
                    <a:pt x="2620" y="495"/>
                  </a:lnTo>
                  <a:lnTo>
                    <a:pt x="2618" y="514"/>
                  </a:lnTo>
                  <a:lnTo>
                    <a:pt x="2615" y="532"/>
                  </a:lnTo>
                  <a:lnTo>
                    <a:pt x="2613" y="551"/>
                  </a:lnTo>
                  <a:lnTo>
                    <a:pt x="2609" y="571"/>
                  </a:lnTo>
                  <a:lnTo>
                    <a:pt x="2609" y="592"/>
                  </a:lnTo>
                  <a:lnTo>
                    <a:pt x="2609" y="619"/>
                  </a:lnTo>
                  <a:lnTo>
                    <a:pt x="2609" y="646"/>
                  </a:lnTo>
                  <a:lnTo>
                    <a:pt x="2609" y="674"/>
                  </a:lnTo>
                  <a:lnTo>
                    <a:pt x="2611" y="703"/>
                  </a:lnTo>
                  <a:lnTo>
                    <a:pt x="2611" y="730"/>
                  </a:lnTo>
                  <a:lnTo>
                    <a:pt x="2613" y="757"/>
                  </a:lnTo>
                  <a:lnTo>
                    <a:pt x="2613" y="786"/>
                  </a:lnTo>
                  <a:lnTo>
                    <a:pt x="2615" y="815"/>
                  </a:lnTo>
                  <a:lnTo>
                    <a:pt x="2620" y="817"/>
                  </a:lnTo>
                  <a:lnTo>
                    <a:pt x="2630" y="831"/>
                  </a:lnTo>
                  <a:lnTo>
                    <a:pt x="2640" y="827"/>
                  </a:lnTo>
                  <a:lnTo>
                    <a:pt x="2650" y="825"/>
                  </a:lnTo>
                  <a:lnTo>
                    <a:pt x="2657" y="825"/>
                  </a:lnTo>
                  <a:lnTo>
                    <a:pt x="2671" y="827"/>
                  </a:lnTo>
                  <a:lnTo>
                    <a:pt x="2686" y="827"/>
                  </a:lnTo>
                  <a:lnTo>
                    <a:pt x="2710" y="831"/>
                  </a:lnTo>
                  <a:lnTo>
                    <a:pt x="2741" y="835"/>
                  </a:lnTo>
                  <a:lnTo>
                    <a:pt x="2783" y="840"/>
                  </a:lnTo>
                  <a:lnTo>
                    <a:pt x="2789" y="842"/>
                  </a:lnTo>
                  <a:lnTo>
                    <a:pt x="2799" y="846"/>
                  </a:lnTo>
                  <a:lnTo>
                    <a:pt x="2810" y="850"/>
                  </a:lnTo>
                  <a:lnTo>
                    <a:pt x="2834" y="856"/>
                  </a:lnTo>
                  <a:lnTo>
                    <a:pt x="2865" y="862"/>
                  </a:lnTo>
                  <a:lnTo>
                    <a:pt x="2915" y="871"/>
                  </a:lnTo>
                  <a:lnTo>
                    <a:pt x="2979" y="885"/>
                  </a:lnTo>
                  <a:lnTo>
                    <a:pt x="3068" y="904"/>
                  </a:lnTo>
                  <a:lnTo>
                    <a:pt x="3068" y="912"/>
                  </a:lnTo>
                  <a:lnTo>
                    <a:pt x="3068" y="920"/>
                  </a:lnTo>
                  <a:lnTo>
                    <a:pt x="3049" y="920"/>
                  </a:lnTo>
                  <a:lnTo>
                    <a:pt x="3032" y="920"/>
                  </a:lnTo>
                  <a:lnTo>
                    <a:pt x="3014" y="920"/>
                  </a:lnTo>
                  <a:lnTo>
                    <a:pt x="2997" y="922"/>
                  </a:lnTo>
                  <a:lnTo>
                    <a:pt x="2977" y="922"/>
                  </a:lnTo>
                  <a:lnTo>
                    <a:pt x="2960" y="924"/>
                  </a:lnTo>
                  <a:lnTo>
                    <a:pt x="2942" y="924"/>
                  </a:lnTo>
                  <a:lnTo>
                    <a:pt x="2925" y="926"/>
                  </a:lnTo>
                  <a:lnTo>
                    <a:pt x="2907" y="926"/>
                  </a:lnTo>
                  <a:lnTo>
                    <a:pt x="2892" y="930"/>
                  </a:lnTo>
                  <a:lnTo>
                    <a:pt x="2876" y="931"/>
                  </a:lnTo>
                  <a:lnTo>
                    <a:pt x="2863" y="935"/>
                  </a:lnTo>
                  <a:lnTo>
                    <a:pt x="2845" y="937"/>
                  </a:lnTo>
                  <a:lnTo>
                    <a:pt x="2832" y="941"/>
                  </a:lnTo>
                  <a:lnTo>
                    <a:pt x="2816" y="943"/>
                  </a:lnTo>
                  <a:lnTo>
                    <a:pt x="2805" y="947"/>
                  </a:lnTo>
                  <a:lnTo>
                    <a:pt x="2803" y="953"/>
                  </a:lnTo>
                  <a:lnTo>
                    <a:pt x="2799" y="963"/>
                  </a:lnTo>
                  <a:lnTo>
                    <a:pt x="2803" y="968"/>
                  </a:lnTo>
                  <a:lnTo>
                    <a:pt x="2809" y="972"/>
                  </a:lnTo>
                  <a:lnTo>
                    <a:pt x="2874" y="963"/>
                  </a:lnTo>
                  <a:lnTo>
                    <a:pt x="2929" y="959"/>
                  </a:lnTo>
                  <a:lnTo>
                    <a:pt x="2966" y="953"/>
                  </a:lnTo>
                  <a:lnTo>
                    <a:pt x="2997" y="953"/>
                  </a:lnTo>
                  <a:lnTo>
                    <a:pt x="3018" y="951"/>
                  </a:lnTo>
                  <a:lnTo>
                    <a:pt x="3037" y="951"/>
                  </a:lnTo>
                  <a:lnTo>
                    <a:pt x="3057" y="951"/>
                  </a:lnTo>
                  <a:lnTo>
                    <a:pt x="3078" y="951"/>
                  </a:lnTo>
                  <a:lnTo>
                    <a:pt x="3125" y="955"/>
                  </a:lnTo>
                  <a:lnTo>
                    <a:pt x="3162" y="959"/>
                  </a:lnTo>
                  <a:lnTo>
                    <a:pt x="3189" y="963"/>
                  </a:lnTo>
                  <a:lnTo>
                    <a:pt x="3214" y="966"/>
                  </a:lnTo>
                  <a:lnTo>
                    <a:pt x="3233" y="968"/>
                  </a:lnTo>
                  <a:lnTo>
                    <a:pt x="3257" y="974"/>
                  </a:lnTo>
                  <a:lnTo>
                    <a:pt x="3280" y="978"/>
                  </a:lnTo>
                  <a:lnTo>
                    <a:pt x="3311" y="988"/>
                  </a:lnTo>
                  <a:lnTo>
                    <a:pt x="3373" y="1011"/>
                  </a:lnTo>
                  <a:lnTo>
                    <a:pt x="3423" y="1030"/>
                  </a:lnTo>
                  <a:lnTo>
                    <a:pt x="3458" y="1044"/>
                  </a:lnTo>
                  <a:lnTo>
                    <a:pt x="3485" y="1056"/>
                  </a:lnTo>
                  <a:lnTo>
                    <a:pt x="3503" y="1061"/>
                  </a:lnTo>
                  <a:lnTo>
                    <a:pt x="3516" y="1069"/>
                  </a:lnTo>
                  <a:lnTo>
                    <a:pt x="3526" y="1075"/>
                  </a:lnTo>
                  <a:lnTo>
                    <a:pt x="3538" y="1083"/>
                  </a:lnTo>
                  <a:lnTo>
                    <a:pt x="3546" y="1091"/>
                  </a:lnTo>
                  <a:lnTo>
                    <a:pt x="3553" y="1104"/>
                  </a:lnTo>
                  <a:lnTo>
                    <a:pt x="3569" y="1110"/>
                  </a:lnTo>
                  <a:lnTo>
                    <a:pt x="3580" y="1116"/>
                  </a:lnTo>
                  <a:lnTo>
                    <a:pt x="3590" y="1122"/>
                  </a:lnTo>
                  <a:lnTo>
                    <a:pt x="3602" y="1129"/>
                  </a:lnTo>
                  <a:lnTo>
                    <a:pt x="3610" y="1135"/>
                  </a:lnTo>
                  <a:lnTo>
                    <a:pt x="3617" y="1141"/>
                  </a:lnTo>
                  <a:lnTo>
                    <a:pt x="3623" y="1145"/>
                  </a:lnTo>
                  <a:lnTo>
                    <a:pt x="3633" y="1151"/>
                  </a:lnTo>
                  <a:lnTo>
                    <a:pt x="3644" y="1156"/>
                  </a:lnTo>
                  <a:lnTo>
                    <a:pt x="3660" y="1168"/>
                  </a:lnTo>
                  <a:lnTo>
                    <a:pt x="3703" y="1219"/>
                  </a:lnTo>
                  <a:lnTo>
                    <a:pt x="3741" y="1263"/>
                  </a:lnTo>
                  <a:lnTo>
                    <a:pt x="3770" y="1300"/>
                  </a:lnTo>
                  <a:lnTo>
                    <a:pt x="3796" y="1331"/>
                  </a:lnTo>
                  <a:lnTo>
                    <a:pt x="3813" y="1354"/>
                  </a:lnTo>
                  <a:lnTo>
                    <a:pt x="3831" y="1374"/>
                  </a:lnTo>
                  <a:lnTo>
                    <a:pt x="3842" y="1387"/>
                  </a:lnTo>
                  <a:lnTo>
                    <a:pt x="3856" y="1401"/>
                  </a:lnTo>
                  <a:lnTo>
                    <a:pt x="3879" y="1438"/>
                  </a:lnTo>
                  <a:lnTo>
                    <a:pt x="3898" y="1469"/>
                  </a:lnTo>
                  <a:lnTo>
                    <a:pt x="3910" y="1492"/>
                  </a:lnTo>
                  <a:lnTo>
                    <a:pt x="3922" y="1510"/>
                  </a:lnTo>
                  <a:lnTo>
                    <a:pt x="3928" y="1521"/>
                  </a:lnTo>
                  <a:lnTo>
                    <a:pt x="3933" y="1529"/>
                  </a:lnTo>
                  <a:lnTo>
                    <a:pt x="3935" y="1533"/>
                  </a:lnTo>
                  <a:lnTo>
                    <a:pt x="3939" y="1539"/>
                  </a:lnTo>
                  <a:lnTo>
                    <a:pt x="3945" y="1552"/>
                  </a:lnTo>
                  <a:lnTo>
                    <a:pt x="3951" y="1570"/>
                  </a:lnTo>
                  <a:lnTo>
                    <a:pt x="3961" y="1583"/>
                  </a:lnTo>
                  <a:lnTo>
                    <a:pt x="3970" y="1597"/>
                  </a:lnTo>
                  <a:lnTo>
                    <a:pt x="3972" y="1603"/>
                  </a:lnTo>
                  <a:lnTo>
                    <a:pt x="3978" y="1614"/>
                  </a:lnTo>
                  <a:lnTo>
                    <a:pt x="3982" y="1626"/>
                  </a:lnTo>
                  <a:lnTo>
                    <a:pt x="3992" y="1643"/>
                  </a:lnTo>
                  <a:lnTo>
                    <a:pt x="3992" y="1649"/>
                  </a:lnTo>
                  <a:lnTo>
                    <a:pt x="3994" y="1663"/>
                  </a:lnTo>
                  <a:lnTo>
                    <a:pt x="3999" y="1676"/>
                  </a:lnTo>
                  <a:lnTo>
                    <a:pt x="4007" y="1698"/>
                  </a:lnTo>
                  <a:lnTo>
                    <a:pt x="4015" y="1721"/>
                  </a:lnTo>
                  <a:lnTo>
                    <a:pt x="4026" y="1752"/>
                  </a:lnTo>
                  <a:lnTo>
                    <a:pt x="4038" y="1791"/>
                  </a:lnTo>
                  <a:lnTo>
                    <a:pt x="4056" y="1839"/>
                  </a:lnTo>
                  <a:lnTo>
                    <a:pt x="4061" y="1857"/>
                  </a:lnTo>
                  <a:lnTo>
                    <a:pt x="4067" y="1876"/>
                  </a:lnTo>
                  <a:lnTo>
                    <a:pt x="4071" y="1888"/>
                  </a:lnTo>
                  <a:lnTo>
                    <a:pt x="4075" y="1901"/>
                  </a:lnTo>
                  <a:lnTo>
                    <a:pt x="4077" y="1911"/>
                  </a:lnTo>
                  <a:lnTo>
                    <a:pt x="4079" y="1921"/>
                  </a:lnTo>
                  <a:lnTo>
                    <a:pt x="4081" y="1927"/>
                  </a:lnTo>
                  <a:lnTo>
                    <a:pt x="4087" y="1934"/>
                  </a:lnTo>
                  <a:lnTo>
                    <a:pt x="4079" y="1950"/>
                  </a:lnTo>
                  <a:lnTo>
                    <a:pt x="4071" y="1965"/>
                  </a:lnTo>
                  <a:lnTo>
                    <a:pt x="4058" y="1969"/>
                  </a:lnTo>
                  <a:lnTo>
                    <a:pt x="4046" y="1973"/>
                  </a:lnTo>
                  <a:lnTo>
                    <a:pt x="4034" y="1977"/>
                  </a:lnTo>
                  <a:lnTo>
                    <a:pt x="4023" y="1983"/>
                  </a:lnTo>
                  <a:lnTo>
                    <a:pt x="4009" y="1987"/>
                  </a:lnTo>
                  <a:lnTo>
                    <a:pt x="3997" y="1992"/>
                  </a:lnTo>
                  <a:lnTo>
                    <a:pt x="3984" y="1996"/>
                  </a:lnTo>
                  <a:lnTo>
                    <a:pt x="3970" y="2002"/>
                  </a:lnTo>
                  <a:lnTo>
                    <a:pt x="3957" y="2002"/>
                  </a:lnTo>
                  <a:lnTo>
                    <a:pt x="3945" y="2004"/>
                  </a:lnTo>
                  <a:lnTo>
                    <a:pt x="3933" y="2006"/>
                  </a:lnTo>
                  <a:lnTo>
                    <a:pt x="3922" y="2008"/>
                  </a:lnTo>
                  <a:lnTo>
                    <a:pt x="3908" y="2008"/>
                  </a:lnTo>
                  <a:lnTo>
                    <a:pt x="3897" y="2008"/>
                  </a:lnTo>
                  <a:lnTo>
                    <a:pt x="3883" y="2010"/>
                  </a:lnTo>
                  <a:lnTo>
                    <a:pt x="3871" y="2014"/>
                  </a:lnTo>
                  <a:lnTo>
                    <a:pt x="3862" y="2004"/>
                  </a:lnTo>
                  <a:lnTo>
                    <a:pt x="3850" y="1992"/>
                  </a:lnTo>
                  <a:lnTo>
                    <a:pt x="3844" y="1973"/>
                  </a:lnTo>
                  <a:lnTo>
                    <a:pt x="3838" y="1961"/>
                  </a:lnTo>
                  <a:lnTo>
                    <a:pt x="3833" y="1950"/>
                  </a:lnTo>
                  <a:lnTo>
                    <a:pt x="3829" y="1940"/>
                  </a:lnTo>
                  <a:lnTo>
                    <a:pt x="3823" y="1928"/>
                  </a:lnTo>
                  <a:lnTo>
                    <a:pt x="3817" y="1919"/>
                  </a:lnTo>
                  <a:lnTo>
                    <a:pt x="3811" y="1907"/>
                  </a:lnTo>
                  <a:lnTo>
                    <a:pt x="3807" y="1897"/>
                  </a:lnTo>
                  <a:lnTo>
                    <a:pt x="3790" y="1874"/>
                  </a:lnTo>
                  <a:lnTo>
                    <a:pt x="3778" y="1857"/>
                  </a:lnTo>
                  <a:lnTo>
                    <a:pt x="3767" y="1841"/>
                  </a:lnTo>
                  <a:lnTo>
                    <a:pt x="3755" y="1826"/>
                  </a:lnTo>
                  <a:lnTo>
                    <a:pt x="3741" y="1804"/>
                  </a:lnTo>
                  <a:lnTo>
                    <a:pt x="3726" y="1779"/>
                  </a:lnTo>
                  <a:lnTo>
                    <a:pt x="3706" y="1748"/>
                  </a:lnTo>
                  <a:lnTo>
                    <a:pt x="3681" y="1707"/>
                  </a:lnTo>
                  <a:lnTo>
                    <a:pt x="3654" y="1672"/>
                  </a:lnTo>
                  <a:lnTo>
                    <a:pt x="3629" y="1638"/>
                  </a:lnTo>
                  <a:lnTo>
                    <a:pt x="3602" y="1605"/>
                  </a:lnTo>
                  <a:lnTo>
                    <a:pt x="3577" y="1572"/>
                  </a:lnTo>
                  <a:lnTo>
                    <a:pt x="3549" y="1537"/>
                  </a:lnTo>
                  <a:lnTo>
                    <a:pt x="3526" y="1504"/>
                  </a:lnTo>
                  <a:lnTo>
                    <a:pt x="3499" y="1471"/>
                  </a:lnTo>
                  <a:lnTo>
                    <a:pt x="3476" y="1438"/>
                  </a:lnTo>
                  <a:lnTo>
                    <a:pt x="3462" y="1426"/>
                  </a:lnTo>
                  <a:lnTo>
                    <a:pt x="3450" y="1416"/>
                  </a:lnTo>
                  <a:lnTo>
                    <a:pt x="3437" y="1405"/>
                  </a:lnTo>
                  <a:lnTo>
                    <a:pt x="3425" y="1395"/>
                  </a:lnTo>
                  <a:lnTo>
                    <a:pt x="3412" y="1383"/>
                  </a:lnTo>
                  <a:lnTo>
                    <a:pt x="3400" y="1372"/>
                  </a:lnTo>
                  <a:lnTo>
                    <a:pt x="3386" y="1362"/>
                  </a:lnTo>
                  <a:lnTo>
                    <a:pt x="3375" y="1352"/>
                  </a:lnTo>
                  <a:lnTo>
                    <a:pt x="3357" y="1339"/>
                  </a:lnTo>
                  <a:lnTo>
                    <a:pt x="3342" y="1327"/>
                  </a:lnTo>
                  <a:lnTo>
                    <a:pt x="3326" y="1316"/>
                  </a:lnTo>
                  <a:lnTo>
                    <a:pt x="3311" y="1304"/>
                  </a:lnTo>
                  <a:lnTo>
                    <a:pt x="3293" y="1292"/>
                  </a:lnTo>
                  <a:lnTo>
                    <a:pt x="3278" y="1281"/>
                  </a:lnTo>
                  <a:lnTo>
                    <a:pt x="3262" y="1269"/>
                  </a:lnTo>
                  <a:lnTo>
                    <a:pt x="3247" y="1257"/>
                  </a:lnTo>
                  <a:lnTo>
                    <a:pt x="3216" y="1242"/>
                  </a:lnTo>
                  <a:lnTo>
                    <a:pt x="3191" y="1230"/>
                  </a:lnTo>
                  <a:lnTo>
                    <a:pt x="3167" y="1222"/>
                  </a:lnTo>
                  <a:lnTo>
                    <a:pt x="3152" y="1217"/>
                  </a:lnTo>
                  <a:lnTo>
                    <a:pt x="3138" y="1211"/>
                  </a:lnTo>
                  <a:lnTo>
                    <a:pt x="3127" y="1207"/>
                  </a:lnTo>
                  <a:lnTo>
                    <a:pt x="3117" y="1201"/>
                  </a:lnTo>
                  <a:lnTo>
                    <a:pt x="3111" y="1199"/>
                  </a:lnTo>
                  <a:lnTo>
                    <a:pt x="3098" y="1195"/>
                  </a:lnTo>
                  <a:lnTo>
                    <a:pt x="3084" y="1193"/>
                  </a:lnTo>
                  <a:lnTo>
                    <a:pt x="3070" y="1189"/>
                  </a:lnTo>
                  <a:lnTo>
                    <a:pt x="3059" y="1188"/>
                  </a:lnTo>
                  <a:lnTo>
                    <a:pt x="3045" y="1184"/>
                  </a:lnTo>
                  <a:lnTo>
                    <a:pt x="3034" y="1180"/>
                  </a:lnTo>
                  <a:lnTo>
                    <a:pt x="3022" y="1176"/>
                  </a:lnTo>
                  <a:lnTo>
                    <a:pt x="3010" y="1174"/>
                  </a:lnTo>
                  <a:lnTo>
                    <a:pt x="2981" y="1174"/>
                  </a:lnTo>
                  <a:lnTo>
                    <a:pt x="2960" y="1174"/>
                  </a:lnTo>
                  <a:lnTo>
                    <a:pt x="2940" y="1174"/>
                  </a:lnTo>
                  <a:lnTo>
                    <a:pt x="2927" y="1174"/>
                  </a:lnTo>
                  <a:lnTo>
                    <a:pt x="2911" y="1174"/>
                  </a:lnTo>
                  <a:lnTo>
                    <a:pt x="2896" y="1174"/>
                  </a:lnTo>
                  <a:lnTo>
                    <a:pt x="2878" y="1176"/>
                  </a:lnTo>
                  <a:lnTo>
                    <a:pt x="2857" y="1178"/>
                  </a:lnTo>
                  <a:lnTo>
                    <a:pt x="2836" y="1184"/>
                  </a:lnTo>
                  <a:lnTo>
                    <a:pt x="2816" y="1189"/>
                  </a:lnTo>
                  <a:lnTo>
                    <a:pt x="2795" y="1195"/>
                  </a:lnTo>
                  <a:lnTo>
                    <a:pt x="2776" y="1201"/>
                  </a:lnTo>
                  <a:lnTo>
                    <a:pt x="2752" y="1205"/>
                  </a:lnTo>
                  <a:lnTo>
                    <a:pt x="2733" y="1211"/>
                  </a:lnTo>
                  <a:lnTo>
                    <a:pt x="2712" y="1215"/>
                  </a:lnTo>
                  <a:lnTo>
                    <a:pt x="2694" y="1220"/>
                  </a:lnTo>
                  <a:lnTo>
                    <a:pt x="2690" y="1228"/>
                  </a:lnTo>
                  <a:lnTo>
                    <a:pt x="2688" y="1236"/>
                  </a:lnTo>
                  <a:lnTo>
                    <a:pt x="2675" y="1246"/>
                  </a:lnTo>
                  <a:lnTo>
                    <a:pt x="2663" y="1257"/>
                  </a:lnTo>
                  <a:lnTo>
                    <a:pt x="2651" y="1267"/>
                  </a:lnTo>
                  <a:lnTo>
                    <a:pt x="2640" y="1279"/>
                  </a:lnTo>
                  <a:lnTo>
                    <a:pt x="2626" y="1294"/>
                  </a:lnTo>
                  <a:lnTo>
                    <a:pt x="2613" y="1310"/>
                  </a:lnTo>
                  <a:lnTo>
                    <a:pt x="2599" y="1325"/>
                  </a:lnTo>
                  <a:lnTo>
                    <a:pt x="2587" y="1343"/>
                  </a:lnTo>
                  <a:lnTo>
                    <a:pt x="2580" y="1354"/>
                  </a:lnTo>
                  <a:lnTo>
                    <a:pt x="2574" y="1370"/>
                  </a:lnTo>
                  <a:lnTo>
                    <a:pt x="2566" y="1383"/>
                  </a:lnTo>
                  <a:lnTo>
                    <a:pt x="2560" y="1401"/>
                  </a:lnTo>
                  <a:lnTo>
                    <a:pt x="2551" y="1414"/>
                  </a:lnTo>
                  <a:lnTo>
                    <a:pt x="2545" y="1430"/>
                  </a:lnTo>
                  <a:lnTo>
                    <a:pt x="2535" y="1444"/>
                  </a:lnTo>
                  <a:lnTo>
                    <a:pt x="2529" y="1459"/>
                  </a:lnTo>
                  <a:lnTo>
                    <a:pt x="2523" y="1477"/>
                  </a:lnTo>
                  <a:lnTo>
                    <a:pt x="2518" y="1494"/>
                  </a:lnTo>
                  <a:lnTo>
                    <a:pt x="2512" y="1511"/>
                  </a:lnTo>
                  <a:lnTo>
                    <a:pt x="2508" y="1529"/>
                  </a:lnTo>
                  <a:lnTo>
                    <a:pt x="2502" y="1546"/>
                  </a:lnTo>
                  <a:lnTo>
                    <a:pt x="2500" y="1564"/>
                  </a:lnTo>
                  <a:lnTo>
                    <a:pt x="2494" y="1581"/>
                  </a:lnTo>
                  <a:lnTo>
                    <a:pt x="2492" y="1601"/>
                  </a:lnTo>
                  <a:lnTo>
                    <a:pt x="2490" y="1622"/>
                  </a:lnTo>
                  <a:lnTo>
                    <a:pt x="2490" y="1643"/>
                  </a:lnTo>
                  <a:lnTo>
                    <a:pt x="2489" y="1665"/>
                  </a:lnTo>
                  <a:lnTo>
                    <a:pt x="2489" y="1688"/>
                  </a:lnTo>
                  <a:lnTo>
                    <a:pt x="2487" y="1709"/>
                  </a:lnTo>
                  <a:lnTo>
                    <a:pt x="2487" y="1733"/>
                  </a:lnTo>
                  <a:lnTo>
                    <a:pt x="2487" y="1756"/>
                  </a:lnTo>
                  <a:lnTo>
                    <a:pt x="2487" y="1781"/>
                  </a:lnTo>
                  <a:lnTo>
                    <a:pt x="2502" y="1861"/>
                  </a:lnTo>
                  <a:lnTo>
                    <a:pt x="2516" y="1923"/>
                  </a:lnTo>
                  <a:lnTo>
                    <a:pt x="2525" y="1969"/>
                  </a:lnTo>
                  <a:lnTo>
                    <a:pt x="2533" y="2006"/>
                  </a:lnTo>
                  <a:lnTo>
                    <a:pt x="2537" y="2029"/>
                  </a:lnTo>
                  <a:lnTo>
                    <a:pt x="2543" y="2047"/>
                  </a:lnTo>
                  <a:lnTo>
                    <a:pt x="2547" y="2060"/>
                  </a:lnTo>
                  <a:lnTo>
                    <a:pt x="2551" y="2072"/>
                  </a:lnTo>
                  <a:lnTo>
                    <a:pt x="2537" y="2074"/>
                  </a:lnTo>
                  <a:lnTo>
                    <a:pt x="2523" y="2078"/>
                  </a:lnTo>
                  <a:lnTo>
                    <a:pt x="2508" y="2084"/>
                  </a:lnTo>
                  <a:lnTo>
                    <a:pt x="2492" y="2091"/>
                  </a:lnTo>
                  <a:lnTo>
                    <a:pt x="2450" y="2093"/>
                  </a:lnTo>
                  <a:lnTo>
                    <a:pt x="2419" y="2097"/>
                  </a:lnTo>
                  <a:lnTo>
                    <a:pt x="2395" y="2099"/>
                  </a:lnTo>
                  <a:lnTo>
                    <a:pt x="2380" y="2101"/>
                  </a:lnTo>
                  <a:lnTo>
                    <a:pt x="2364" y="2101"/>
                  </a:lnTo>
                  <a:lnTo>
                    <a:pt x="2353" y="2101"/>
                  </a:lnTo>
                  <a:lnTo>
                    <a:pt x="2341" y="2101"/>
                  </a:lnTo>
                  <a:lnTo>
                    <a:pt x="2330" y="2103"/>
                  </a:lnTo>
                  <a:close/>
                  <a:moveTo>
                    <a:pt x="2103" y="1843"/>
                  </a:moveTo>
                  <a:lnTo>
                    <a:pt x="2118" y="1841"/>
                  </a:lnTo>
                  <a:lnTo>
                    <a:pt x="2136" y="1841"/>
                  </a:lnTo>
                  <a:lnTo>
                    <a:pt x="2153" y="1839"/>
                  </a:lnTo>
                  <a:lnTo>
                    <a:pt x="2170" y="1839"/>
                  </a:lnTo>
                  <a:lnTo>
                    <a:pt x="2186" y="1833"/>
                  </a:lnTo>
                  <a:lnTo>
                    <a:pt x="2202" y="1830"/>
                  </a:lnTo>
                  <a:lnTo>
                    <a:pt x="2217" y="1826"/>
                  </a:lnTo>
                  <a:lnTo>
                    <a:pt x="2234" y="1824"/>
                  </a:lnTo>
                  <a:lnTo>
                    <a:pt x="2248" y="1810"/>
                  </a:lnTo>
                  <a:lnTo>
                    <a:pt x="2262" y="1800"/>
                  </a:lnTo>
                  <a:lnTo>
                    <a:pt x="2273" y="1791"/>
                  </a:lnTo>
                  <a:lnTo>
                    <a:pt x="2287" y="1781"/>
                  </a:lnTo>
                  <a:lnTo>
                    <a:pt x="2300" y="1764"/>
                  </a:lnTo>
                  <a:lnTo>
                    <a:pt x="2316" y="1746"/>
                  </a:lnTo>
                  <a:lnTo>
                    <a:pt x="2328" y="1727"/>
                  </a:lnTo>
                  <a:lnTo>
                    <a:pt x="2345" y="1711"/>
                  </a:lnTo>
                  <a:lnTo>
                    <a:pt x="2351" y="1692"/>
                  </a:lnTo>
                  <a:lnTo>
                    <a:pt x="2357" y="1674"/>
                  </a:lnTo>
                  <a:lnTo>
                    <a:pt x="2362" y="1655"/>
                  </a:lnTo>
                  <a:lnTo>
                    <a:pt x="2370" y="1638"/>
                  </a:lnTo>
                  <a:lnTo>
                    <a:pt x="2376" y="1618"/>
                  </a:lnTo>
                  <a:lnTo>
                    <a:pt x="2384" y="1599"/>
                  </a:lnTo>
                  <a:lnTo>
                    <a:pt x="2390" y="1581"/>
                  </a:lnTo>
                  <a:lnTo>
                    <a:pt x="2397" y="1564"/>
                  </a:lnTo>
                  <a:lnTo>
                    <a:pt x="2397" y="1544"/>
                  </a:lnTo>
                  <a:lnTo>
                    <a:pt x="2401" y="1527"/>
                  </a:lnTo>
                  <a:lnTo>
                    <a:pt x="2403" y="1508"/>
                  </a:lnTo>
                  <a:lnTo>
                    <a:pt x="2407" y="1490"/>
                  </a:lnTo>
                  <a:lnTo>
                    <a:pt x="2411" y="1471"/>
                  </a:lnTo>
                  <a:lnTo>
                    <a:pt x="2415" y="1453"/>
                  </a:lnTo>
                  <a:lnTo>
                    <a:pt x="2419" y="1436"/>
                  </a:lnTo>
                  <a:lnTo>
                    <a:pt x="2425" y="1422"/>
                  </a:lnTo>
                  <a:lnTo>
                    <a:pt x="2425" y="1401"/>
                  </a:lnTo>
                  <a:lnTo>
                    <a:pt x="2425" y="1381"/>
                  </a:lnTo>
                  <a:lnTo>
                    <a:pt x="2425" y="1362"/>
                  </a:lnTo>
                  <a:lnTo>
                    <a:pt x="2425" y="1345"/>
                  </a:lnTo>
                  <a:lnTo>
                    <a:pt x="2425" y="1325"/>
                  </a:lnTo>
                  <a:lnTo>
                    <a:pt x="2425" y="1306"/>
                  </a:lnTo>
                  <a:lnTo>
                    <a:pt x="2425" y="1286"/>
                  </a:lnTo>
                  <a:lnTo>
                    <a:pt x="2425" y="1269"/>
                  </a:lnTo>
                  <a:lnTo>
                    <a:pt x="2425" y="1259"/>
                  </a:lnTo>
                  <a:lnTo>
                    <a:pt x="2426" y="1250"/>
                  </a:lnTo>
                  <a:lnTo>
                    <a:pt x="2426" y="1236"/>
                  </a:lnTo>
                  <a:lnTo>
                    <a:pt x="2428" y="1222"/>
                  </a:lnTo>
                  <a:lnTo>
                    <a:pt x="2428" y="1207"/>
                  </a:lnTo>
                  <a:lnTo>
                    <a:pt x="2428" y="1195"/>
                  </a:lnTo>
                  <a:lnTo>
                    <a:pt x="2430" y="1184"/>
                  </a:lnTo>
                  <a:lnTo>
                    <a:pt x="2434" y="1178"/>
                  </a:lnTo>
                  <a:lnTo>
                    <a:pt x="2432" y="1162"/>
                  </a:lnTo>
                  <a:lnTo>
                    <a:pt x="2432" y="1153"/>
                  </a:lnTo>
                  <a:lnTo>
                    <a:pt x="2432" y="1145"/>
                  </a:lnTo>
                  <a:lnTo>
                    <a:pt x="2432" y="1139"/>
                  </a:lnTo>
                  <a:lnTo>
                    <a:pt x="2430" y="1131"/>
                  </a:lnTo>
                  <a:lnTo>
                    <a:pt x="2428" y="1125"/>
                  </a:lnTo>
                  <a:lnTo>
                    <a:pt x="2419" y="1120"/>
                  </a:lnTo>
                  <a:lnTo>
                    <a:pt x="2411" y="1120"/>
                  </a:lnTo>
                  <a:lnTo>
                    <a:pt x="2403" y="1120"/>
                  </a:lnTo>
                  <a:lnTo>
                    <a:pt x="2392" y="1125"/>
                  </a:lnTo>
                  <a:lnTo>
                    <a:pt x="2386" y="1137"/>
                  </a:lnTo>
                  <a:lnTo>
                    <a:pt x="2382" y="1151"/>
                  </a:lnTo>
                  <a:lnTo>
                    <a:pt x="2376" y="1164"/>
                  </a:lnTo>
                  <a:lnTo>
                    <a:pt x="2372" y="1178"/>
                  </a:lnTo>
                  <a:lnTo>
                    <a:pt x="2366" y="1189"/>
                  </a:lnTo>
                  <a:lnTo>
                    <a:pt x="2361" y="1203"/>
                  </a:lnTo>
                  <a:lnTo>
                    <a:pt x="2355" y="1217"/>
                  </a:lnTo>
                  <a:lnTo>
                    <a:pt x="2351" y="1232"/>
                  </a:lnTo>
                  <a:lnTo>
                    <a:pt x="2335" y="1244"/>
                  </a:lnTo>
                  <a:lnTo>
                    <a:pt x="2326" y="1252"/>
                  </a:lnTo>
                  <a:lnTo>
                    <a:pt x="2318" y="1255"/>
                  </a:lnTo>
                  <a:lnTo>
                    <a:pt x="2310" y="1259"/>
                  </a:lnTo>
                  <a:lnTo>
                    <a:pt x="2298" y="1265"/>
                  </a:lnTo>
                  <a:lnTo>
                    <a:pt x="2287" y="1273"/>
                  </a:lnTo>
                  <a:lnTo>
                    <a:pt x="2275" y="1269"/>
                  </a:lnTo>
                  <a:lnTo>
                    <a:pt x="2266" y="1269"/>
                  </a:lnTo>
                  <a:lnTo>
                    <a:pt x="2260" y="1259"/>
                  </a:lnTo>
                  <a:lnTo>
                    <a:pt x="2254" y="1250"/>
                  </a:lnTo>
                  <a:lnTo>
                    <a:pt x="2248" y="1238"/>
                  </a:lnTo>
                  <a:lnTo>
                    <a:pt x="2244" y="1232"/>
                  </a:lnTo>
                  <a:lnTo>
                    <a:pt x="2240" y="1215"/>
                  </a:lnTo>
                  <a:lnTo>
                    <a:pt x="2238" y="1199"/>
                  </a:lnTo>
                  <a:lnTo>
                    <a:pt x="2236" y="1193"/>
                  </a:lnTo>
                  <a:lnTo>
                    <a:pt x="2234" y="1188"/>
                  </a:lnTo>
                  <a:lnTo>
                    <a:pt x="2233" y="1178"/>
                  </a:lnTo>
                  <a:lnTo>
                    <a:pt x="2233" y="1160"/>
                  </a:lnTo>
                  <a:lnTo>
                    <a:pt x="2231" y="1131"/>
                  </a:lnTo>
                  <a:lnTo>
                    <a:pt x="2229" y="1091"/>
                  </a:lnTo>
                  <a:lnTo>
                    <a:pt x="2225" y="1032"/>
                  </a:lnTo>
                  <a:lnTo>
                    <a:pt x="2223" y="957"/>
                  </a:lnTo>
                  <a:lnTo>
                    <a:pt x="2207" y="957"/>
                  </a:lnTo>
                  <a:lnTo>
                    <a:pt x="2192" y="963"/>
                  </a:lnTo>
                  <a:lnTo>
                    <a:pt x="2182" y="986"/>
                  </a:lnTo>
                  <a:lnTo>
                    <a:pt x="2174" y="1011"/>
                  </a:lnTo>
                  <a:lnTo>
                    <a:pt x="2165" y="1036"/>
                  </a:lnTo>
                  <a:lnTo>
                    <a:pt x="2157" y="1061"/>
                  </a:lnTo>
                  <a:lnTo>
                    <a:pt x="2147" y="1085"/>
                  </a:lnTo>
                  <a:lnTo>
                    <a:pt x="2139" y="1110"/>
                  </a:lnTo>
                  <a:lnTo>
                    <a:pt x="2130" y="1135"/>
                  </a:lnTo>
                  <a:lnTo>
                    <a:pt x="2124" y="1162"/>
                  </a:lnTo>
                  <a:lnTo>
                    <a:pt x="2114" y="1172"/>
                  </a:lnTo>
                  <a:lnTo>
                    <a:pt x="2106" y="1182"/>
                  </a:lnTo>
                  <a:lnTo>
                    <a:pt x="2099" y="1193"/>
                  </a:lnTo>
                  <a:lnTo>
                    <a:pt x="2091" y="1205"/>
                  </a:lnTo>
                  <a:lnTo>
                    <a:pt x="2081" y="1215"/>
                  </a:lnTo>
                  <a:lnTo>
                    <a:pt x="2075" y="1226"/>
                  </a:lnTo>
                  <a:lnTo>
                    <a:pt x="2066" y="1236"/>
                  </a:lnTo>
                  <a:lnTo>
                    <a:pt x="2060" y="1248"/>
                  </a:lnTo>
                  <a:lnTo>
                    <a:pt x="2050" y="1250"/>
                  </a:lnTo>
                  <a:lnTo>
                    <a:pt x="2041" y="1255"/>
                  </a:lnTo>
                  <a:lnTo>
                    <a:pt x="2029" y="1257"/>
                  </a:lnTo>
                  <a:lnTo>
                    <a:pt x="2023" y="1263"/>
                  </a:lnTo>
                  <a:lnTo>
                    <a:pt x="2013" y="1263"/>
                  </a:lnTo>
                  <a:lnTo>
                    <a:pt x="2008" y="1263"/>
                  </a:lnTo>
                  <a:lnTo>
                    <a:pt x="2002" y="1253"/>
                  </a:lnTo>
                  <a:lnTo>
                    <a:pt x="2002" y="1244"/>
                  </a:lnTo>
                  <a:lnTo>
                    <a:pt x="1998" y="1232"/>
                  </a:lnTo>
                  <a:lnTo>
                    <a:pt x="1996" y="1220"/>
                  </a:lnTo>
                  <a:lnTo>
                    <a:pt x="1992" y="1219"/>
                  </a:lnTo>
                  <a:lnTo>
                    <a:pt x="1988" y="1213"/>
                  </a:lnTo>
                  <a:lnTo>
                    <a:pt x="1984" y="1205"/>
                  </a:lnTo>
                  <a:lnTo>
                    <a:pt x="1980" y="1193"/>
                  </a:lnTo>
                  <a:lnTo>
                    <a:pt x="1971" y="1176"/>
                  </a:lnTo>
                  <a:lnTo>
                    <a:pt x="1963" y="1158"/>
                  </a:lnTo>
                  <a:lnTo>
                    <a:pt x="1949" y="1135"/>
                  </a:lnTo>
                  <a:lnTo>
                    <a:pt x="1938" y="1110"/>
                  </a:lnTo>
                  <a:lnTo>
                    <a:pt x="1922" y="1110"/>
                  </a:lnTo>
                  <a:lnTo>
                    <a:pt x="1913" y="1110"/>
                  </a:lnTo>
                  <a:lnTo>
                    <a:pt x="1907" y="1118"/>
                  </a:lnTo>
                  <a:lnTo>
                    <a:pt x="1905" y="1127"/>
                  </a:lnTo>
                  <a:lnTo>
                    <a:pt x="1899" y="1135"/>
                  </a:lnTo>
                  <a:lnTo>
                    <a:pt x="1897" y="1151"/>
                  </a:lnTo>
                  <a:lnTo>
                    <a:pt x="1891" y="1168"/>
                  </a:lnTo>
                  <a:lnTo>
                    <a:pt x="1887" y="1195"/>
                  </a:lnTo>
                  <a:lnTo>
                    <a:pt x="1880" y="1230"/>
                  </a:lnTo>
                  <a:lnTo>
                    <a:pt x="1870" y="1279"/>
                  </a:lnTo>
                  <a:lnTo>
                    <a:pt x="1860" y="1329"/>
                  </a:lnTo>
                  <a:lnTo>
                    <a:pt x="1856" y="1370"/>
                  </a:lnTo>
                  <a:lnTo>
                    <a:pt x="1850" y="1401"/>
                  </a:lnTo>
                  <a:lnTo>
                    <a:pt x="1850" y="1428"/>
                  </a:lnTo>
                  <a:lnTo>
                    <a:pt x="1847" y="1449"/>
                  </a:lnTo>
                  <a:lnTo>
                    <a:pt x="1845" y="1475"/>
                  </a:lnTo>
                  <a:lnTo>
                    <a:pt x="1843" y="1500"/>
                  </a:lnTo>
                  <a:lnTo>
                    <a:pt x="1843" y="1533"/>
                  </a:lnTo>
                  <a:lnTo>
                    <a:pt x="1845" y="1544"/>
                  </a:lnTo>
                  <a:lnTo>
                    <a:pt x="1849" y="1556"/>
                  </a:lnTo>
                  <a:lnTo>
                    <a:pt x="1850" y="1568"/>
                  </a:lnTo>
                  <a:lnTo>
                    <a:pt x="1854" y="1581"/>
                  </a:lnTo>
                  <a:lnTo>
                    <a:pt x="1856" y="1593"/>
                  </a:lnTo>
                  <a:lnTo>
                    <a:pt x="1858" y="1606"/>
                  </a:lnTo>
                  <a:lnTo>
                    <a:pt x="1860" y="1620"/>
                  </a:lnTo>
                  <a:lnTo>
                    <a:pt x="1864" y="1634"/>
                  </a:lnTo>
                  <a:lnTo>
                    <a:pt x="1876" y="1657"/>
                  </a:lnTo>
                  <a:lnTo>
                    <a:pt x="1887" y="1676"/>
                  </a:lnTo>
                  <a:lnTo>
                    <a:pt x="1897" y="1690"/>
                  </a:lnTo>
                  <a:lnTo>
                    <a:pt x="1907" y="1705"/>
                  </a:lnTo>
                  <a:lnTo>
                    <a:pt x="1913" y="1717"/>
                  </a:lnTo>
                  <a:lnTo>
                    <a:pt x="1922" y="1729"/>
                  </a:lnTo>
                  <a:lnTo>
                    <a:pt x="1934" y="1744"/>
                  </a:lnTo>
                  <a:lnTo>
                    <a:pt x="1949" y="1766"/>
                  </a:lnTo>
                  <a:lnTo>
                    <a:pt x="1965" y="1781"/>
                  </a:lnTo>
                  <a:lnTo>
                    <a:pt x="1978" y="1795"/>
                  </a:lnTo>
                  <a:lnTo>
                    <a:pt x="1988" y="1804"/>
                  </a:lnTo>
                  <a:lnTo>
                    <a:pt x="1998" y="1812"/>
                  </a:lnTo>
                  <a:lnTo>
                    <a:pt x="2011" y="1822"/>
                  </a:lnTo>
                  <a:lnTo>
                    <a:pt x="2029" y="1833"/>
                  </a:lnTo>
                  <a:lnTo>
                    <a:pt x="2046" y="1835"/>
                  </a:lnTo>
                  <a:lnTo>
                    <a:pt x="2064" y="1839"/>
                  </a:lnTo>
                  <a:lnTo>
                    <a:pt x="2081" y="1841"/>
                  </a:lnTo>
                  <a:lnTo>
                    <a:pt x="2103" y="1843"/>
                  </a:lnTo>
                  <a:close/>
                </a:path>
              </a:pathLst>
            </a:custGeom>
            <a:solidFill>
              <a:srgbClr val="4200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96560" y="3908160"/>
              <a:ext cx="1216440" cy="410040"/>
            </a:xfrm>
            <a:custGeom>
              <a:avLst/>
              <a:gdLst/>
              <a:ahLst/>
              <a:rect l="l" t="t" r="r" b="b"/>
              <a:pathLst>
                <a:path w="2905" h="791">
                  <a:moveTo>
                    <a:pt x="1093" y="791"/>
                  </a:moveTo>
                  <a:lnTo>
                    <a:pt x="1076" y="770"/>
                  </a:lnTo>
                  <a:lnTo>
                    <a:pt x="1060" y="751"/>
                  </a:lnTo>
                  <a:lnTo>
                    <a:pt x="1045" y="729"/>
                  </a:lnTo>
                  <a:lnTo>
                    <a:pt x="1031" y="712"/>
                  </a:lnTo>
                  <a:lnTo>
                    <a:pt x="1016" y="690"/>
                  </a:lnTo>
                  <a:lnTo>
                    <a:pt x="1000" y="673"/>
                  </a:lnTo>
                  <a:lnTo>
                    <a:pt x="985" y="656"/>
                  </a:lnTo>
                  <a:lnTo>
                    <a:pt x="971" y="644"/>
                  </a:lnTo>
                  <a:lnTo>
                    <a:pt x="960" y="628"/>
                  </a:lnTo>
                  <a:lnTo>
                    <a:pt x="950" y="615"/>
                  </a:lnTo>
                  <a:lnTo>
                    <a:pt x="938" y="601"/>
                  </a:lnTo>
                  <a:lnTo>
                    <a:pt x="929" y="588"/>
                  </a:lnTo>
                  <a:lnTo>
                    <a:pt x="917" y="572"/>
                  </a:lnTo>
                  <a:lnTo>
                    <a:pt x="905" y="560"/>
                  </a:lnTo>
                  <a:lnTo>
                    <a:pt x="896" y="545"/>
                  </a:lnTo>
                  <a:lnTo>
                    <a:pt x="886" y="533"/>
                  </a:lnTo>
                  <a:lnTo>
                    <a:pt x="857" y="502"/>
                  </a:lnTo>
                  <a:lnTo>
                    <a:pt x="835" y="479"/>
                  </a:lnTo>
                  <a:lnTo>
                    <a:pt x="814" y="458"/>
                  </a:lnTo>
                  <a:lnTo>
                    <a:pt x="797" y="440"/>
                  </a:lnTo>
                  <a:lnTo>
                    <a:pt x="773" y="419"/>
                  </a:lnTo>
                  <a:lnTo>
                    <a:pt x="752" y="398"/>
                  </a:lnTo>
                  <a:lnTo>
                    <a:pt x="723" y="370"/>
                  </a:lnTo>
                  <a:lnTo>
                    <a:pt x="692" y="337"/>
                  </a:lnTo>
                  <a:lnTo>
                    <a:pt x="678" y="330"/>
                  </a:lnTo>
                  <a:lnTo>
                    <a:pt x="667" y="324"/>
                  </a:lnTo>
                  <a:lnTo>
                    <a:pt x="655" y="316"/>
                  </a:lnTo>
                  <a:lnTo>
                    <a:pt x="645" y="308"/>
                  </a:lnTo>
                  <a:lnTo>
                    <a:pt x="626" y="291"/>
                  </a:lnTo>
                  <a:lnTo>
                    <a:pt x="607" y="275"/>
                  </a:lnTo>
                  <a:lnTo>
                    <a:pt x="595" y="258"/>
                  </a:lnTo>
                  <a:lnTo>
                    <a:pt x="585" y="242"/>
                  </a:lnTo>
                  <a:lnTo>
                    <a:pt x="576" y="198"/>
                  </a:lnTo>
                  <a:lnTo>
                    <a:pt x="568" y="161"/>
                  </a:lnTo>
                  <a:lnTo>
                    <a:pt x="562" y="126"/>
                  </a:lnTo>
                  <a:lnTo>
                    <a:pt x="556" y="97"/>
                  </a:lnTo>
                  <a:lnTo>
                    <a:pt x="548" y="68"/>
                  </a:lnTo>
                  <a:lnTo>
                    <a:pt x="545" y="46"/>
                  </a:lnTo>
                  <a:lnTo>
                    <a:pt x="539" y="25"/>
                  </a:lnTo>
                  <a:lnTo>
                    <a:pt x="539" y="10"/>
                  </a:lnTo>
                  <a:lnTo>
                    <a:pt x="550" y="14"/>
                  </a:lnTo>
                  <a:lnTo>
                    <a:pt x="562" y="17"/>
                  </a:lnTo>
                  <a:lnTo>
                    <a:pt x="574" y="23"/>
                  </a:lnTo>
                  <a:lnTo>
                    <a:pt x="585" y="31"/>
                  </a:lnTo>
                  <a:lnTo>
                    <a:pt x="597" y="43"/>
                  </a:lnTo>
                  <a:lnTo>
                    <a:pt x="610" y="54"/>
                  </a:lnTo>
                  <a:lnTo>
                    <a:pt x="624" y="66"/>
                  </a:lnTo>
                  <a:lnTo>
                    <a:pt x="638" y="78"/>
                  </a:lnTo>
                  <a:lnTo>
                    <a:pt x="651" y="89"/>
                  </a:lnTo>
                  <a:lnTo>
                    <a:pt x="665" y="101"/>
                  </a:lnTo>
                  <a:lnTo>
                    <a:pt x="678" y="112"/>
                  </a:lnTo>
                  <a:lnTo>
                    <a:pt x="696" y="126"/>
                  </a:lnTo>
                  <a:lnTo>
                    <a:pt x="707" y="143"/>
                  </a:lnTo>
                  <a:lnTo>
                    <a:pt x="719" y="157"/>
                  </a:lnTo>
                  <a:lnTo>
                    <a:pt x="727" y="167"/>
                  </a:lnTo>
                  <a:lnTo>
                    <a:pt x="737" y="176"/>
                  </a:lnTo>
                  <a:lnTo>
                    <a:pt x="742" y="184"/>
                  </a:lnTo>
                  <a:lnTo>
                    <a:pt x="750" y="192"/>
                  </a:lnTo>
                  <a:lnTo>
                    <a:pt x="758" y="200"/>
                  </a:lnTo>
                  <a:lnTo>
                    <a:pt x="771" y="211"/>
                  </a:lnTo>
                  <a:lnTo>
                    <a:pt x="777" y="223"/>
                  </a:lnTo>
                  <a:lnTo>
                    <a:pt x="785" y="235"/>
                  </a:lnTo>
                  <a:lnTo>
                    <a:pt x="793" y="246"/>
                  </a:lnTo>
                  <a:lnTo>
                    <a:pt x="801" y="258"/>
                  </a:lnTo>
                  <a:lnTo>
                    <a:pt x="808" y="270"/>
                  </a:lnTo>
                  <a:lnTo>
                    <a:pt x="816" y="281"/>
                  </a:lnTo>
                  <a:lnTo>
                    <a:pt x="824" y="295"/>
                  </a:lnTo>
                  <a:lnTo>
                    <a:pt x="833" y="312"/>
                  </a:lnTo>
                  <a:lnTo>
                    <a:pt x="863" y="353"/>
                  </a:lnTo>
                  <a:lnTo>
                    <a:pt x="886" y="384"/>
                  </a:lnTo>
                  <a:lnTo>
                    <a:pt x="903" y="409"/>
                  </a:lnTo>
                  <a:lnTo>
                    <a:pt x="919" y="429"/>
                  </a:lnTo>
                  <a:lnTo>
                    <a:pt x="930" y="444"/>
                  </a:lnTo>
                  <a:lnTo>
                    <a:pt x="942" y="460"/>
                  </a:lnTo>
                  <a:lnTo>
                    <a:pt x="954" y="475"/>
                  </a:lnTo>
                  <a:lnTo>
                    <a:pt x="971" y="496"/>
                  </a:lnTo>
                  <a:lnTo>
                    <a:pt x="983" y="522"/>
                  </a:lnTo>
                  <a:lnTo>
                    <a:pt x="996" y="543"/>
                  </a:lnTo>
                  <a:lnTo>
                    <a:pt x="1006" y="562"/>
                  </a:lnTo>
                  <a:lnTo>
                    <a:pt x="1018" y="586"/>
                  </a:lnTo>
                  <a:lnTo>
                    <a:pt x="1029" y="611"/>
                  </a:lnTo>
                  <a:lnTo>
                    <a:pt x="1047" y="644"/>
                  </a:lnTo>
                  <a:lnTo>
                    <a:pt x="1068" y="687"/>
                  </a:lnTo>
                  <a:lnTo>
                    <a:pt x="1097" y="745"/>
                  </a:lnTo>
                  <a:lnTo>
                    <a:pt x="1099" y="756"/>
                  </a:lnTo>
                  <a:lnTo>
                    <a:pt x="1103" y="768"/>
                  </a:lnTo>
                  <a:lnTo>
                    <a:pt x="1103" y="780"/>
                  </a:lnTo>
                  <a:lnTo>
                    <a:pt x="1109" y="791"/>
                  </a:lnTo>
                  <a:lnTo>
                    <a:pt x="1097" y="791"/>
                  </a:lnTo>
                  <a:lnTo>
                    <a:pt x="1093" y="791"/>
                  </a:lnTo>
                  <a:close/>
                  <a:moveTo>
                    <a:pt x="1790" y="782"/>
                  </a:moveTo>
                  <a:lnTo>
                    <a:pt x="1784" y="772"/>
                  </a:lnTo>
                  <a:lnTo>
                    <a:pt x="1782" y="762"/>
                  </a:lnTo>
                  <a:lnTo>
                    <a:pt x="1776" y="751"/>
                  </a:lnTo>
                  <a:lnTo>
                    <a:pt x="1774" y="739"/>
                  </a:lnTo>
                  <a:lnTo>
                    <a:pt x="1770" y="718"/>
                  </a:lnTo>
                  <a:lnTo>
                    <a:pt x="1768" y="696"/>
                  </a:lnTo>
                  <a:lnTo>
                    <a:pt x="1766" y="675"/>
                  </a:lnTo>
                  <a:lnTo>
                    <a:pt x="1764" y="656"/>
                  </a:lnTo>
                  <a:lnTo>
                    <a:pt x="1762" y="634"/>
                  </a:lnTo>
                  <a:lnTo>
                    <a:pt x="1761" y="613"/>
                  </a:lnTo>
                  <a:lnTo>
                    <a:pt x="1759" y="592"/>
                  </a:lnTo>
                  <a:lnTo>
                    <a:pt x="1759" y="570"/>
                  </a:lnTo>
                  <a:lnTo>
                    <a:pt x="1759" y="551"/>
                  </a:lnTo>
                  <a:lnTo>
                    <a:pt x="1761" y="531"/>
                  </a:lnTo>
                  <a:lnTo>
                    <a:pt x="1762" y="512"/>
                  </a:lnTo>
                  <a:lnTo>
                    <a:pt x="1764" y="493"/>
                  </a:lnTo>
                  <a:lnTo>
                    <a:pt x="1766" y="471"/>
                  </a:lnTo>
                  <a:lnTo>
                    <a:pt x="1768" y="452"/>
                  </a:lnTo>
                  <a:lnTo>
                    <a:pt x="1770" y="431"/>
                  </a:lnTo>
                  <a:lnTo>
                    <a:pt x="1774" y="411"/>
                  </a:lnTo>
                  <a:lnTo>
                    <a:pt x="1780" y="398"/>
                  </a:lnTo>
                  <a:lnTo>
                    <a:pt x="1786" y="384"/>
                  </a:lnTo>
                  <a:lnTo>
                    <a:pt x="1790" y="370"/>
                  </a:lnTo>
                  <a:lnTo>
                    <a:pt x="1795" y="365"/>
                  </a:lnTo>
                  <a:lnTo>
                    <a:pt x="1797" y="355"/>
                  </a:lnTo>
                  <a:lnTo>
                    <a:pt x="1801" y="347"/>
                  </a:lnTo>
                  <a:lnTo>
                    <a:pt x="1803" y="337"/>
                  </a:lnTo>
                  <a:lnTo>
                    <a:pt x="1805" y="328"/>
                  </a:lnTo>
                  <a:lnTo>
                    <a:pt x="1815" y="312"/>
                  </a:lnTo>
                  <a:lnTo>
                    <a:pt x="1826" y="297"/>
                  </a:lnTo>
                  <a:lnTo>
                    <a:pt x="1836" y="277"/>
                  </a:lnTo>
                  <a:lnTo>
                    <a:pt x="1848" y="258"/>
                  </a:lnTo>
                  <a:lnTo>
                    <a:pt x="1859" y="240"/>
                  </a:lnTo>
                  <a:lnTo>
                    <a:pt x="1871" y="229"/>
                  </a:lnTo>
                  <a:lnTo>
                    <a:pt x="1879" y="219"/>
                  </a:lnTo>
                  <a:lnTo>
                    <a:pt x="1889" y="213"/>
                  </a:lnTo>
                  <a:lnTo>
                    <a:pt x="1894" y="206"/>
                  </a:lnTo>
                  <a:lnTo>
                    <a:pt x="1904" y="198"/>
                  </a:lnTo>
                  <a:lnTo>
                    <a:pt x="1914" y="190"/>
                  </a:lnTo>
                  <a:lnTo>
                    <a:pt x="1927" y="180"/>
                  </a:lnTo>
                  <a:lnTo>
                    <a:pt x="1937" y="178"/>
                  </a:lnTo>
                  <a:lnTo>
                    <a:pt x="1949" y="175"/>
                  </a:lnTo>
                  <a:lnTo>
                    <a:pt x="1954" y="190"/>
                  </a:lnTo>
                  <a:lnTo>
                    <a:pt x="1962" y="211"/>
                  </a:lnTo>
                  <a:lnTo>
                    <a:pt x="1972" y="235"/>
                  </a:lnTo>
                  <a:lnTo>
                    <a:pt x="1984" y="262"/>
                  </a:lnTo>
                  <a:lnTo>
                    <a:pt x="1991" y="283"/>
                  </a:lnTo>
                  <a:lnTo>
                    <a:pt x="2001" y="304"/>
                  </a:lnTo>
                  <a:lnTo>
                    <a:pt x="2005" y="318"/>
                  </a:lnTo>
                  <a:lnTo>
                    <a:pt x="2011" y="328"/>
                  </a:lnTo>
                  <a:lnTo>
                    <a:pt x="2013" y="335"/>
                  </a:lnTo>
                  <a:lnTo>
                    <a:pt x="2015" y="343"/>
                  </a:lnTo>
                  <a:lnTo>
                    <a:pt x="2013" y="349"/>
                  </a:lnTo>
                  <a:lnTo>
                    <a:pt x="2011" y="359"/>
                  </a:lnTo>
                  <a:lnTo>
                    <a:pt x="1997" y="368"/>
                  </a:lnTo>
                  <a:lnTo>
                    <a:pt x="1984" y="380"/>
                  </a:lnTo>
                  <a:lnTo>
                    <a:pt x="1970" y="390"/>
                  </a:lnTo>
                  <a:lnTo>
                    <a:pt x="1958" y="401"/>
                  </a:lnTo>
                  <a:lnTo>
                    <a:pt x="1947" y="413"/>
                  </a:lnTo>
                  <a:lnTo>
                    <a:pt x="1937" y="429"/>
                  </a:lnTo>
                  <a:lnTo>
                    <a:pt x="1927" y="442"/>
                  </a:lnTo>
                  <a:lnTo>
                    <a:pt x="1918" y="460"/>
                  </a:lnTo>
                  <a:lnTo>
                    <a:pt x="1908" y="473"/>
                  </a:lnTo>
                  <a:lnTo>
                    <a:pt x="1898" y="489"/>
                  </a:lnTo>
                  <a:lnTo>
                    <a:pt x="1889" y="502"/>
                  </a:lnTo>
                  <a:lnTo>
                    <a:pt x="1879" y="518"/>
                  </a:lnTo>
                  <a:lnTo>
                    <a:pt x="1863" y="551"/>
                  </a:lnTo>
                  <a:lnTo>
                    <a:pt x="1854" y="580"/>
                  </a:lnTo>
                  <a:lnTo>
                    <a:pt x="1844" y="601"/>
                  </a:lnTo>
                  <a:lnTo>
                    <a:pt x="1838" y="624"/>
                  </a:lnTo>
                  <a:lnTo>
                    <a:pt x="1830" y="644"/>
                  </a:lnTo>
                  <a:lnTo>
                    <a:pt x="1823" y="671"/>
                  </a:lnTo>
                  <a:lnTo>
                    <a:pt x="1811" y="702"/>
                  </a:lnTo>
                  <a:lnTo>
                    <a:pt x="1801" y="745"/>
                  </a:lnTo>
                  <a:lnTo>
                    <a:pt x="1799" y="754"/>
                  </a:lnTo>
                  <a:lnTo>
                    <a:pt x="1799" y="762"/>
                  </a:lnTo>
                  <a:lnTo>
                    <a:pt x="1799" y="766"/>
                  </a:lnTo>
                  <a:lnTo>
                    <a:pt x="1799" y="772"/>
                  </a:lnTo>
                  <a:lnTo>
                    <a:pt x="1797" y="780"/>
                  </a:lnTo>
                  <a:lnTo>
                    <a:pt x="1795" y="787"/>
                  </a:lnTo>
                  <a:lnTo>
                    <a:pt x="1792" y="784"/>
                  </a:lnTo>
                  <a:lnTo>
                    <a:pt x="1790" y="782"/>
                  </a:lnTo>
                  <a:close/>
                  <a:moveTo>
                    <a:pt x="2899" y="634"/>
                  </a:moveTo>
                  <a:lnTo>
                    <a:pt x="2878" y="617"/>
                  </a:lnTo>
                  <a:lnTo>
                    <a:pt x="2860" y="599"/>
                  </a:lnTo>
                  <a:lnTo>
                    <a:pt x="2843" y="580"/>
                  </a:lnTo>
                  <a:lnTo>
                    <a:pt x="2825" y="564"/>
                  </a:lnTo>
                  <a:lnTo>
                    <a:pt x="2812" y="553"/>
                  </a:lnTo>
                  <a:lnTo>
                    <a:pt x="2798" y="541"/>
                  </a:lnTo>
                  <a:lnTo>
                    <a:pt x="2785" y="529"/>
                  </a:lnTo>
                  <a:lnTo>
                    <a:pt x="2773" y="520"/>
                  </a:lnTo>
                  <a:lnTo>
                    <a:pt x="2757" y="508"/>
                  </a:lnTo>
                  <a:lnTo>
                    <a:pt x="2746" y="498"/>
                  </a:lnTo>
                  <a:lnTo>
                    <a:pt x="2730" y="489"/>
                  </a:lnTo>
                  <a:lnTo>
                    <a:pt x="2719" y="481"/>
                  </a:lnTo>
                  <a:lnTo>
                    <a:pt x="2666" y="446"/>
                  </a:lnTo>
                  <a:lnTo>
                    <a:pt x="2625" y="421"/>
                  </a:lnTo>
                  <a:lnTo>
                    <a:pt x="2594" y="401"/>
                  </a:lnTo>
                  <a:lnTo>
                    <a:pt x="2569" y="386"/>
                  </a:lnTo>
                  <a:lnTo>
                    <a:pt x="2546" y="370"/>
                  </a:lnTo>
                  <a:lnTo>
                    <a:pt x="2525" y="359"/>
                  </a:lnTo>
                  <a:lnTo>
                    <a:pt x="2501" y="345"/>
                  </a:lnTo>
                  <a:lnTo>
                    <a:pt x="2476" y="334"/>
                  </a:lnTo>
                  <a:lnTo>
                    <a:pt x="2461" y="330"/>
                  </a:lnTo>
                  <a:lnTo>
                    <a:pt x="2447" y="326"/>
                  </a:lnTo>
                  <a:lnTo>
                    <a:pt x="2433" y="322"/>
                  </a:lnTo>
                  <a:lnTo>
                    <a:pt x="2420" y="318"/>
                  </a:lnTo>
                  <a:lnTo>
                    <a:pt x="2404" y="312"/>
                  </a:lnTo>
                  <a:lnTo>
                    <a:pt x="2393" y="308"/>
                  </a:lnTo>
                  <a:lnTo>
                    <a:pt x="2377" y="304"/>
                  </a:lnTo>
                  <a:lnTo>
                    <a:pt x="2366" y="301"/>
                  </a:lnTo>
                  <a:lnTo>
                    <a:pt x="2360" y="275"/>
                  </a:lnTo>
                  <a:lnTo>
                    <a:pt x="2356" y="254"/>
                  </a:lnTo>
                  <a:lnTo>
                    <a:pt x="2352" y="235"/>
                  </a:lnTo>
                  <a:lnTo>
                    <a:pt x="2348" y="217"/>
                  </a:lnTo>
                  <a:lnTo>
                    <a:pt x="2344" y="196"/>
                  </a:lnTo>
                  <a:lnTo>
                    <a:pt x="2340" y="175"/>
                  </a:lnTo>
                  <a:lnTo>
                    <a:pt x="2337" y="149"/>
                  </a:lnTo>
                  <a:lnTo>
                    <a:pt x="2335" y="122"/>
                  </a:lnTo>
                  <a:lnTo>
                    <a:pt x="2344" y="124"/>
                  </a:lnTo>
                  <a:lnTo>
                    <a:pt x="2354" y="126"/>
                  </a:lnTo>
                  <a:lnTo>
                    <a:pt x="2364" y="126"/>
                  </a:lnTo>
                  <a:lnTo>
                    <a:pt x="2375" y="132"/>
                  </a:lnTo>
                  <a:lnTo>
                    <a:pt x="2387" y="138"/>
                  </a:lnTo>
                  <a:lnTo>
                    <a:pt x="2402" y="143"/>
                  </a:lnTo>
                  <a:lnTo>
                    <a:pt x="2414" y="149"/>
                  </a:lnTo>
                  <a:lnTo>
                    <a:pt x="2430" y="155"/>
                  </a:lnTo>
                  <a:lnTo>
                    <a:pt x="2443" y="161"/>
                  </a:lnTo>
                  <a:lnTo>
                    <a:pt x="2457" y="167"/>
                  </a:lnTo>
                  <a:lnTo>
                    <a:pt x="2470" y="173"/>
                  </a:lnTo>
                  <a:lnTo>
                    <a:pt x="2486" y="180"/>
                  </a:lnTo>
                  <a:lnTo>
                    <a:pt x="2505" y="194"/>
                  </a:lnTo>
                  <a:lnTo>
                    <a:pt x="2525" y="209"/>
                  </a:lnTo>
                  <a:lnTo>
                    <a:pt x="2544" y="225"/>
                  </a:lnTo>
                  <a:lnTo>
                    <a:pt x="2565" y="242"/>
                  </a:lnTo>
                  <a:lnTo>
                    <a:pt x="2585" y="258"/>
                  </a:lnTo>
                  <a:lnTo>
                    <a:pt x="2606" y="273"/>
                  </a:lnTo>
                  <a:lnTo>
                    <a:pt x="2627" y="289"/>
                  </a:lnTo>
                  <a:lnTo>
                    <a:pt x="2651" y="306"/>
                  </a:lnTo>
                  <a:lnTo>
                    <a:pt x="2660" y="318"/>
                  </a:lnTo>
                  <a:lnTo>
                    <a:pt x="2672" y="330"/>
                  </a:lnTo>
                  <a:lnTo>
                    <a:pt x="2682" y="341"/>
                  </a:lnTo>
                  <a:lnTo>
                    <a:pt x="2693" y="359"/>
                  </a:lnTo>
                  <a:lnTo>
                    <a:pt x="2705" y="361"/>
                  </a:lnTo>
                  <a:lnTo>
                    <a:pt x="2719" y="370"/>
                  </a:lnTo>
                  <a:lnTo>
                    <a:pt x="2719" y="376"/>
                  </a:lnTo>
                  <a:lnTo>
                    <a:pt x="2722" y="382"/>
                  </a:lnTo>
                  <a:lnTo>
                    <a:pt x="2726" y="392"/>
                  </a:lnTo>
                  <a:lnTo>
                    <a:pt x="2738" y="407"/>
                  </a:lnTo>
                  <a:lnTo>
                    <a:pt x="2752" y="425"/>
                  </a:lnTo>
                  <a:lnTo>
                    <a:pt x="2775" y="456"/>
                  </a:lnTo>
                  <a:lnTo>
                    <a:pt x="2804" y="495"/>
                  </a:lnTo>
                  <a:lnTo>
                    <a:pt x="2847" y="549"/>
                  </a:lnTo>
                  <a:lnTo>
                    <a:pt x="2852" y="549"/>
                  </a:lnTo>
                  <a:lnTo>
                    <a:pt x="2862" y="549"/>
                  </a:lnTo>
                  <a:lnTo>
                    <a:pt x="2864" y="560"/>
                  </a:lnTo>
                  <a:lnTo>
                    <a:pt x="2870" y="574"/>
                  </a:lnTo>
                  <a:lnTo>
                    <a:pt x="2874" y="580"/>
                  </a:lnTo>
                  <a:lnTo>
                    <a:pt x="2881" y="590"/>
                  </a:lnTo>
                  <a:lnTo>
                    <a:pt x="2891" y="603"/>
                  </a:lnTo>
                  <a:lnTo>
                    <a:pt x="2905" y="623"/>
                  </a:lnTo>
                  <a:lnTo>
                    <a:pt x="2903" y="630"/>
                  </a:lnTo>
                  <a:lnTo>
                    <a:pt x="2903" y="634"/>
                  </a:lnTo>
                  <a:lnTo>
                    <a:pt x="2901" y="634"/>
                  </a:lnTo>
                  <a:lnTo>
                    <a:pt x="2899" y="634"/>
                  </a:lnTo>
                  <a:close/>
                  <a:moveTo>
                    <a:pt x="21" y="502"/>
                  </a:moveTo>
                  <a:lnTo>
                    <a:pt x="17" y="481"/>
                  </a:lnTo>
                  <a:lnTo>
                    <a:pt x="15" y="460"/>
                  </a:lnTo>
                  <a:lnTo>
                    <a:pt x="11" y="438"/>
                  </a:lnTo>
                  <a:lnTo>
                    <a:pt x="9" y="419"/>
                  </a:lnTo>
                  <a:lnTo>
                    <a:pt x="5" y="396"/>
                  </a:lnTo>
                  <a:lnTo>
                    <a:pt x="3" y="376"/>
                  </a:lnTo>
                  <a:lnTo>
                    <a:pt x="0" y="355"/>
                  </a:lnTo>
                  <a:lnTo>
                    <a:pt x="0" y="337"/>
                  </a:lnTo>
                  <a:lnTo>
                    <a:pt x="0" y="322"/>
                  </a:lnTo>
                  <a:lnTo>
                    <a:pt x="0" y="308"/>
                  </a:lnTo>
                  <a:lnTo>
                    <a:pt x="0" y="293"/>
                  </a:lnTo>
                  <a:lnTo>
                    <a:pt x="0" y="279"/>
                  </a:lnTo>
                  <a:lnTo>
                    <a:pt x="0" y="262"/>
                  </a:lnTo>
                  <a:lnTo>
                    <a:pt x="0" y="248"/>
                  </a:lnTo>
                  <a:lnTo>
                    <a:pt x="0" y="233"/>
                  </a:lnTo>
                  <a:lnTo>
                    <a:pt x="0" y="221"/>
                  </a:lnTo>
                  <a:lnTo>
                    <a:pt x="0" y="209"/>
                  </a:lnTo>
                  <a:lnTo>
                    <a:pt x="0" y="198"/>
                  </a:lnTo>
                  <a:lnTo>
                    <a:pt x="0" y="186"/>
                  </a:lnTo>
                  <a:lnTo>
                    <a:pt x="2" y="176"/>
                  </a:lnTo>
                  <a:lnTo>
                    <a:pt x="3" y="165"/>
                  </a:lnTo>
                  <a:lnTo>
                    <a:pt x="5" y="153"/>
                  </a:lnTo>
                  <a:lnTo>
                    <a:pt x="7" y="142"/>
                  </a:lnTo>
                  <a:lnTo>
                    <a:pt x="11" y="132"/>
                  </a:lnTo>
                  <a:lnTo>
                    <a:pt x="21" y="114"/>
                  </a:lnTo>
                  <a:lnTo>
                    <a:pt x="33" y="97"/>
                  </a:lnTo>
                  <a:lnTo>
                    <a:pt x="42" y="78"/>
                  </a:lnTo>
                  <a:lnTo>
                    <a:pt x="52" y="58"/>
                  </a:lnTo>
                  <a:lnTo>
                    <a:pt x="64" y="39"/>
                  </a:lnTo>
                  <a:lnTo>
                    <a:pt x="75" y="25"/>
                  </a:lnTo>
                  <a:lnTo>
                    <a:pt x="83" y="15"/>
                  </a:lnTo>
                  <a:lnTo>
                    <a:pt x="91" y="12"/>
                  </a:lnTo>
                  <a:lnTo>
                    <a:pt x="98" y="2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22" y="0"/>
                  </a:lnTo>
                  <a:lnTo>
                    <a:pt x="143" y="52"/>
                  </a:lnTo>
                  <a:lnTo>
                    <a:pt x="161" y="93"/>
                  </a:lnTo>
                  <a:lnTo>
                    <a:pt x="172" y="122"/>
                  </a:lnTo>
                  <a:lnTo>
                    <a:pt x="182" y="145"/>
                  </a:lnTo>
                  <a:lnTo>
                    <a:pt x="186" y="159"/>
                  </a:lnTo>
                  <a:lnTo>
                    <a:pt x="190" y="171"/>
                  </a:lnTo>
                  <a:lnTo>
                    <a:pt x="192" y="178"/>
                  </a:lnTo>
                  <a:lnTo>
                    <a:pt x="195" y="190"/>
                  </a:lnTo>
                  <a:lnTo>
                    <a:pt x="186" y="192"/>
                  </a:lnTo>
                  <a:lnTo>
                    <a:pt x="180" y="196"/>
                  </a:lnTo>
                  <a:lnTo>
                    <a:pt x="168" y="209"/>
                  </a:lnTo>
                  <a:lnTo>
                    <a:pt x="159" y="225"/>
                  </a:lnTo>
                  <a:lnTo>
                    <a:pt x="149" y="240"/>
                  </a:lnTo>
                  <a:lnTo>
                    <a:pt x="139" y="256"/>
                  </a:lnTo>
                  <a:lnTo>
                    <a:pt x="128" y="270"/>
                  </a:lnTo>
                  <a:lnTo>
                    <a:pt x="118" y="285"/>
                  </a:lnTo>
                  <a:lnTo>
                    <a:pt x="108" y="299"/>
                  </a:lnTo>
                  <a:lnTo>
                    <a:pt x="100" y="316"/>
                  </a:lnTo>
                  <a:lnTo>
                    <a:pt x="93" y="328"/>
                  </a:lnTo>
                  <a:lnTo>
                    <a:pt x="87" y="343"/>
                  </a:lnTo>
                  <a:lnTo>
                    <a:pt x="79" y="357"/>
                  </a:lnTo>
                  <a:lnTo>
                    <a:pt x="73" y="374"/>
                  </a:lnTo>
                  <a:lnTo>
                    <a:pt x="66" y="390"/>
                  </a:lnTo>
                  <a:lnTo>
                    <a:pt x="60" y="405"/>
                  </a:lnTo>
                  <a:lnTo>
                    <a:pt x="54" y="421"/>
                  </a:lnTo>
                  <a:lnTo>
                    <a:pt x="48" y="438"/>
                  </a:lnTo>
                  <a:lnTo>
                    <a:pt x="46" y="454"/>
                  </a:lnTo>
                  <a:lnTo>
                    <a:pt x="44" y="469"/>
                  </a:lnTo>
                  <a:lnTo>
                    <a:pt x="40" y="485"/>
                  </a:lnTo>
                  <a:lnTo>
                    <a:pt x="36" y="502"/>
                  </a:lnTo>
                  <a:lnTo>
                    <a:pt x="29" y="502"/>
                  </a:lnTo>
                  <a:lnTo>
                    <a:pt x="21" y="502"/>
                  </a:lnTo>
                  <a:close/>
                </a:path>
              </a:pathLst>
            </a:custGeom>
            <a:solidFill>
              <a:srgbClr val="8500d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47360" y="3205800"/>
              <a:ext cx="1176480" cy="1066680"/>
            </a:xfrm>
            <a:custGeom>
              <a:avLst/>
              <a:gdLst/>
              <a:ahLst/>
              <a:rect l="l" t="t" r="r" b="b"/>
              <a:pathLst>
                <a:path w="2808" h="2060">
                  <a:moveTo>
                    <a:pt x="2179" y="2060"/>
                  </a:moveTo>
                  <a:lnTo>
                    <a:pt x="2179" y="2052"/>
                  </a:lnTo>
                  <a:lnTo>
                    <a:pt x="2179" y="2045"/>
                  </a:lnTo>
                  <a:lnTo>
                    <a:pt x="2168" y="2045"/>
                  </a:lnTo>
                  <a:lnTo>
                    <a:pt x="2156" y="2047"/>
                  </a:lnTo>
                  <a:lnTo>
                    <a:pt x="2145" y="2048"/>
                  </a:lnTo>
                  <a:lnTo>
                    <a:pt x="2133" y="2050"/>
                  </a:lnTo>
                  <a:lnTo>
                    <a:pt x="2115" y="2039"/>
                  </a:lnTo>
                  <a:lnTo>
                    <a:pt x="2104" y="2029"/>
                  </a:lnTo>
                  <a:lnTo>
                    <a:pt x="2088" y="2017"/>
                  </a:lnTo>
                  <a:lnTo>
                    <a:pt x="2075" y="2008"/>
                  </a:lnTo>
                  <a:lnTo>
                    <a:pt x="2063" y="1994"/>
                  </a:lnTo>
                  <a:lnTo>
                    <a:pt x="2051" y="1982"/>
                  </a:lnTo>
                  <a:lnTo>
                    <a:pt x="2040" y="1971"/>
                  </a:lnTo>
                  <a:lnTo>
                    <a:pt x="2030" y="1959"/>
                  </a:lnTo>
                  <a:lnTo>
                    <a:pt x="2019" y="1946"/>
                  </a:lnTo>
                  <a:lnTo>
                    <a:pt x="2007" y="1932"/>
                  </a:lnTo>
                  <a:lnTo>
                    <a:pt x="1995" y="1918"/>
                  </a:lnTo>
                  <a:lnTo>
                    <a:pt x="1986" y="1907"/>
                  </a:lnTo>
                  <a:lnTo>
                    <a:pt x="1980" y="1895"/>
                  </a:lnTo>
                  <a:lnTo>
                    <a:pt x="1976" y="1884"/>
                  </a:lnTo>
                  <a:lnTo>
                    <a:pt x="1972" y="1872"/>
                  </a:lnTo>
                  <a:lnTo>
                    <a:pt x="1968" y="1860"/>
                  </a:lnTo>
                  <a:lnTo>
                    <a:pt x="1962" y="1835"/>
                  </a:lnTo>
                  <a:lnTo>
                    <a:pt x="1960" y="1816"/>
                  </a:lnTo>
                  <a:lnTo>
                    <a:pt x="1958" y="1796"/>
                  </a:lnTo>
                  <a:lnTo>
                    <a:pt x="1958" y="1783"/>
                  </a:lnTo>
                  <a:lnTo>
                    <a:pt x="1958" y="1763"/>
                  </a:lnTo>
                  <a:lnTo>
                    <a:pt x="1958" y="1744"/>
                  </a:lnTo>
                  <a:lnTo>
                    <a:pt x="1958" y="1717"/>
                  </a:lnTo>
                  <a:lnTo>
                    <a:pt x="1958" y="1686"/>
                  </a:lnTo>
                  <a:lnTo>
                    <a:pt x="1960" y="1657"/>
                  </a:lnTo>
                  <a:lnTo>
                    <a:pt x="1966" y="1628"/>
                  </a:lnTo>
                  <a:lnTo>
                    <a:pt x="1970" y="1597"/>
                  </a:lnTo>
                  <a:lnTo>
                    <a:pt x="1976" y="1567"/>
                  </a:lnTo>
                  <a:lnTo>
                    <a:pt x="1980" y="1536"/>
                  </a:lnTo>
                  <a:lnTo>
                    <a:pt x="1986" y="1505"/>
                  </a:lnTo>
                  <a:lnTo>
                    <a:pt x="1989" y="1476"/>
                  </a:lnTo>
                  <a:lnTo>
                    <a:pt x="1995" y="1447"/>
                  </a:lnTo>
                  <a:lnTo>
                    <a:pt x="2003" y="1447"/>
                  </a:lnTo>
                  <a:lnTo>
                    <a:pt x="2011" y="1447"/>
                  </a:lnTo>
                  <a:lnTo>
                    <a:pt x="2017" y="1467"/>
                  </a:lnTo>
                  <a:lnTo>
                    <a:pt x="2024" y="1486"/>
                  </a:lnTo>
                  <a:lnTo>
                    <a:pt x="2030" y="1505"/>
                  </a:lnTo>
                  <a:lnTo>
                    <a:pt x="2038" y="1527"/>
                  </a:lnTo>
                  <a:lnTo>
                    <a:pt x="2046" y="1534"/>
                  </a:lnTo>
                  <a:lnTo>
                    <a:pt x="2053" y="1542"/>
                  </a:lnTo>
                  <a:lnTo>
                    <a:pt x="2067" y="1544"/>
                  </a:lnTo>
                  <a:lnTo>
                    <a:pt x="2083" y="1548"/>
                  </a:lnTo>
                  <a:lnTo>
                    <a:pt x="2094" y="1548"/>
                  </a:lnTo>
                  <a:lnTo>
                    <a:pt x="2112" y="1554"/>
                  </a:lnTo>
                  <a:lnTo>
                    <a:pt x="2121" y="1552"/>
                  </a:lnTo>
                  <a:lnTo>
                    <a:pt x="2139" y="1548"/>
                  </a:lnTo>
                  <a:lnTo>
                    <a:pt x="2150" y="1538"/>
                  </a:lnTo>
                  <a:lnTo>
                    <a:pt x="2162" y="1529"/>
                  </a:lnTo>
                  <a:lnTo>
                    <a:pt x="2174" y="1519"/>
                  </a:lnTo>
                  <a:lnTo>
                    <a:pt x="2185" y="1511"/>
                  </a:lnTo>
                  <a:lnTo>
                    <a:pt x="2191" y="1498"/>
                  </a:lnTo>
                  <a:lnTo>
                    <a:pt x="2197" y="1486"/>
                  </a:lnTo>
                  <a:lnTo>
                    <a:pt x="2203" y="1474"/>
                  </a:lnTo>
                  <a:lnTo>
                    <a:pt x="2209" y="1463"/>
                  </a:lnTo>
                  <a:lnTo>
                    <a:pt x="2214" y="1451"/>
                  </a:lnTo>
                  <a:lnTo>
                    <a:pt x="2220" y="1439"/>
                  </a:lnTo>
                  <a:lnTo>
                    <a:pt x="2228" y="1428"/>
                  </a:lnTo>
                  <a:lnTo>
                    <a:pt x="2238" y="1416"/>
                  </a:lnTo>
                  <a:lnTo>
                    <a:pt x="2238" y="1404"/>
                  </a:lnTo>
                  <a:lnTo>
                    <a:pt x="2240" y="1395"/>
                  </a:lnTo>
                  <a:lnTo>
                    <a:pt x="2242" y="1383"/>
                  </a:lnTo>
                  <a:lnTo>
                    <a:pt x="2243" y="1373"/>
                  </a:lnTo>
                  <a:lnTo>
                    <a:pt x="2255" y="1370"/>
                  </a:lnTo>
                  <a:lnTo>
                    <a:pt x="2271" y="1364"/>
                  </a:lnTo>
                  <a:lnTo>
                    <a:pt x="2271" y="1389"/>
                  </a:lnTo>
                  <a:lnTo>
                    <a:pt x="2273" y="1408"/>
                  </a:lnTo>
                  <a:lnTo>
                    <a:pt x="2273" y="1424"/>
                  </a:lnTo>
                  <a:lnTo>
                    <a:pt x="2275" y="1439"/>
                  </a:lnTo>
                  <a:lnTo>
                    <a:pt x="2275" y="1449"/>
                  </a:lnTo>
                  <a:lnTo>
                    <a:pt x="2278" y="1463"/>
                  </a:lnTo>
                  <a:lnTo>
                    <a:pt x="2280" y="1476"/>
                  </a:lnTo>
                  <a:lnTo>
                    <a:pt x="2286" y="1496"/>
                  </a:lnTo>
                  <a:lnTo>
                    <a:pt x="2288" y="1505"/>
                  </a:lnTo>
                  <a:lnTo>
                    <a:pt x="2294" y="1515"/>
                  </a:lnTo>
                  <a:lnTo>
                    <a:pt x="2300" y="1525"/>
                  </a:lnTo>
                  <a:lnTo>
                    <a:pt x="2307" y="1538"/>
                  </a:lnTo>
                  <a:lnTo>
                    <a:pt x="2313" y="1544"/>
                  </a:lnTo>
                  <a:lnTo>
                    <a:pt x="2325" y="1552"/>
                  </a:lnTo>
                  <a:lnTo>
                    <a:pt x="2335" y="1560"/>
                  </a:lnTo>
                  <a:lnTo>
                    <a:pt x="2344" y="1569"/>
                  </a:lnTo>
                  <a:lnTo>
                    <a:pt x="2360" y="1567"/>
                  </a:lnTo>
                  <a:lnTo>
                    <a:pt x="2375" y="1564"/>
                  </a:lnTo>
                  <a:lnTo>
                    <a:pt x="2389" y="1548"/>
                  </a:lnTo>
                  <a:lnTo>
                    <a:pt x="2403" y="1538"/>
                  </a:lnTo>
                  <a:lnTo>
                    <a:pt x="2412" y="1529"/>
                  </a:lnTo>
                  <a:lnTo>
                    <a:pt x="2420" y="1523"/>
                  </a:lnTo>
                  <a:lnTo>
                    <a:pt x="2432" y="1511"/>
                  </a:lnTo>
                  <a:lnTo>
                    <a:pt x="2443" y="1505"/>
                  </a:lnTo>
                  <a:lnTo>
                    <a:pt x="2449" y="1494"/>
                  </a:lnTo>
                  <a:lnTo>
                    <a:pt x="2455" y="1484"/>
                  </a:lnTo>
                  <a:lnTo>
                    <a:pt x="2457" y="1484"/>
                  </a:lnTo>
                  <a:lnTo>
                    <a:pt x="2465" y="1484"/>
                  </a:lnTo>
                  <a:lnTo>
                    <a:pt x="2463" y="1492"/>
                  </a:lnTo>
                  <a:lnTo>
                    <a:pt x="2463" y="1503"/>
                  </a:lnTo>
                  <a:lnTo>
                    <a:pt x="2459" y="1519"/>
                  </a:lnTo>
                  <a:lnTo>
                    <a:pt x="2457" y="1544"/>
                  </a:lnTo>
                  <a:lnTo>
                    <a:pt x="2451" y="1579"/>
                  </a:lnTo>
                  <a:lnTo>
                    <a:pt x="2445" y="1629"/>
                  </a:lnTo>
                  <a:lnTo>
                    <a:pt x="2437" y="1697"/>
                  </a:lnTo>
                  <a:lnTo>
                    <a:pt x="2428" y="1790"/>
                  </a:lnTo>
                  <a:lnTo>
                    <a:pt x="2422" y="1806"/>
                  </a:lnTo>
                  <a:lnTo>
                    <a:pt x="2418" y="1822"/>
                  </a:lnTo>
                  <a:lnTo>
                    <a:pt x="2414" y="1837"/>
                  </a:lnTo>
                  <a:lnTo>
                    <a:pt x="2410" y="1854"/>
                  </a:lnTo>
                  <a:lnTo>
                    <a:pt x="2404" y="1870"/>
                  </a:lnTo>
                  <a:lnTo>
                    <a:pt x="2401" y="1886"/>
                  </a:lnTo>
                  <a:lnTo>
                    <a:pt x="2395" y="1901"/>
                  </a:lnTo>
                  <a:lnTo>
                    <a:pt x="2391" y="1918"/>
                  </a:lnTo>
                  <a:lnTo>
                    <a:pt x="2383" y="1922"/>
                  </a:lnTo>
                  <a:lnTo>
                    <a:pt x="2379" y="1932"/>
                  </a:lnTo>
                  <a:lnTo>
                    <a:pt x="2375" y="1936"/>
                  </a:lnTo>
                  <a:lnTo>
                    <a:pt x="2373" y="1946"/>
                  </a:lnTo>
                  <a:lnTo>
                    <a:pt x="2370" y="1955"/>
                  </a:lnTo>
                  <a:lnTo>
                    <a:pt x="2366" y="1971"/>
                  </a:lnTo>
                  <a:lnTo>
                    <a:pt x="2352" y="1982"/>
                  </a:lnTo>
                  <a:lnTo>
                    <a:pt x="2340" y="1994"/>
                  </a:lnTo>
                  <a:lnTo>
                    <a:pt x="2329" y="2006"/>
                  </a:lnTo>
                  <a:lnTo>
                    <a:pt x="2317" y="2017"/>
                  </a:lnTo>
                  <a:lnTo>
                    <a:pt x="2300" y="2023"/>
                  </a:lnTo>
                  <a:lnTo>
                    <a:pt x="2288" y="2029"/>
                  </a:lnTo>
                  <a:lnTo>
                    <a:pt x="2276" y="2033"/>
                  </a:lnTo>
                  <a:lnTo>
                    <a:pt x="2265" y="2039"/>
                  </a:lnTo>
                  <a:lnTo>
                    <a:pt x="2249" y="2041"/>
                  </a:lnTo>
                  <a:lnTo>
                    <a:pt x="2232" y="2047"/>
                  </a:lnTo>
                  <a:lnTo>
                    <a:pt x="2209" y="2050"/>
                  </a:lnTo>
                  <a:lnTo>
                    <a:pt x="2179" y="2060"/>
                  </a:lnTo>
                  <a:close/>
                  <a:moveTo>
                    <a:pt x="159" y="1659"/>
                  </a:moveTo>
                  <a:lnTo>
                    <a:pt x="145" y="1653"/>
                  </a:lnTo>
                  <a:lnTo>
                    <a:pt x="137" y="1651"/>
                  </a:lnTo>
                  <a:lnTo>
                    <a:pt x="128" y="1649"/>
                  </a:lnTo>
                  <a:lnTo>
                    <a:pt x="122" y="1649"/>
                  </a:lnTo>
                  <a:lnTo>
                    <a:pt x="104" y="1635"/>
                  </a:lnTo>
                  <a:lnTo>
                    <a:pt x="89" y="1622"/>
                  </a:lnTo>
                  <a:lnTo>
                    <a:pt x="77" y="1604"/>
                  </a:lnTo>
                  <a:lnTo>
                    <a:pt x="66" y="1589"/>
                  </a:lnTo>
                  <a:lnTo>
                    <a:pt x="54" y="1571"/>
                  </a:lnTo>
                  <a:lnTo>
                    <a:pt x="42" y="1554"/>
                  </a:lnTo>
                  <a:lnTo>
                    <a:pt x="36" y="1540"/>
                  </a:lnTo>
                  <a:lnTo>
                    <a:pt x="35" y="1531"/>
                  </a:lnTo>
                  <a:lnTo>
                    <a:pt x="31" y="1521"/>
                  </a:lnTo>
                  <a:lnTo>
                    <a:pt x="29" y="1515"/>
                  </a:lnTo>
                  <a:lnTo>
                    <a:pt x="25" y="1505"/>
                  </a:lnTo>
                  <a:lnTo>
                    <a:pt x="21" y="1496"/>
                  </a:lnTo>
                  <a:lnTo>
                    <a:pt x="15" y="1482"/>
                  </a:lnTo>
                  <a:lnTo>
                    <a:pt x="9" y="1468"/>
                  </a:lnTo>
                  <a:lnTo>
                    <a:pt x="5" y="1455"/>
                  </a:lnTo>
                  <a:lnTo>
                    <a:pt x="4" y="1441"/>
                  </a:lnTo>
                  <a:lnTo>
                    <a:pt x="2" y="1428"/>
                  </a:lnTo>
                  <a:lnTo>
                    <a:pt x="0" y="1416"/>
                  </a:lnTo>
                  <a:lnTo>
                    <a:pt x="2" y="1397"/>
                  </a:lnTo>
                  <a:lnTo>
                    <a:pt x="4" y="1379"/>
                  </a:lnTo>
                  <a:lnTo>
                    <a:pt x="5" y="1360"/>
                  </a:lnTo>
                  <a:lnTo>
                    <a:pt x="9" y="1342"/>
                  </a:lnTo>
                  <a:lnTo>
                    <a:pt x="11" y="1342"/>
                  </a:lnTo>
                  <a:lnTo>
                    <a:pt x="15" y="1342"/>
                  </a:lnTo>
                  <a:lnTo>
                    <a:pt x="21" y="1342"/>
                  </a:lnTo>
                  <a:lnTo>
                    <a:pt x="31" y="1348"/>
                  </a:lnTo>
                  <a:lnTo>
                    <a:pt x="36" y="1366"/>
                  </a:lnTo>
                  <a:lnTo>
                    <a:pt x="46" y="1383"/>
                  </a:lnTo>
                  <a:lnTo>
                    <a:pt x="52" y="1401"/>
                  </a:lnTo>
                  <a:lnTo>
                    <a:pt x="62" y="1418"/>
                  </a:lnTo>
                  <a:lnTo>
                    <a:pt x="69" y="1436"/>
                  </a:lnTo>
                  <a:lnTo>
                    <a:pt x="77" y="1453"/>
                  </a:lnTo>
                  <a:lnTo>
                    <a:pt x="85" y="1470"/>
                  </a:lnTo>
                  <a:lnTo>
                    <a:pt x="95" y="1490"/>
                  </a:lnTo>
                  <a:lnTo>
                    <a:pt x="120" y="1538"/>
                  </a:lnTo>
                  <a:lnTo>
                    <a:pt x="139" y="1577"/>
                  </a:lnTo>
                  <a:lnTo>
                    <a:pt x="151" y="1604"/>
                  </a:lnTo>
                  <a:lnTo>
                    <a:pt x="163" y="1626"/>
                  </a:lnTo>
                  <a:lnTo>
                    <a:pt x="168" y="1637"/>
                  </a:lnTo>
                  <a:lnTo>
                    <a:pt x="172" y="1647"/>
                  </a:lnTo>
                  <a:lnTo>
                    <a:pt x="172" y="1653"/>
                  </a:lnTo>
                  <a:lnTo>
                    <a:pt x="174" y="1659"/>
                  </a:lnTo>
                  <a:lnTo>
                    <a:pt x="164" y="1659"/>
                  </a:lnTo>
                  <a:lnTo>
                    <a:pt x="159" y="1659"/>
                  </a:lnTo>
                  <a:close/>
                  <a:moveTo>
                    <a:pt x="2783" y="270"/>
                  </a:moveTo>
                  <a:lnTo>
                    <a:pt x="2769" y="266"/>
                  </a:lnTo>
                  <a:lnTo>
                    <a:pt x="2757" y="264"/>
                  </a:lnTo>
                  <a:lnTo>
                    <a:pt x="2746" y="262"/>
                  </a:lnTo>
                  <a:lnTo>
                    <a:pt x="2734" y="260"/>
                  </a:lnTo>
                  <a:lnTo>
                    <a:pt x="2723" y="256"/>
                  </a:lnTo>
                  <a:lnTo>
                    <a:pt x="2711" y="254"/>
                  </a:lnTo>
                  <a:lnTo>
                    <a:pt x="2699" y="250"/>
                  </a:lnTo>
                  <a:lnTo>
                    <a:pt x="2688" y="248"/>
                  </a:lnTo>
                  <a:lnTo>
                    <a:pt x="2591" y="243"/>
                  </a:lnTo>
                  <a:lnTo>
                    <a:pt x="2511" y="237"/>
                  </a:lnTo>
                  <a:lnTo>
                    <a:pt x="2443" y="231"/>
                  </a:lnTo>
                  <a:lnTo>
                    <a:pt x="2385" y="229"/>
                  </a:lnTo>
                  <a:lnTo>
                    <a:pt x="2333" y="223"/>
                  </a:lnTo>
                  <a:lnTo>
                    <a:pt x="2286" y="221"/>
                  </a:lnTo>
                  <a:lnTo>
                    <a:pt x="2242" y="217"/>
                  </a:lnTo>
                  <a:lnTo>
                    <a:pt x="2197" y="217"/>
                  </a:lnTo>
                  <a:lnTo>
                    <a:pt x="2185" y="214"/>
                  </a:lnTo>
                  <a:lnTo>
                    <a:pt x="2176" y="206"/>
                  </a:lnTo>
                  <a:lnTo>
                    <a:pt x="2176" y="194"/>
                  </a:lnTo>
                  <a:lnTo>
                    <a:pt x="2178" y="184"/>
                  </a:lnTo>
                  <a:lnTo>
                    <a:pt x="2179" y="175"/>
                  </a:lnTo>
                  <a:lnTo>
                    <a:pt x="2185" y="165"/>
                  </a:lnTo>
                  <a:lnTo>
                    <a:pt x="2197" y="142"/>
                  </a:lnTo>
                  <a:lnTo>
                    <a:pt x="2209" y="126"/>
                  </a:lnTo>
                  <a:lnTo>
                    <a:pt x="2218" y="113"/>
                  </a:lnTo>
                  <a:lnTo>
                    <a:pt x="2228" y="101"/>
                  </a:lnTo>
                  <a:lnTo>
                    <a:pt x="2236" y="89"/>
                  </a:lnTo>
                  <a:lnTo>
                    <a:pt x="2247" y="78"/>
                  </a:lnTo>
                  <a:lnTo>
                    <a:pt x="2261" y="64"/>
                  </a:lnTo>
                  <a:lnTo>
                    <a:pt x="2280" y="49"/>
                  </a:lnTo>
                  <a:lnTo>
                    <a:pt x="2290" y="37"/>
                  </a:lnTo>
                  <a:lnTo>
                    <a:pt x="2302" y="27"/>
                  </a:lnTo>
                  <a:lnTo>
                    <a:pt x="2311" y="16"/>
                  </a:lnTo>
                  <a:lnTo>
                    <a:pt x="2323" y="6"/>
                  </a:lnTo>
                  <a:lnTo>
                    <a:pt x="2333" y="4"/>
                  </a:lnTo>
                  <a:lnTo>
                    <a:pt x="2344" y="0"/>
                  </a:lnTo>
                  <a:lnTo>
                    <a:pt x="2364" y="8"/>
                  </a:lnTo>
                  <a:lnTo>
                    <a:pt x="2389" y="20"/>
                  </a:lnTo>
                  <a:lnTo>
                    <a:pt x="2416" y="31"/>
                  </a:lnTo>
                  <a:lnTo>
                    <a:pt x="2447" y="49"/>
                  </a:lnTo>
                  <a:lnTo>
                    <a:pt x="2480" y="64"/>
                  </a:lnTo>
                  <a:lnTo>
                    <a:pt x="2519" y="82"/>
                  </a:lnTo>
                  <a:lnTo>
                    <a:pt x="2560" y="101"/>
                  </a:lnTo>
                  <a:lnTo>
                    <a:pt x="2608" y="122"/>
                  </a:lnTo>
                  <a:lnTo>
                    <a:pt x="2620" y="122"/>
                  </a:lnTo>
                  <a:lnTo>
                    <a:pt x="2631" y="124"/>
                  </a:lnTo>
                  <a:lnTo>
                    <a:pt x="2643" y="126"/>
                  </a:lnTo>
                  <a:lnTo>
                    <a:pt x="2655" y="128"/>
                  </a:lnTo>
                  <a:lnTo>
                    <a:pt x="2664" y="132"/>
                  </a:lnTo>
                  <a:lnTo>
                    <a:pt x="2676" y="138"/>
                  </a:lnTo>
                  <a:lnTo>
                    <a:pt x="2688" y="144"/>
                  </a:lnTo>
                  <a:lnTo>
                    <a:pt x="2699" y="150"/>
                  </a:lnTo>
                  <a:lnTo>
                    <a:pt x="2709" y="153"/>
                  </a:lnTo>
                  <a:lnTo>
                    <a:pt x="2721" y="159"/>
                  </a:lnTo>
                  <a:lnTo>
                    <a:pt x="2732" y="163"/>
                  </a:lnTo>
                  <a:lnTo>
                    <a:pt x="2746" y="169"/>
                  </a:lnTo>
                  <a:lnTo>
                    <a:pt x="2759" y="181"/>
                  </a:lnTo>
                  <a:lnTo>
                    <a:pt x="2777" y="194"/>
                  </a:lnTo>
                  <a:lnTo>
                    <a:pt x="2790" y="206"/>
                  </a:lnTo>
                  <a:lnTo>
                    <a:pt x="2808" y="223"/>
                  </a:lnTo>
                  <a:lnTo>
                    <a:pt x="2808" y="235"/>
                  </a:lnTo>
                  <a:lnTo>
                    <a:pt x="2808" y="248"/>
                  </a:lnTo>
                  <a:lnTo>
                    <a:pt x="2808" y="262"/>
                  </a:lnTo>
                  <a:lnTo>
                    <a:pt x="2808" y="276"/>
                  </a:lnTo>
                  <a:lnTo>
                    <a:pt x="2796" y="274"/>
                  </a:lnTo>
                  <a:lnTo>
                    <a:pt x="2783" y="27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57880" y="2959200"/>
              <a:ext cx="314280" cy="320040"/>
            </a:xfrm>
            <a:custGeom>
              <a:avLst/>
              <a:gdLst/>
              <a:ahLst/>
              <a:rect l="l" t="t" r="r" b="b"/>
              <a:pathLst>
                <a:path w="751" h="619">
                  <a:moveTo>
                    <a:pt x="359" y="619"/>
                  </a:moveTo>
                  <a:lnTo>
                    <a:pt x="338" y="611"/>
                  </a:lnTo>
                  <a:lnTo>
                    <a:pt x="318" y="605"/>
                  </a:lnTo>
                  <a:lnTo>
                    <a:pt x="301" y="597"/>
                  </a:lnTo>
                  <a:lnTo>
                    <a:pt x="285" y="590"/>
                  </a:lnTo>
                  <a:lnTo>
                    <a:pt x="266" y="580"/>
                  </a:lnTo>
                  <a:lnTo>
                    <a:pt x="247" y="570"/>
                  </a:lnTo>
                  <a:lnTo>
                    <a:pt x="221" y="559"/>
                  </a:lnTo>
                  <a:lnTo>
                    <a:pt x="196" y="549"/>
                  </a:lnTo>
                  <a:lnTo>
                    <a:pt x="196" y="541"/>
                  </a:lnTo>
                  <a:lnTo>
                    <a:pt x="196" y="530"/>
                  </a:lnTo>
                  <a:lnTo>
                    <a:pt x="196" y="520"/>
                  </a:lnTo>
                  <a:lnTo>
                    <a:pt x="198" y="506"/>
                  </a:lnTo>
                  <a:lnTo>
                    <a:pt x="200" y="489"/>
                  </a:lnTo>
                  <a:lnTo>
                    <a:pt x="206" y="466"/>
                  </a:lnTo>
                  <a:lnTo>
                    <a:pt x="217" y="466"/>
                  </a:lnTo>
                  <a:lnTo>
                    <a:pt x="233" y="466"/>
                  </a:lnTo>
                  <a:lnTo>
                    <a:pt x="245" y="466"/>
                  </a:lnTo>
                  <a:lnTo>
                    <a:pt x="260" y="466"/>
                  </a:lnTo>
                  <a:lnTo>
                    <a:pt x="274" y="466"/>
                  </a:lnTo>
                  <a:lnTo>
                    <a:pt x="289" y="466"/>
                  </a:lnTo>
                  <a:lnTo>
                    <a:pt x="303" y="466"/>
                  </a:lnTo>
                  <a:lnTo>
                    <a:pt x="318" y="466"/>
                  </a:lnTo>
                  <a:lnTo>
                    <a:pt x="336" y="460"/>
                  </a:lnTo>
                  <a:lnTo>
                    <a:pt x="357" y="456"/>
                  </a:lnTo>
                  <a:lnTo>
                    <a:pt x="375" y="452"/>
                  </a:lnTo>
                  <a:lnTo>
                    <a:pt x="396" y="450"/>
                  </a:lnTo>
                  <a:lnTo>
                    <a:pt x="404" y="438"/>
                  </a:lnTo>
                  <a:lnTo>
                    <a:pt x="415" y="429"/>
                  </a:lnTo>
                  <a:lnTo>
                    <a:pt x="427" y="419"/>
                  </a:lnTo>
                  <a:lnTo>
                    <a:pt x="444" y="413"/>
                  </a:lnTo>
                  <a:lnTo>
                    <a:pt x="442" y="398"/>
                  </a:lnTo>
                  <a:lnTo>
                    <a:pt x="439" y="386"/>
                  </a:lnTo>
                  <a:lnTo>
                    <a:pt x="427" y="378"/>
                  </a:lnTo>
                  <a:lnTo>
                    <a:pt x="415" y="372"/>
                  </a:lnTo>
                  <a:lnTo>
                    <a:pt x="404" y="365"/>
                  </a:lnTo>
                  <a:lnTo>
                    <a:pt x="392" y="359"/>
                  </a:lnTo>
                  <a:lnTo>
                    <a:pt x="392" y="351"/>
                  </a:lnTo>
                  <a:lnTo>
                    <a:pt x="392" y="343"/>
                  </a:lnTo>
                  <a:lnTo>
                    <a:pt x="398" y="332"/>
                  </a:lnTo>
                  <a:lnTo>
                    <a:pt x="406" y="322"/>
                  </a:lnTo>
                  <a:lnTo>
                    <a:pt x="413" y="310"/>
                  </a:lnTo>
                  <a:lnTo>
                    <a:pt x="423" y="301"/>
                  </a:lnTo>
                  <a:lnTo>
                    <a:pt x="429" y="289"/>
                  </a:lnTo>
                  <a:lnTo>
                    <a:pt x="437" y="279"/>
                  </a:lnTo>
                  <a:lnTo>
                    <a:pt x="444" y="268"/>
                  </a:lnTo>
                  <a:lnTo>
                    <a:pt x="454" y="260"/>
                  </a:lnTo>
                  <a:lnTo>
                    <a:pt x="454" y="244"/>
                  </a:lnTo>
                  <a:lnTo>
                    <a:pt x="454" y="233"/>
                  </a:lnTo>
                  <a:lnTo>
                    <a:pt x="446" y="219"/>
                  </a:lnTo>
                  <a:lnTo>
                    <a:pt x="433" y="206"/>
                  </a:lnTo>
                  <a:lnTo>
                    <a:pt x="421" y="206"/>
                  </a:lnTo>
                  <a:lnTo>
                    <a:pt x="411" y="206"/>
                  </a:lnTo>
                  <a:lnTo>
                    <a:pt x="400" y="206"/>
                  </a:lnTo>
                  <a:lnTo>
                    <a:pt x="390" y="209"/>
                  </a:lnTo>
                  <a:lnTo>
                    <a:pt x="378" y="209"/>
                  </a:lnTo>
                  <a:lnTo>
                    <a:pt x="367" y="213"/>
                  </a:lnTo>
                  <a:lnTo>
                    <a:pt x="355" y="217"/>
                  </a:lnTo>
                  <a:lnTo>
                    <a:pt x="343" y="223"/>
                  </a:lnTo>
                  <a:lnTo>
                    <a:pt x="326" y="229"/>
                  </a:lnTo>
                  <a:lnTo>
                    <a:pt x="314" y="241"/>
                  </a:lnTo>
                  <a:lnTo>
                    <a:pt x="299" y="252"/>
                  </a:lnTo>
                  <a:lnTo>
                    <a:pt x="285" y="264"/>
                  </a:lnTo>
                  <a:lnTo>
                    <a:pt x="274" y="279"/>
                  </a:lnTo>
                  <a:lnTo>
                    <a:pt x="262" y="295"/>
                  </a:lnTo>
                  <a:lnTo>
                    <a:pt x="250" y="312"/>
                  </a:lnTo>
                  <a:lnTo>
                    <a:pt x="241" y="330"/>
                  </a:lnTo>
                  <a:lnTo>
                    <a:pt x="229" y="347"/>
                  </a:lnTo>
                  <a:lnTo>
                    <a:pt x="217" y="365"/>
                  </a:lnTo>
                  <a:lnTo>
                    <a:pt x="206" y="382"/>
                  </a:lnTo>
                  <a:lnTo>
                    <a:pt x="196" y="402"/>
                  </a:lnTo>
                  <a:lnTo>
                    <a:pt x="190" y="417"/>
                  </a:lnTo>
                  <a:lnTo>
                    <a:pt x="184" y="433"/>
                  </a:lnTo>
                  <a:lnTo>
                    <a:pt x="179" y="448"/>
                  </a:lnTo>
                  <a:lnTo>
                    <a:pt x="175" y="466"/>
                  </a:lnTo>
                  <a:lnTo>
                    <a:pt x="169" y="481"/>
                  </a:lnTo>
                  <a:lnTo>
                    <a:pt x="163" y="497"/>
                  </a:lnTo>
                  <a:lnTo>
                    <a:pt x="157" y="512"/>
                  </a:lnTo>
                  <a:lnTo>
                    <a:pt x="153" y="530"/>
                  </a:lnTo>
                  <a:lnTo>
                    <a:pt x="142" y="528"/>
                  </a:lnTo>
                  <a:lnTo>
                    <a:pt x="130" y="526"/>
                  </a:lnTo>
                  <a:lnTo>
                    <a:pt x="119" y="524"/>
                  </a:lnTo>
                  <a:lnTo>
                    <a:pt x="111" y="524"/>
                  </a:lnTo>
                  <a:lnTo>
                    <a:pt x="93" y="514"/>
                  </a:lnTo>
                  <a:lnTo>
                    <a:pt x="80" y="508"/>
                  </a:lnTo>
                  <a:lnTo>
                    <a:pt x="68" y="502"/>
                  </a:lnTo>
                  <a:lnTo>
                    <a:pt x="58" y="497"/>
                  </a:lnTo>
                  <a:lnTo>
                    <a:pt x="47" y="491"/>
                  </a:lnTo>
                  <a:lnTo>
                    <a:pt x="37" y="485"/>
                  </a:lnTo>
                  <a:lnTo>
                    <a:pt x="25" y="479"/>
                  </a:lnTo>
                  <a:lnTo>
                    <a:pt x="16" y="475"/>
                  </a:lnTo>
                  <a:lnTo>
                    <a:pt x="8" y="467"/>
                  </a:lnTo>
                  <a:lnTo>
                    <a:pt x="6" y="462"/>
                  </a:lnTo>
                  <a:lnTo>
                    <a:pt x="2" y="452"/>
                  </a:lnTo>
                  <a:lnTo>
                    <a:pt x="0" y="438"/>
                  </a:lnTo>
                  <a:lnTo>
                    <a:pt x="10" y="425"/>
                  </a:lnTo>
                  <a:lnTo>
                    <a:pt x="20" y="413"/>
                  </a:lnTo>
                  <a:lnTo>
                    <a:pt x="31" y="400"/>
                  </a:lnTo>
                  <a:lnTo>
                    <a:pt x="43" y="388"/>
                  </a:lnTo>
                  <a:lnTo>
                    <a:pt x="53" y="372"/>
                  </a:lnTo>
                  <a:lnTo>
                    <a:pt x="64" y="361"/>
                  </a:lnTo>
                  <a:lnTo>
                    <a:pt x="74" y="345"/>
                  </a:lnTo>
                  <a:lnTo>
                    <a:pt x="86" y="334"/>
                  </a:lnTo>
                  <a:lnTo>
                    <a:pt x="109" y="310"/>
                  </a:lnTo>
                  <a:lnTo>
                    <a:pt x="126" y="295"/>
                  </a:lnTo>
                  <a:lnTo>
                    <a:pt x="140" y="281"/>
                  </a:lnTo>
                  <a:lnTo>
                    <a:pt x="150" y="275"/>
                  </a:lnTo>
                  <a:lnTo>
                    <a:pt x="159" y="264"/>
                  </a:lnTo>
                  <a:lnTo>
                    <a:pt x="165" y="254"/>
                  </a:lnTo>
                  <a:lnTo>
                    <a:pt x="175" y="244"/>
                  </a:lnTo>
                  <a:lnTo>
                    <a:pt x="186" y="239"/>
                  </a:lnTo>
                  <a:lnTo>
                    <a:pt x="196" y="231"/>
                  </a:lnTo>
                  <a:lnTo>
                    <a:pt x="210" y="225"/>
                  </a:lnTo>
                  <a:lnTo>
                    <a:pt x="221" y="211"/>
                  </a:lnTo>
                  <a:lnTo>
                    <a:pt x="241" y="198"/>
                  </a:lnTo>
                  <a:lnTo>
                    <a:pt x="266" y="178"/>
                  </a:lnTo>
                  <a:lnTo>
                    <a:pt x="301" y="153"/>
                  </a:lnTo>
                  <a:lnTo>
                    <a:pt x="357" y="118"/>
                  </a:lnTo>
                  <a:lnTo>
                    <a:pt x="400" y="93"/>
                  </a:lnTo>
                  <a:lnTo>
                    <a:pt x="431" y="74"/>
                  </a:lnTo>
                  <a:lnTo>
                    <a:pt x="454" y="62"/>
                  </a:lnTo>
                  <a:lnTo>
                    <a:pt x="468" y="52"/>
                  </a:lnTo>
                  <a:lnTo>
                    <a:pt x="475" y="48"/>
                  </a:lnTo>
                  <a:lnTo>
                    <a:pt x="481" y="45"/>
                  </a:lnTo>
                  <a:lnTo>
                    <a:pt x="487" y="43"/>
                  </a:lnTo>
                  <a:lnTo>
                    <a:pt x="501" y="37"/>
                  </a:lnTo>
                  <a:lnTo>
                    <a:pt x="516" y="33"/>
                  </a:lnTo>
                  <a:lnTo>
                    <a:pt x="530" y="27"/>
                  </a:lnTo>
                  <a:lnTo>
                    <a:pt x="545" y="23"/>
                  </a:lnTo>
                  <a:lnTo>
                    <a:pt x="559" y="17"/>
                  </a:lnTo>
                  <a:lnTo>
                    <a:pt x="574" y="12"/>
                  </a:lnTo>
                  <a:lnTo>
                    <a:pt x="590" y="6"/>
                  </a:lnTo>
                  <a:lnTo>
                    <a:pt x="607" y="0"/>
                  </a:lnTo>
                  <a:lnTo>
                    <a:pt x="627" y="2"/>
                  </a:lnTo>
                  <a:lnTo>
                    <a:pt x="646" y="4"/>
                  </a:lnTo>
                  <a:lnTo>
                    <a:pt x="665" y="4"/>
                  </a:lnTo>
                  <a:lnTo>
                    <a:pt x="687" y="6"/>
                  </a:lnTo>
                  <a:lnTo>
                    <a:pt x="702" y="17"/>
                  </a:lnTo>
                  <a:lnTo>
                    <a:pt x="712" y="27"/>
                  </a:lnTo>
                  <a:lnTo>
                    <a:pt x="720" y="35"/>
                  </a:lnTo>
                  <a:lnTo>
                    <a:pt x="735" y="48"/>
                  </a:lnTo>
                  <a:lnTo>
                    <a:pt x="737" y="64"/>
                  </a:lnTo>
                  <a:lnTo>
                    <a:pt x="741" y="81"/>
                  </a:lnTo>
                  <a:lnTo>
                    <a:pt x="745" y="99"/>
                  </a:lnTo>
                  <a:lnTo>
                    <a:pt x="751" y="116"/>
                  </a:lnTo>
                  <a:lnTo>
                    <a:pt x="745" y="132"/>
                  </a:lnTo>
                  <a:lnTo>
                    <a:pt x="739" y="151"/>
                  </a:lnTo>
                  <a:lnTo>
                    <a:pt x="733" y="169"/>
                  </a:lnTo>
                  <a:lnTo>
                    <a:pt x="729" y="186"/>
                  </a:lnTo>
                  <a:lnTo>
                    <a:pt x="710" y="215"/>
                  </a:lnTo>
                  <a:lnTo>
                    <a:pt x="698" y="241"/>
                  </a:lnTo>
                  <a:lnTo>
                    <a:pt x="689" y="258"/>
                  </a:lnTo>
                  <a:lnTo>
                    <a:pt x="681" y="277"/>
                  </a:lnTo>
                  <a:lnTo>
                    <a:pt x="671" y="293"/>
                  </a:lnTo>
                  <a:lnTo>
                    <a:pt x="662" y="312"/>
                  </a:lnTo>
                  <a:lnTo>
                    <a:pt x="648" y="332"/>
                  </a:lnTo>
                  <a:lnTo>
                    <a:pt x="634" y="359"/>
                  </a:lnTo>
                  <a:lnTo>
                    <a:pt x="619" y="370"/>
                  </a:lnTo>
                  <a:lnTo>
                    <a:pt x="605" y="386"/>
                  </a:lnTo>
                  <a:lnTo>
                    <a:pt x="592" y="400"/>
                  </a:lnTo>
                  <a:lnTo>
                    <a:pt x="580" y="417"/>
                  </a:lnTo>
                  <a:lnTo>
                    <a:pt x="568" y="433"/>
                  </a:lnTo>
                  <a:lnTo>
                    <a:pt x="557" y="448"/>
                  </a:lnTo>
                  <a:lnTo>
                    <a:pt x="545" y="464"/>
                  </a:lnTo>
                  <a:lnTo>
                    <a:pt x="534" y="481"/>
                  </a:lnTo>
                  <a:lnTo>
                    <a:pt x="508" y="504"/>
                  </a:lnTo>
                  <a:lnTo>
                    <a:pt x="489" y="522"/>
                  </a:lnTo>
                  <a:lnTo>
                    <a:pt x="475" y="535"/>
                  </a:lnTo>
                  <a:lnTo>
                    <a:pt x="466" y="545"/>
                  </a:lnTo>
                  <a:lnTo>
                    <a:pt x="454" y="555"/>
                  </a:lnTo>
                  <a:lnTo>
                    <a:pt x="444" y="561"/>
                  </a:lnTo>
                  <a:lnTo>
                    <a:pt x="439" y="570"/>
                  </a:lnTo>
                  <a:lnTo>
                    <a:pt x="439" y="582"/>
                  </a:lnTo>
                  <a:lnTo>
                    <a:pt x="427" y="588"/>
                  </a:lnTo>
                  <a:lnTo>
                    <a:pt x="419" y="594"/>
                  </a:lnTo>
                  <a:lnTo>
                    <a:pt x="413" y="597"/>
                  </a:lnTo>
                  <a:lnTo>
                    <a:pt x="409" y="601"/>
                  </a:lnTo>
                  <a:lnTo>
                    <a:pt x="402" y="609"/>
                  </a:lnTo>
                  <a:lnTo>
                    <a:pt x="396" y="619"/>
                  </a:lnTo>
                  <a:lnTo>
                    <a:pt x="386" y="619"/>
                  </a:lnTo>
                  <a:lnTo>
                    <a:pt x="376" y="619"/>
                  </a:lnTo>
                  <a:lnTo>
                    <a:pt x="367" y="619"/>
                  </a:lnTo>
                  <a:lnTo>
                    <a:pt x="359" y="619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61560" y="3082680"/>
              <a:ext cx="75240" cy="102600"/>
            </a:xfrm>
            <a:custGeom>
              <a:avLst/>
              <a:gdLst/>
              <a:ahLst/>
              <a:rect l="l" t="t" r="r" b="b"/>
              <a:pathLst>
                <a:path w="181" h="197">
                  <a:moveTo>
                    <a:pt x="16" y="195"/>
                  </a:moveTo>
                  <a:lnTo>
                    <a:pt x="18" y="186"/>
                  </a:lnTo>
                  <a:lnTo>
                    <a:pt x="28" y="178"/>
                  </a:lnTo>
                  <a:lnTo>
                    <a:pt x="43" y="172"/>
                  </a:lnTo>
                  <a:lnTo>
                    <a:pt x="59" y="166"/>
                  </a:lnTo>
                  <a:lnTo>
                    <a:pt x="74" y="159"/>
                  </a:lnTo>
                  <a:lnTo>
                    <a:pt x="90" y="153"/>
                  </a:lnTo>
                  <a:lnTo>
                    <a:pt x="101" y="153"/>
                  </a:lnTo>
                  <a:lnTo>
                    <a:pt x="113" y="153"/>
                  </a:lnTo>
                  <a:lnTo>
                    <a:pt x="125" y="153"/>
                  </a:lnTo>
                  <a:lnTo>
                    <a:pt x="138" y="153"/>
                  </a:lnTo>
                  <a:lnTo>
                    <a:pt x="140" y="159"/>
                  </a:lnTo>
                  <a:lnTo>
                    <a:pt x="148" y="168"/>
                  </a:lnTo>
                  <a:lnTo>
                    <a:pt x="136" y="178"/>
                  </a:lnTo>
                  <a:lnTo>
                    <a:pt x="123" y="190"/>
                  </a:lnTo>
                  <a:lnTo>
                    <a:pt x="103" y="192"/>
                  </a:lnTo>
                  <a:lnTo>
                    <a:pt x="92" y="194"/>
                  </a:lnTo>
                  <a:lnTo>
                    <a:pt x="80" y="195"/>
                  </a:lnTo>
                  <a:lnTo>
                    <a:pt x="72" y="197"/>
                  </a:lnTo>
                  <a:lnTo>
                    <a:pt x="61" y="195"/>
                  </a:lnTo>
                  <a:lnTo>
                    <a:pt x="49" y="195"/>
                  </a:lnTo>
                  <a:lnTo>
                    <a:pt x="33" y="195"/>
                  </a:lnTo>
                  <a:lnTo>
                    <a:pt x="16" y="195"/>
                  </a:lnTo>
                  <a:close/>
                  <a:moveTo>
                    <a:pt x="0" y="141"/>
                  </a:moveTo>
                  <a:lnTo>
                    <a:pt x="8" y="122"/>
                  </a:lnTo>
                  <a:lnTo>
                    <a:pt x="18" y="104"/>
                  </a:lnTo>
                  <a:lnTo>
                    <a:pt x="28" y="85"/>
                  </a:lnTo>
                  <a:lnTo>
                    <a:pt x="37" y="67"/>
                  </a:lnTo>
                  <a:lnTo>
                    <a:pt x="49" y="56"/>
                  </a:lnTo>
                  <a:lnTo>
                    <a:pt x="61" y="44"/>
                  </a:lnTo>
                  <a:lnTo>
                    <a:pt x="72" y="33"/>
                  </a:lnTo>
                  <a:lnTo>
                    <a:pt x="86" y="21"/>
                  </a:lnTo>
                  <a:lnTo>
                    <a:pt x="99" y="15"/>
                  </a:lnTo>
                  <a:lnTo>
                    <a:pt x="115" y="11"/>
                  </a:lnTo>
                  <a:lnTo>
                    <a:pt x="127" y="5"/>
                  </a:lnTo>
                  <a:lnTo>
                    <a:pt x="144" y="0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79" y="3"/>
                  </a:lnTo>
                  <a:lnTo>
                    <a:pt x="181" y="9"/>
                  </a:lnTo>
                  <a:lnTo>
                    <a:pt x="169" y="19"/>
                  </a:lnTo>
                  <a:lnTo>
                    <a:pt x="159" y="29"/>
                  </a:lnTo>
                  <a:lnTo>
                    <a:pt x="150" y="40"/>
                  </a:lnTo>
                  <a:lnTo>
                    <a:pt x="140" y="52"/>
                  </a:lnTo>
                  <a:lnTo>
                    <a:pt x="128" y="64"/>
                  </a:lnTo>
                  <a:lnTo>
                    <a:pt x="119" y="75"/>
                  </a:lnTo>
                  <a:lnTo>
                    <a:pt x="109" y="87"/>
                  </a:lnTo>
                  <a:lnTo>
                    <a:pt x="101" y="98"/>
                  </a:lnTo>
                  <a:lnTo>
                    <a:pt x="80" y="108"/>
                  </a:lnTo>
                  <a:lnTo>
                    <a:pt x="61" y="120"/>
                  </a:lnTo>
                  <a:lnTo>
                    <a:pt x="41" y="130"/>
                  </a:lnTo>
                  <a:lnTo>
                    <a:pt x="22" y="141"/>
                  </a:lnTo>
                  <a:lnTo>
                    <a:pt x="10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743200" y="2057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nection dependent)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What About Workstations?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You can us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62440" y="13716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bCli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 Regis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base Appli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stom Appli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j0223504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1266840" cy="1474560"/>
          </a:xfrm>
          <a:prstGeom prst="rect">
            <a:avLst/>
          </a:prstGeom>
          <a:ln w="0">
            <a:noFill/>
          </a:ln>
        </p:spPr>
      </p:pic>
      <p:pic>
        <p:nvPicPr>
          <p:cNvPr id="264" name="j0223504" descr=""/>
          <p:cNvPicPr/>
          <p:nvPr/>
        </p:nvPicPr>
        <p:blipFill>
          <a:blip r:embed="rId3"/>
          <a:stretch/>
        </p:blipFill>
        <p:spPr>
          <a:xfrm>
            <a:off x="2743200" y="2666880"/>
            <a:ext cx="1266840" cy="1474920"/>
          </a:xfrm>
          <a:prstGeom prst="rect">
            <a:avLst/>
          </a:prstGeom>
          <a:ln w="0">
            <a:noFill/>
          </a:ln>
        </p:spPr>
      </p:pic>
      <p:pic>
        <p:nvPicPr>
          <p:cNvPr id="265" name="j0223504" descr=""/>
          <p:cNvPicPr/>
          <p:nvPr/>
        </p:nvPicPr>
        <p:blipFill>
          <a:blip r:embed="rId4"/>
          <a:stretch/>
        </p:blipFill>
        <p:spPr>
          <a:xfrm>
            <a:off x="914400" y="4114800"/>
            <a:ext cx="1266840" cy="1474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Installation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1066680"/>
            <a:ext cx="4800600" cy="2743200"/>
          </a:xfrm>
          <a:prstGeom prst="wedgeRectCallout">
            <a:avLst>
              <a:gd name="adj1" fmla="val 58430"/>
              <a:gd name="adj2" fmla="val 75060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What you need to know.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ing networ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tup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password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E05739_" descr=""/>
          <p:cNvPicPr/>
          <p:nvPr/>
        </p:nvPicPr>
        <p:blipFill>
          <a:blip r:embed="rId2"/>
          <a:stretch/>
        </p:blipFill>
        <p:spPr>
          <a:xfrm>
            <a:off x="5029200" y="4267080"/>
            <a:ext cx="1800360" cy="15973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Basic Install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ert C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rt and Ru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pe X:\install (X is your CD drive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rial number i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E131NT001009E5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</a:rPr>
              <a:t>Overview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512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nkcard industry terminolog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nkcard Histor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thorization and Settlement Flow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is WebAuthorize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nsaction Typ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irst quiz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79" name="j0211697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2504880" cy="32097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620120" y="4648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iz ans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This is the credit left on ones car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is is another name for WebAuthoriz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serv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als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F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Setting up the Hub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2057400" y="1066680"/>
            <a:ext cx="5029200" cy="47246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696080" y="4952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he hub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15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828800" y="1509840"/>
            <a:ext cx="5486400" cy="38383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7848720" y="5105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You can do it at the hub.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rchant and Workstation setu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ettle/Close all open batche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topping transaction processi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iagnostic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more op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cond quiz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93" name="j0211697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2505240" cy="3209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7238880" y="5257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iz ans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Sto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Y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The WebCli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828800" y="1781280"/>
            <a:ext cx="5486400" cy="32954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7620120" y="4724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hat the client can do.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Logging on the WebClie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lient setup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unning WebClie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7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fferent transaction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0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the rest of the buttons do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porting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ttleme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port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inal quiz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04" name="j0211697" descr=""/>
          <p:cNvPicPr/>
          <p:nvPr/>
        </p:nvPicPr>
        <p:blipFill>
          <a:blip r:embed="rId2"/>
          <a:stretch/>
        </p:blipFill>
        <p:spPr>
          <a:xfrm>
            <a:off x="5943600" y="1676520"/>
            <a:ext cx="2505240" cy="32097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238880" y="5257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Bank Card Industr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iz ans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N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Y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Open the transaction that you want t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Void, and click on void butt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Y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WebAuthorize 101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RANSAC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tion between a cardholder and a merchant that results in activity on a cardholder accou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ARD PROCESSOR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Card Processing Network;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centralized computer center that processes data for Bankcard transact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cquiring Bank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23623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s Bank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ssuing Bank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23623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 Holders Bank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n to bu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23623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Left on the card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7T18:24:27Z</dcterms:created>
  <dc:creator>Wali Muhammad</dc:creator>
  <dc:description/>
  <dc:language>en-US</dc:language>
  <cp:lastModifiedBy>Wali Muhammad</cp:lastModifiedBy>
  <cp:lastPrinted>1998-11-09T15:21:49Z</cp:lastPrinted>
  <dcterms:modified xsi:type="dcterms:W3CDTF">2001-09-10T18:05:56Z</dcterms:modified>
  <cp:revision>27</cp:revision>
  <dc:subject/>
  <dc:title>ICVERIFY</dc:title>
</cp:coreProperties>
</file>